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D93F-A398-4D7C-B284-173DDA404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8499-0A29-4F21-B7FF-ADC5A0492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4BC7-2771-4662-987A-100DE3B35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40BF-9BD4-4225-9899-7862CD483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E91-D2F3-4EDD-96F7-13B8196C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5540-13B3-4905-ADBF-907B55B0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011-8A4F-46A8-8D88-794074EEF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1458-91D4-4507-B37D-9DA6D181D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B3AE-9FC2-48F4-91DA-0821644D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CB8AE-77C6-4B5A-A679-49F7B0B34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5C78-D60E-4416-AA60-6B6CEAF4E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E002-4AA7-4A9A-A4F5-D4172E1AF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5998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07240"/>
            <a:ext cx="282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D4C4-F5A3-4792-B0E9-1D488C90C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2A1D-4687-406B-8AF4-13D54A48F0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E40CD-99BA-4445-BAC1-B5662E1A7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8532-0006-4299-B82B-BFE0525F27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E8FF-BDC3-4890-A3BF-3D09008CE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4487-8D58-4D85-B253-0BD93A3EF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679A-E51E-4F68-931D-A898F3F56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072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57D0-8A6C-4DBC-9382-61E47E9BE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599840"/>
            <a:ext cx="427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763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F2B0-EC7B-485C-B569-80C72BB2C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2214-133D-4A12-98D4-F5BE4F036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564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71B0-9235-4B1F-BA48-443AADA5A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el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Costs and Benef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f Trai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-1.jpg"/>
          <p:cNvPicPr/>
          <p:nvPr/>
        </p:nvPicPr>
        <p:blipFill>
          <a:blip r:embed="rId1"/>
          <a:stretch/>
        </p:blipFill>
        <p:spPr>
          <a:xfrm>
            <a:off x="2666880" y="3429000"/>
            <a:ext cx="394200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858A-123D-4D71-8634-8C9BB2DE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Return on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vestment (ROI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omparison of the cost of a training program relative to its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is involves dividing the net benefit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urn on Investment =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Benefits-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C8D9-6DFD-42E4-ACF9-79FFBC313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ooter Placeholder 6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30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method to forecast the financial benefits that result from human resource programs such as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2-4.jpg"/>
          <p:cNvPicPr/>
          <p:nvPr/>
        </p:nvPicPr>
        <p:blipFill>
          <a:blip r:embed="rId1"/>
          <a:stretch/>
        </p:blipFill>
        <p:spPr>
          <a:xfrm>
            <a:off x="4495680" y="2133720"/>
            <a:ext cx="44481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90E5-DC8F-470A-BE81-0AC88796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factors to consider in calculating the utility of 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87880" indent="0">
              <a:spcBef>
                <a:spcPts val="349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ffectiveness (effec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ndard deviation of job performance in dollars of untrained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umber of employees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781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uration training benefits wi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9655-C943-4361-B9A5-F837C2A69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Utility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Utility of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8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l-GR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U = (T)(N)(d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)(SDy) – (N)(C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1"/>
          <p:cNvSpPr/>
          <p:nvPr/>
        </p:nvSpPr>
        <p:spPr>
          <a:xfrm>
            <a:off x="210960" y="3429000"/>
            <a:ext cx="90223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tility, or dollar value of th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years the training has a continued effe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people tr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effect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standard deviation of job performance in dollars of the untrained gr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cost of training each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4F7-6B54-4610-BA26-01322FBF0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Break-even Analysi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nding the value at which benefits equal costs and utility is equal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2133720" y="3855960"/>
            <a:ext cx="3189240" cy="10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Utility =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7" descr="12-5.jpg"/>
          <p:cNvPicPr/>
          <p:nvPr/>
        </p:nvPicPr>
        <p:blipFill>
          <a:blip r:embed="rId1"/>
          <a:stretch/>
        </p:blipFill>
        <p:spPr>
          <a:xfrm>
            <a:off x="5486400" y="2971800"/>
            <a:ext cx="2664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4B8-CA5F-44FD-AEC7-DFE593DD1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ing not an exact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and judgements have to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o ensure there is credibility in process of determining cost-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and clients must perceive benefits estimates as credible, believable, and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rs need to be wary of promising more than they can realistically deliver; manage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DFF-2338-486B-9EC8-F25C9A70F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Credibility of Estimat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asing credibility of benefit est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927600" indent="0">
              <a:spcBef>
                <a:spcPts val="349"/>
              </a:spcBef>
              <a:buNone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ke a conserv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credible and reliable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plain approaches and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must appear 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50800" indent="-7110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 har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090120" y="5148360"/>
            <a:ext cx="271836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s Notebook 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4823-7109-4DF9-9F01-C66C2AEBC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ee stages of the ISD model have now been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elements are identifying, developing, delivering, and evaluating training within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lure to manage any of the critical elements will have negative impacts on the training and the achievement of the training relate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16F2-C7CB-4731-B675-540D31854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 and approaches for calculating costs and benefits of training programs were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between cost-effectiveness, cost- benefit analysis  were discussed as were examples of the calculation of costs, benefits, net benefit, BCR and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this information for budgeting and comparing costs, and training evaluation wer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approach - Utility analysis -  was descri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ce of credibility when estimating the financial benefits of training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9A47-3FA9-4C55-8565-4C845899E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rainers should calculate the costs and benefits of training and development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t approaches for costing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difference between cost-effectiveness and cost-benefit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alculate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C0E4-7666-4E3B-A747-2C26FA0C2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conduct a net benefit analysis, benefit-cost ratio, and return on inve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utility analysis and describe how to calculate the utility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the importance of credibility when estimating the benefits of train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AF01-CAAD-4144-9625-906D9597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rocess of identifying all the expenditures used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critical element in the ISD model both in the design and evaluation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2-2.jpg"/>
          <p:cNvPicPr/>
          <p:nvPr/>
        </p:nvPicPr>
        <p:blipFill>
          <a:blip r:embed="rId1"/>
          <a:stretch/>
        </p:blipFill>
        <p:spPr>
          <a:xfrm>
            <a:off x="5138640" y="2362320"/>
            <a:ext cx="4005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17BD-A4A9-4856-B6C9-167DD88FC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sting Approach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ing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s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, program development, delivery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rding to nature or kind of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cost categories: direct costs, indirect costs, development costs, overhead costs, and trainee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5269-5C2E-4824-AF57-722694FB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mparing the Costs of 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able 12.4 demonstrates some important aspects of costing and comparing training program altern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ing sheets can be modified to meet an organization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vel of detail varies according to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choice regarding what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0660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dentifies the cheapest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E56C-5251-4839-B72C-D21B0FE9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effectiveness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monetary cost of training to the benefit of training in 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st-benefit evalu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A comparison of the cost of training in monetary terms to the benefits of training in non-monetary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56FF-8747-4B0F-B797-6E400746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et benefi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estimated value of the performance improvement minus the cost of improv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efit Cost Ratio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the benefit divided by the cost of the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583B-E6CD-4D89-AC00-B29B079D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2286000" y="624852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have cost effectiveness and want to determine cost benefit.  Will have to convert  measures to monetary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1:  Focus on a sing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2:  Determine a value for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3:  Calculate the change i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4:  Obtain an annual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ep 5:  Determine the annual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7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Trainer’s Notebook 12.1 for more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36:25Z</dcterms:modified>
  <cp:revision>376</cp:revision>
  <dc:subject/>
  <dc:title>Ch 12</dc:title>
</cp:coreProperties>
</file>