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1F2B-5F97-4B08-BDFD-3E40E6EB7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77D8-D361-4D17-881F-DC3471F58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7124-E555-48F8-823C-99978373C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5526-04A1-4149-815D-B94793CE6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4E66-A0FE-4266-A9E3-28E7B1094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C643-1755-4E5E-97A1-07406FF9C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CF1A7-3CAA-4C5F-869F-376FD62DE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A50E3-30D7-48F1-86B0-63664F422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F44BB-BD34-4D2D-B553-F2AA83C45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22FBB-F21B-4759-9628-C27C5030DB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466A-C99D-44B4-B49F-4A76711B51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EC26-3CC3-4CBD-B363-EEA1943B4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9A490-0976-404D-A40A-08720F0E3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EA08F-499D-498B-837A-575CE25E5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72DB9-1BE2-42D1-A50E-062F629AA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0FFBD-BC2A-4813-B436-CBF5A04A8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563AE-3F47-4549-B28B-75F30F1503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F7AA4-D394-4749-99E6-3169D1259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4A20-4D88-4270-AB02-636FF8954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14240" y="632412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9938-6A35-4222-862B-46A47AE18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Thirteen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Program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ogram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13-1.jpg"/>
          <p:cNvPicPr/>
          <p:nvPr/>
        </p:nvPicPr>
        <p:blipFill>
          <a:blip r:embed="rId1"/>
          <a:stretch/>
        </p:blipFill>
        <p:spPr>
          <a:xfrm>
            <a:off x="2209680" y="2666880"/>
            <a:ext cx="5149800" cy="34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562E-EBDA-4A80-998E-E7826CC56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Essential 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kill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 skills training is training that is designed to provide employees with essential skills required to perform their job, and adapt to workplac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 skills training becoming more important as competition in world economy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ccess of other training programs can be affected if essential skills not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 skills training has benefits for the organization and the 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6A03-A5BE-4F6C-9F8F-5E2E6E93A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ical Skill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in specific job skills that all employees need to perform their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13-3.jpg"/>
          <p:cNvPicPr/>
          <p:nvPr/>
        </p:nvPicPr>
        <p:blipFill>
          <a:blip r:embed="rId1"/>
          <a:stretch/>
        </p:blipFill>
        <p:spPr>
          <a:xfrm>
            <a:off x="228600" y="2743200"/>
            <a:ext cx="4213080" cy="280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13-4.jpg"/>
          <p:cNvPicPr/>
          <p:nvPr/>
        </p:nvPicPr>
        <p:blipFill>
          <a:blip r:embed="rId2"/>
          <a:stretch/>
        </p:blipFill>
        <p:spPr>
          <a:xfrm>
            <a:off x="4648320" y="2743200"/>
            <a:ext cx="426060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9F63-C3AF-42EB-97E3-EEEFA92CD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Technical Skills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rly in the manufacturing sectors, employers have had to respond to global competition, rapid change, and new technology  (environmental factors) with increased focus on technical skill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killed employees have had to become high skilled employees to ensure job security and organizational surv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the discussion of the impact of environmental factors on training in Ch 1 as illustrated in the Context of Training and Development dia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A47E-F081-4618-9B8C-2DE1D26B1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Information Technology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programs that focus on the use of computers and computer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mputer software trai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raining programs that focus on how to use a specific computer software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461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apidly changing technology and computer applications makes this a challenge to meet employee training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91C0-93D4-434D-82F0-35B622126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Health &amp; Safety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pproximately 900 workers die in Canada as a result of workplace acci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50 000 Canadian workers have a lost time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orkplace injuries estimated to cost $12 billion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13-6.jpg"/>
          <p:cNvPicPr/>
          <p:nvPr/>
        </p:nvPicPr>
        <p:blipFill>
          <a:blip r:embed="rId1"/>
          <a:stretch/>
        </p:blipFill>
        <p:spPr>
          <a:xfrm>
            <a:off x="6324480" y="1676520"/>
            <a:ext cx="264816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5DB5-DD25-4703-9212-235E00110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Health &amp; Safety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afety training is one of most important ways to deal with accidents before they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goal is to educate employees in safe work methods and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aining programs offered may also include first aid, CPR, defensive driving, and emergency preparedn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mployees should also be trained to recognize chemical and physic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67CF-F1DA-4E2B-BF39-C25DDFE79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Health &amp; Safety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6400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orkplace Hazardous Materials Information Systems (WHI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gislation to ensure workers          across Canada are aware of         potential hazards of chemicals       in the workplace, and are familiar with emergency procedures for    the clean-up and disposal of a sp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13-7.jpg"/>
          <p:cNvPicPr/>
          <p:nvPr/>
        </p:nvPicPr>
        <p:blipFill>
          <a:blip r:embed="rId1"/>
          <a:stretch/>
        </p:blipFill>
        <p:spPr>
          <a:xfrm>
            <a:off x="6227640" y="2666880"/>
            <a:ext cx="291636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4163-3C33-4AFE-85C3-1DC694AAE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Quality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otal quality management (TQ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ystematic process of continual improvement of the quality of an organization’s product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so includes a teamwork and customer service foc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558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QM often requires  significant changes in employees’ skills and the way employee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558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involves team training, the use of statistical tools, and problem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65B6-2BF1-44DC-B5D3-DCDFA087D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am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s that are designed to improve the functioning and effectiveness of teams in areas such as communication and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processes are usually the foc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training focuses on two types of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533160"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work ski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533160"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work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53316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work skills should be mastered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91B8-41B2-4199-8301-4733151A7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ale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oday, sales professionals need to develo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3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re strategic and complex relationships with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Knowledge and understanding of customer’s needs an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lutions to customers’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business partner men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ust have knowledge about their own products an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re than just “motivating” staff to s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BC2B-27AD-4276-A3DD-B8AC7BBC7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orientation training programs and essential skill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echnical skills training and information technology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WHMIS legislation and describe the type of information that should be included in health and safety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otal quality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3290-F913-49F5-8377-BE9C8FBDD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ustomer Service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41360" y="1617840"/>
            <a:ext cx="809316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rganizations with strong commitment to customer service invest heavily in trai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raining needs to be tailored to meet the organization’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ex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 well as its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ployees must have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abilit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o provide excellent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13-8.jpg"/>
          <p:cNvPicPr/>
          <p:nvPr/>
        </p:nvPicPr>
        <p:blipFill>
          <a:blip r:embed="rId1"/>
          <a:stretch/>
        </p:blipFill>
        <p:spPr>
          <a:xfrm>
            <a:off x="5486400" y="2819520"/>
            <a:ext cx="1825560" cy="21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2608-11E4-40E3-9E9A-C7886F00A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exual Harassment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xual harassment training is design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rease awareness and understanding of what constitutes sexual harass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o train staff on policies and complaint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acilitate a positive climate that prevents  sexual hara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ften mandatory in certain occupational fields or environments where history of harassment has been pre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E00E-008A-4BB4-A17A-5AB263C71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thic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thics training programs involve teaching employees about the organizations’ values and ethical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39672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ly with legal  mand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39672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ain liability prote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39672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ing an ethical culture and workplace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39672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tracting and retaining the right type of employe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785F-B76E-4D55-B150-54B38795A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thic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s of an effective ethics training progra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copy of organization’s code of et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of relevant compliance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thical decision mak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for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playing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C1BD-D2DC-48D3-A665-E042DCB05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Diversity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that focuses on differences in values, attitudes, and behaviours of individuals with different background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  It is design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rease awareness and understanding of cultural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o improve interaction and communication among employees with different backg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e of most widely used strategies for managing diversity in the work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4D2A-D021-4193-82F3-CDF56F43F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5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Diversity Training 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6019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ity Training 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517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rease awareness about diversi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517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duce biases and stereo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517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hange behaviours to those required to work effectively in a diverse work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13-9.jpg"/>
          <p:cNvPicPr/>
          <p:nvPr/>
        </p:nvPicPr>
        <p:blipFill>
          <a:blip r:embed="rId1"/>
          <a:stretch/>
        </p:blipFill>
        <p:spPr>
          <a:xfrm>
            <a:off x="6413400" y="1752480"/>
            <a:ext cx="273060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D386-584E-4CBB-8925-9C8F78E70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iversity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ity training should focus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ware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625C-12C8-4E88-99AB-F41C8A996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ross-cultural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that prepares employees for working and living in different cultures and for interactions with persons from different backg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rigour is a critical factor in the effectiveness of the various methods used in cross cultural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13-11.jpg"/>
          <p:cNvPicPr/>
          <p:nvPr/>
        </p:nvPicPr>
        <p:blipFill>
          <a:blip r:embed="rId1"/>
          <a:stretch/>
        </p:blipFill>
        <p:spPr>
          <a:xfrm>
            <a:off x="6291360" y="1447920"/>
            <a:ext cx="285264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00FA-8FA6-40AD-856B-E717CAB2B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ross-cultural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jor types of cross-cultural training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nvironment brief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ltural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ltural assimi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nguag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nsitivity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ield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0735-05CF-4BE7-9621-7361D6534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ross-cultural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raining Rig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The degree of mental involvement and effort that must be expended by the trainer and the trainee in order for the trainee to learn the required concept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967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Also refers to the length of time spent on train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09960" y="4800600"/>
            <a:ext cx="880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14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w Rig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dium Rig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igh Rig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14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pl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tr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14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ve language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06720" y="4267080"/>
            <a:ext cx="63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Different Levels of Rigou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0A99-60F8-4439-9F3D-C38B14E6A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team training and the main skills required of team me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sales training and the skills required to be effective in s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customer-service training and the skills that employees require to interact effectively with custo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sexual harassment and describe sexual harassment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ethics training, diversity training and cross-cultural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7B26-13A2-456A-9133-A674AD01D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ross-cultural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egree of rigour required depends on three dimen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tough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1604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fficult it is to adjust to a new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ough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1604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tent to which employee will have to interact with loc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tough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1604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fficult tasks/job will be compared to current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0567-B16E-4847-83CA-4F6BF18C2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ross-cultural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mendations for an effective cross-cultural trai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uld be considered manda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tion should be chosen based                                on needs of the fami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th of training is of utmost import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milies must be incorporated into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nguage training should be incorpor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 and expectations of training should be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rainer’s Notebook 1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840E-7A19-4307-8024-45EDFA68B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verview of the major types of training programs offered in today’s organizations was presen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objectives, components, and success factors for many of the training programs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nk between the need for these programs, environmental influences in the world economy, and organizations’ strategies was discus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74A9-242D-4846-8B59-4E4BCF77B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ide variety of training programs are delivered in or provided to organizations across Can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factors influence what training is delivered and specific goals of each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most programs have common or generic goals that are transferable across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organizational factors will also determ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wh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training is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 13.1 highlights the most common training programs in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0D69-B2A2-475B-A782-E8CF284E4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5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ypes of Training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34320" y="1752120"/>
            <a:ext cx="1828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p393.jpg"/>
          <p:cNvPicPr/>
          <p:nvPr/>
        </p:nvPicPr>
        <p:blipFill>
          <a:blip r:embed="rId1"/>
          <a:stretch/>
        </p:blipFill>
        <p:spPr>
          <a:xfrm>
            <a:off x="1828800" y="1639800"/>
            <a:ext cx="54864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2D92-62CA-406A-AD5F-F71DB4EA2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New Employee</a:t>
            </a:r>
            <a:br>
              <a:rPr sz="3600"/>
            </a:b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Orientation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s designed to introduce new employees to their job, the people they will be working with, and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nducted in-house by human resource practitio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orientation programs have a positive effect on new employee attitudes and adjustment, can shape corporate culture, increase speed-to-proficiency, and lower turno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CF34-E2B4-4808-A303-6705FB938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5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Essential 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kill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s that are required for work, learning, and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ne essential skills identified by Government of Can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l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with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13-2.jpg"/>
          <p:cNvPicPr/>
          <p:nvPr/>
        </p:nvPicPr>
        <p:blipFill>
          <a:blip r:embed="rId1"/>
          <a:stretch/>
        </p:blipFill>
        <p:spPr>
          <a:xfrm>
            <a:off x="914400" y="4191120"/>
            <a:ext cx="30812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F4FA-7917-4FF0-917E-4A5B8816B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Essential 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kill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the essential skills are known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teracy skill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understand and employ printed information in daily activities at home, at work, and in the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4DBC-6128-4384-9610-EDF2BB6FA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Essential 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kill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teracy Levels of Canad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2% of Canadians aged 16-65 in the lowest levels  and are semi-lit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7 million in the upper Level 2 and lower Level 3 (there are five lev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58% of Canadians can read well enough to meet most day-to-day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7:50:33Z</dcterms:modified>
  <cp:revision>410</cp:revision>
  <dc:subject/>
  <dc:title>Ch 13</dc:title>
</cp:coreProperties>
</file>