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0494-E2D8-41A9-AA26-5D801BBF2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C8D3-6907-4C0B-A216-FEDE6108A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2FF8-B726-48EB-8E8F-1E412E9D9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7519-FD49-4428-9DF6-9226C8E3B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FB7C-3FD6-40A2-BEE7-6F8E4EE52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A67A-B20B-406F-A15A-7B40A9F91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B853-6342-4F75-9A5A-A3EEF212C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CBA8-06A6-4353-B2B5-1763735B8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A30C-FD7E-40BB-861B-228449781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52D97-E5CF-4150-A488-7F8E8BB5EE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FBE9-9F29-413D-B398-8C6905ABE4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93B6-0EA0-41AD-B918-73D08C249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5040-65D6-4613-ABF5-D5B5FFE69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32C2-2378-4A2B-9915-B5FC82B84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89A0F-1C82-4DC9-8292-070410AE2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102A-2EEE-449A-8535-25CCE7C2D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F3FE-86B4-492B-88DA-A803962D6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336B-BE37-4A05-9C22-56DB2480A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7AAC-B0B8-45A8-9E03-076B3BE19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14240" y="632412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31F5-9699-4BFF-BB54-058C89DB5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Thirteen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Program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gram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3-1.jpg"/>
          <p:cNvPicPr/>
          <p:nvPr/>
        </p:nvPicPr>
        <p:blipFill>
          <a:blip r:embed="rId1"/>
          <a:stretch/>
        </p:blipFill>
        <p:spPr>
          <a:xfrm>
            <a:off x="2209680" y="2666880"/>
            <a:ext cx="514980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61F5-A05F-4B36-B99C-CBEC1D898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skills training is training that is designed to provide employees with essential skills required to perform their job, and adapt to workplac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skills training becoming more important as competition in world economy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ccess of other training programs can be affected if essential skills no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skills training has benefits for the organization and the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60C7-E634-49B0-94BE-D5007B4EC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ical 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in specific job skills that all employees need to perform their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13-3.jpg"/>
          <p:cNvPicPr/>
          <p:nvPr/>
        </p:nvPicPr>
        <p:blipFill>
          <a:blip r:embed="rId1"/>
          <a:stretch/>
        </p:blipFill>
        <p:spPr>
          <a:xfrm>
            <a:off x="228600" y="2743200"/>
            <a:ext cx="421308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13-4.jpg"/>
          <p:cNvPicPr/>
          <p:nvPr/>
        </p:nvPicPr>
        <p:blipFill>
          <a:blip r:embed="rId2"/>
          <a:stretch/>
        </p:blipFill>
        <p:spPr>
          <a:xfrm>
            <a:off x="4648320" y="2743200"/>
            <a:ext cx="42606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A1D5-94E9-4E12-965E-DE05158A8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Technical Skills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ly in the manufacturing sectors, employers have had to respond to global competition, rapid change, and new technology  (environmental factors) with increased focus on technical skill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killed employees have had to become high skilled employees to ensure job security and organizational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e discussion of the impact of environmental factors on training in Ch 1 as illustrated in the Context of Training and Development dia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5766-7987-49E4-9112-F12655312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Information Technolog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programs that focus on the use of computers and computer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mputer software trai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raining programs that focus on how to use a specific computer softwar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461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apidly changing technology and computer applications makes this a challenge to meet employee training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9407-5E64-4B32-B285-EBE972119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Health &amp; Safe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pproximately 900 workers die in Canada as a result of workplace ac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50 000 Canadian workers have a lost time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orkplace injuries estimated to cost $12 billion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13-6.jpg"/>
          <p:cNvPicPr/>
          <p:nvPr/>
        </p:nvPicPr>
        <p:blipFill>
          <a:blip r:embed="rId1"/>
          <a:stretch/>
        </p:blipFill>
        <p:spPr>
          <a:xfrm>
            <a:off x="6324480" y="1676520"/>
            <a:ext cx="264816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7AD7-EC45-42CC-8858-0F0E84AC4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Health &amp; Safety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afety training is one of most important ways to deal with accidents before they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goal is to educate employees in safe work methods and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ining programs offered may also include first aid, CPR, defensive driving, and emergency prepared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mployees should also be trained to recognize chemical and phys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9BA8-2D94-4577-BBBE-BA9FA7980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Health &amp; Safety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orkplace Hazardous Materials Information Systems (WHI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gislation to ensure workers          across Canada are aware of         potential hazards of chemicals       in the workplace, and are familiar with emergency procedures for    the clean-up and disposal of a sp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13-7.jpg"/>
          <p:cNvPicPr/>
          <p:nvPr/>
        </p:nvPicPr>
        <p:blipFill>
          <a:blip r:embed="rId1"/>
          <a:stretch/>
        </p:blipFill>
        <p:spPr>
          <a:xfrm>
            <a:off x="6227640" y="2666880"/>
            <a:ext cx="291636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A564-94EE-4FDA-9576-5E16246D2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Quali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otal quality management (TQ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stematic process of continual improvement of the quality of an organization’s produc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so includes a teamwork and customer service foc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558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QM often requires  significant changes in employees’ skills and the way employee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558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involves team training, the use of statistical tools, and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801A-5433-4A45-91BC-D944002EC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am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s that are designed to improve the functioning and effectiveness of teams in areas such as communication and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processes are usually the foc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training focuses on two types of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53316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work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53316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work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5331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work skills should be mastered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3533-127D-46B3-9C39-8793CB066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ale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oday, sales professionals need to devel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strategic and complex relationships with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nowledge and understanding of customer’s needs an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lutions to customers’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business partner men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ust have knowledge about their own products an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than just “motivating” staff to 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483E-8EFC-4DB1-BF16-7C146A2B4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orientation training programs and essential skill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echnical skills training and information technology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WHMIS legislation and describe the type of information that should be included in health and safety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otal quality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854C-7F8F-493F-B296-C9679623D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ustomer Service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41360" y="1617840"/>
            <a:ext cx="80931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rganizations with strong commitment to customer service invest heavily in 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raining needs to be tailored to meet the organization’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 well as its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ployees must have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abilit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o provide excellent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13-8.jpg"/>
          <p:cNvPicPr/>
          <p:nvPr/>
        </p:nvPicPr>
        <p:blipFill>
          <a:blip r:embed="rId1"/>
          <a:stretch/>
        </p:blipFill>
        <p:spPr>
          <a:xfrm>
            <a:off x="5486400" y="2819520"/>
            <a:ext cx="182556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62ED-49E3-405E-A6BE-86F5EF88C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exual Harassment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xual harassment training is design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awareness and understanding of what constitutes sexual hara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 train staff on policies and complaint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acilitate a positive climate that prevents  sexual hara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ften mandatory in certain occupational fields or environments where history of harassment has been pre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B29C-FC55-40BD-98AC-3EFA6617F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thic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ics training programs involve teaching employees about the organizations’ values and ethica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ly with legal  mand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ain liability prote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ing an ethical culture and workplac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tracting and retaining the right type of employe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0B62-45FF-4684-BA8E-C35FB4582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thic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 of an effective ethics training progr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copy of organization’s code of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relevant compliance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thical decision mak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for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playing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0619-B808-4448-A8C1-3C7638B45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Diversi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that focuses on differences in values, attitudes, and behaviours of individuals with different background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  It is design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awareness and understanding of cultur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 improve interaction and communication among employees with different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e of most widely used strategies for managing diversity in the work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46A1-02E8-4AA8-BC74-E32AFC9AE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Diversity Training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ty Training 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517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awareness about diversi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517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duce biases and stere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517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hange behaviours to those required to work effectively in a diverse work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13-9.jpg"/>
          <p:cNvPicPr/>
          <p:nvPr/>
        </p:nvPicPr>
        <p:blipFill>
          <a:blip r:embed="rId1"/>
          <a:stretch/>
        </p:blipFill>
        <p:spPr>
          <a:xfrm>
            <a:off x="6413400" y="1752480"/>
            <a:ext cx="273060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DE8B-A366-4D88-8238-025E06CCC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iversi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ty training should focu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war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CD6C-2CA4-42C0-8530-AFD84A054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that prepares employees for working and living in different cultures and for interactions with persons from different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rigour is a critical factor in the effectiveness of the various methods used in cross cultural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13-11.jpg"/>
          <p:cNvPicPr/>
          <p:nvPr/>
        </p:nvPicPr>
        <p:blipFill>
          <a:blip r:embed="rId1"/>
          <a:stretch/>
        </p:blipFill>
        <p:spPr>
          <a:xfrm>
            <a:off x="6291360" y="1447920"/>
            <a:ext cx="285264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386F-659B-4EAC-9305-0045F37F7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jor types of cross-cultural training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vironment brief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ltur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ltural assimi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nguag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nsitivity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el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9D8C-AC42-4C85-982A-B4CB5AF7B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raining Rig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The degree of mental involvement and effort that must be expended by the trainer and the trainee in order for the trainee to learn the required concep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967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Also refers to the length of time spent on trai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09960" y="4800600"/>
            <a:ext cx="880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14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 Rig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dium Rig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gh Rig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14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pl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tr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14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language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06720" y="4267080"/>
            <a:ext cx="63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Different Levels of Rigou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D05D-4537-4389-94F9-9C651D188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eam training and the main skills required of team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sales training and the skills required to be effective in s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customer-service training and the skills that employees require to interact effectively with custo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sexual harassment and describe sexual harassment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ethics training, diversity training and cross-cultural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9CF0-538F-4CC8-BC9F-B604B64C4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gree of rigour required depends on three dimen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toug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1604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fficult it is to adjust to a new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oug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1604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ent to which employee will have to interact with lo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toug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1604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fficult tasks/job will be compared to current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5476-978F-4A54-B88A-7978916F2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mendations for an effective cross-cultural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uld be considered manda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 should be chosen based                                on needs of the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th of training is of utmost impor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milies must be incorporated into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training should be incorpo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 and expectations of training should be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rainer’s Notebook 1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FA38-8EE1-49F6-BAC1-677B870CB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verview of the major types of training programs offered in today’s organizations was presen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objectives, components, and success factors for many of the training programs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nk between the need for these programs, environmental influences in the world economy, and organizations’ strategies was 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ADA5-DD5D-4290-BD01-296AE608B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de variety of training programs are delivered in or provided to organizations across Can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actors influence what training is delivered and specific goals of each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most programs have common or generic goals that are transferable across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organizational factors will also determ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wh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raining is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 13.1 highlights the most common training programs in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71E8-FE69-4EEF-AD42-388934456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ypes of Training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34320" y="1752120"/>
            <a:ext cx="1828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p393.jpg"/>
          <p:cNvPicPr/>
          <p:nvPr/>
        </p:nvPicPr>
        <p:blipFill>
          <a:blip r:embed="rId1"/>
          <a:stretch/>
        </p:blipFill>
        <p:spPr>
          <a:xfrm>
            <a:off x="1828800" y="1639800"/>
            <a:ext cx="54864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22F3-8EB2-4F65-8E08-1E0EDE43A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New Employee</a:t>
            </a:r>
            <a:br>
              <a:rPr sz="3600"/>
            </a:b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Orientation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s designed to introduce new employees to their job, the people they will be working with, and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nducted in-house by human resource practitio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orientation programs have a positive effect on new employee attitudes and adjustment, can shape corporate culture, increase speed-to-proficiency, and lower turn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5CD8-7D5A-4873-B789-1749A6B54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 that are required for work, learning, and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e essential skills identified by Government of Can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with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13-2.jpg"/>
          <p:cNvPicPr/>
          <p:nvPr/>
        </p:nvPicPr>
        <p:blipFill>
          <a:blip r:embed="rId1"/>
          <a:stretch/>
        </p:blipFill>
        <p:spPr>
          <a:xfrm>
            <a:off x="914400" y="4191120"/>
            <a:ext cx="30812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359B-657F-4CCE-8406-F3A7A0CDE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 essential skills are known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eracy skill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understand and employ printed information in daily activities at home, at work, and in th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F73C-E9D2-4385-B532-0E317D15D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teracy Levels of Cana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% of Canadians aged 16-65 in the lowest levels  and are semi-lit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7 million in the upper Level 2 and lower Level 3 (there are five lev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58% of Canadians can read well enough to meet most day-to-da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7:50:33Z</dcterms:modified>
  <cp:revision>410</cp:revision>
  <dc:subject/>
  <dc:title>Ch 13</dc:title>
</cp:coreProperties>
</file>