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14ED-9EFB-47D4-B0F5-E61BA9BBE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BFAE-0007-41A6-84C0-7A8FE6165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1DD4-AD5E-43B2-94D0-4BC2FB0CA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5318-9FBE-4313-BA5B-EE2C95973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E629-E4B6-4932-9A22-1F503FDF5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71C4-24CB-410D-A768-59A9B743B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AA92-F62C-4A7A-A37E-E83FBE820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0E0E1-81DE-451C-8926-43B08539A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05541-E3C3-477F-B690-E09D694B3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4B5A4-3D53-4311-8856-AB9390181D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3F88A-D5AC-4C92-A7E9-A8D6264E55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FF659-4D46-42F5-9046-8826E3BB2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E718-B2C1-438C-A170-5623DADBF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238D-C5F5-432B-95F5-74CA1A8904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C9643-ACB6-4B46-B937-88BD8E159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EBD2-943E-417E-9FDF-C522DEF50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E2EC3-9981-43A4-8764-29D0A933F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A7CD7-A34F-438D-A1E8-177BBDEC4A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634F-74D3-450A-BC3F-516099840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14240" y="632412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5973-9834-40D3-AF7E-37C49C42F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Thirteen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Program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rogram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3-1.jpg"/>
          <p:cNvPicPr/>
          <p:nvPr/>
        </p:nvPicPr>
        <p:blipFill>
          <a:blip r:embed="rId1"/>
          <a:stretch/>
        </p:blipFill>
        <p:spPr>
          <a:xfrm>
            <a:off x="2209680" y="2666880"/>
            <a:ext cx="5149800" cy="34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E7BB-7A9C-460A-8C1A-9472BE914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ssential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skills training is training that is designed to provide employees with essential skills required to perform their job, and adapt to workplac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skills training becoming more important as competition in world economy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ccess of other training programs can be affected if essential skills not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skills training has benefits for the organization and the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7359-21DC-4DAA-8651-88C806757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chnical 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in specific job skills that all employees need to perform their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13-3.jpg"/>
          <p:cNvPicPr/>
          <p:nvPr/>
        </p:nvPicPr>
        <p:blipFill>
          <a:blip r:embed="rId1"/>
          <a:stretch/>
        </p:blipFill>
        <p:spPr>
          <a:xfrm>
            <a:off x="228600" y="2743200"/>
            <a:ext cx="4213080" cy="2808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13-4.jpg"/>
          <p:cNvPicPr/>
          <p:nvPr/>
        </p:nvPicPr>
        <p:blipFill>
          <a:blip r:embed="rId2"/>
          <a:stretch/>
        </p:blipFill>
        <p:spPr>
          <a:xfrm>
            <a:off x="4648320" y="2743200"/>
            <a:ext cx="42606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CCA8-28D6-4E50-8597-30E23BD75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Technical Skills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ly in the manufacturing sectors, employers have had to respond to global competition, rapid change, and new technology  (environmental factors) with increased focus on technical skill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killed employees have had to become high skilled employees to ensure job security and organizational surv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e discussion of the impact of environmental factors on training in Ch 1 as illustrated in the Context of Training and Development dia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34A5-2B3C-40E8-B0C0-C7B9427CB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Information Technolog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programs that focus on the use of computers and computer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mputer software training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raining programs that focus on how to use a specific computer softwar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461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apidly changing technology and computer applications makes this a challenge to meet employee training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6452-5929-4629-8E56-38057E6EE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Health &amp; Safet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528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pproximately 900 workers die in Canada as a result of workplace acc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350 000 Canadian workers have a lost time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528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orkplace injuries estimated to cost $12 billion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13-6.jpg"/>
          <p:cNvPicPr/>
          <p:nvPr/>
        </p:nvPicPr>
        <p:blipFill>
          <a:blip r:embed="rId1"/>
          <a:stretch/>
        </p:blipFill>
        <p:spPr>
          <a:xfrm>
            <a:off x="6324480" y="1676520"/>
            <a:ext cx="264816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87A2-9E6C-4098-9311-ABF12D668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Health &amp; Safety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afety training is one of most important ways to deal with accidents before they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goal is to educate employees in safe work methods and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raining programs offered may also include first aid, CPR, defensive driving, and emergency prepared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mployees should also be trained to recognize chemical and phys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8C7E-FF3F-46A2-B44E-3AD592EFB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Health &amp; Safety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Workplace Hazardous Materials Information Systems (WHI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gislation to ensure workers          across Canada are aware of         potential hazards of chemicals       in the workplace, and are familiar with emergency procedures for    the clean-up and disposal of a sp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13-7.jpg"/>
          <p:cNvPicPr/>
          <p:nvPr/>
        </p:nvPicPr>
        <p:blipFill>
          <a:blip r:embed="rId1"/>
          <a:stretch/>
        </p:blipFill>
        <p:spPr>
          <a:xfrm>
            <a:off x="6227640" y="2666880"/>
            <a:ext cx="291636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4BCB-50F3-4E78-8991-5144A548A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Qualit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otal quality management (TQ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ystematic process of continual improvement of the quality of an organization’s product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so includes a teamwork and customer service foc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558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QM often requires  significant changes in employees’ skills and the way employee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-558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involves team training, the use of statistical tools, and 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7C08-54B7-41BC-8932-67DF98FCA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eam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s that are designed to improve the functioning and effectiveness of teams in areas such as communication and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processes are usually the foc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training focuses on two types of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53316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work ski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53316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work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53316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work skills should be mastered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A385-D88A-40F1-B7D6-B72E59536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ale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oday, sales professionals need to devel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3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re strategic and complex relationships with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nowledge and understanding of customer’s needs an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lutions to customers’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business partner men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ust have knowledge about their own products an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re than just “motivating” staff to s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66F5-DB7D-4F2A-93F0-5B7F7A2A3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orientation training programs and essential skill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echnical skills training and information technology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WHMIS legislation and describe the type of information that should be included in health and safety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otal quality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4E28-7FB1-4AE3-832A-1B71E8B8B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ustomer Service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41360" y="1617840"/>
            <a:ext cx="809316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rganizations with strong commitment to customer service invest heavily in tra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raining needs to be tailored to meet the organization’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ex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s well as its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ployees must have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abilit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o provide excellent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13-8.jpg"/>
          <p:cNvPicPr/>
          <p:nvPr/>
        </p:nvPicPr>
        <p:blipFill>
          <a:blip r:embed="rId1"/>
          <a:stretch/>
        </p:blipFill>
        <p:spPr>
          <a:xfrm>
            <a:off x="5486400" y="2819520"/>
            <a:ext cx="1825560" cy="21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09CC-EC97-4392-BE36-74D41F4A4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exual Harassment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xual harassment training is design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awareness and understanding of what constitutes sexual harass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o train staff on policies and complaint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acilitate a positive climate that prevents  sexual hara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ften mandatory in certain occupational fields or environments where history of harassment has been preval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D481-44FE-400D-A835-1AB6D8AD9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thic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thics training programs involve teaching employees about the organizations’ values and ethical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ly with legal  mand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ain liability prote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ing an ethical culture and workplace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tracting and retaining the right type of employe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EAC3-3954-4221-A39C-14D598759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thic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s of an effective ethics training progr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copy of organization’s code of et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f relevant compliance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thical decision mak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for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511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playing 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17D9-138D-4597-B122-DC944DE0E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Diversit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that focuses on differences in values, attitudes, and behaviours of individuals with different background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  It is design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awareness and understanding of cultural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o improve interaction and communication among employees with different backg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ne of most widely used strategies for managing diversity in the work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6B7B-8BF7-49CF-BE9B-C1DBE1CAE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Diversity Training 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019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ty Training 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517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rease awareness about diversi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517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duce biases and stere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517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hange behaviours to those required to work effectively in a diverse work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13-9.jpg"/>
          <p:cNvPicPr/>
          <p:nvPr/>
        </p:nvPicPr>
        <p:blipFill>
          <a:blip r:embed="rId1"/>
          <a:stretch/>
        </p:blipFill>
        <p:spPr>
          <a:xfrm>
            <a:off x="6413400" y="1752480"/>
            <a:ext cx="273060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E393-EDC8-45CC-84E1-D58325DE1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Diversity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ty training should focus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ware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74B7-6011-44AC-BE13-983B10103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raining that prepares employees for working and living in different cultures and for interactions with persons from different backg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rigour is a critical factor in the effectiveness of the various methods used in cross cultural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13-11.jpg"/>
          <p:cNvPicPr/>
          <p:nvPr/>
        </p:nvPicPr>
        <p:blipFill>
          <a:blip r:embed="rId1"/>
          <a:stretch/>
        </p:blipFill>
        <p:spPr>
          <a:xfrm>
            <a:off x="6291360" y="1447920"/>
            <a:ext cx="285264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A0C2-4830-4C98-ACB5-0EEFFF595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jor types of cross-cultural training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vironment brief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ltural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ltural assimi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nguag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nsitivity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ield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43EC-151C-4D0F-85EB-1BB7A79E6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Training Rig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The degree of mental involvement and effort that must be expended by the trainer and the trainee in order for the trainee to learn the required concep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967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Also refers to the length of time spent on trai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09960" y="4800600"/>
            <a:ext cx="880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114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 Rig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dium Rig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gh Rig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14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pl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tr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114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language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06720" y="4267080"/>
            <a:ext cx="63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Different Levels of Rigou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4239-63D7-407B-B591-650629E8F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team training and the main skills required of team me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sales training and the skills required to be effective in s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customer-service training and the skills that employees require to interact effectively with custo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sexual harassment and describe sexual harassment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ethics training, diversity training and cross-cultural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27AF-C23F-4EC9-85F9-EFC6A7D97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gree of rigour required depends on three dimen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toug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1604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fficult it is to adjust to a new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oug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1604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ent to which employee will have to interact with loc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toug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16040" indent="-533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fficult tasks/job will be compared to current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1101-D271-401F-B5BD-AA155BE9A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ross-cultural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mmendations for an effective cross-cultural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uld be considered manda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ion should be chosen based                                on needs of the fam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th of training is of utmost import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milies must be incorporated into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nguage training should be incorpor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 and expectations of training should be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rainer’s Notebook 1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83C5-8A99-45DD-BE1F-A755AF264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verview of the major types of training programs offered in today’s organizations was presen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objectives, components, and success factors for many of the training programs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nk between the need for these programs, environmental influences in the world economy, and organizations’ strategies was discus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F62A-87CF-4F8A-A034-05D323108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Progra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ide variety of training programs are delivered in or provided to organizations across Can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actors influence what training is delivered and specific goals of each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most programs have common or generic goals that are transferable across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organizational factors will also determ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wh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training is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 13.1 highlights the most common training programs in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3515-687C-4F88-AC71-70E5C6046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ypes of Training Program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34320" y="1752120"/>
            <a:ext cx="1828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p393.jpg"/>
          <p:cNvPicPr/>
          <p:nvPr/>
        </p:nvPicPr>
        <p:blipFill>
          <a:blip r:embed="rId1"/>
          <a:stretch/>
        </p:blipFill>
        <p:spPr>
          <a:xfrm>
            <a:off x="1828800" y="1639800"/>
            <a:ext cx="548640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E3BB-831A-41A5-AF39-F5A545EEB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New Employee</a:t>
            </a:r>
            <a:br>
              <a:rPr sz="3600"/>
            </a:b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Orientation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s designed to introduce new employees to their job, the people they will be working with, and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nducted in-house by human resource practitio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458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orientation programs have a positive effect on new employee attitudes and adjustment, can shape corporate culture, increase speed-to-proficiency, and lower turno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E898-1DDD-44DD-B178-AFC250342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5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ssential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s that are required for work, learning, and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e essential skills identified by Government of Can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with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13-2.jpg"/>
          <p:cNvPicPr/>
          <p:nvPr/>
        </p:nvPicPr>
        <p:blipFill>
          <a:blip r:embed="rId1"/>
          <a:stretch/>
        </p:blipFill>
        <p:spPr>
          <a:xfrm>
            <a:off x="914400" y="4191120"/>
            <a:ext cx="30812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BE43-198A-4713-881A-EABAE7BBB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ssential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f the essential skills are known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teracy skill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understand and employ printed information in daily activities at home, at work, and in th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966D-FBF3-4D78-85FC-D8A670542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ssential </a:t>
            </a:r>
            <a:br>
              <a:rPr sz="4000"/>
            </a:b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Skills Trai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teracy Levels of Canad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% of Canadians aged 16-65 in the lowest levels  and are semi-lit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7 million in the upper Level 2 and lower Level 3 (there are five lev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58% of Canadians can read well enough to meet most day-to-day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7:50:33Z</dcterms:modified>
  <cp:revision>410</cp:revision>
  <dc:subject/>
  <dc:title>Ch 13</dc:title>
</cp:coreProperties>
</file>