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006C-87F0-4713-9C45-378CDE93B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1C07-7F1D-4BF3-B05E-94F7AC1D6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4D37-D50B-480D-819B-7391DB6F3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F301-4735-418A-B703-C71654ED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A9E3-2754-412A-B49D-97E83AB47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4D68-D89B-4C1A-A4C4-5B33ABEEB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F300-0397-43D6-84E7-439EC3150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05F0-99D1-4B2E-9392-0D1395712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4E2A-7258-4C3A-A5A4-9376DB8E1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DF0E-90D5-41FA-A8F4-A6AE7CE24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0751-FFAA-46CD-9729-FE44E2AA5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AB3D-3F1D-4C1C-8418-8C104393B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16C2-0D8A-4EDF-BF2D-C51771644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AAD4-7231-40B4-AC8A-A4A5490E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DC4C-02B7-403C-839A-E9EE07E48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48E4-EDA1-4920-A639-3DB41C437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23B2-98E7-4F87-8B07-B8EE850E5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20DB-C19B-40F0-AA04-BE46A2E8E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6317-0307-416E-8464-D499ABF54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E3FE-CA07-4348-8DA0-FD6FF36FA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DBBA-ABC3-47DA-88CE-156E8EC52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D9E2-68DF-4756-839D-C562AF8D6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6865-412D-4791-B836-A6C80E19A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65EC-F923-4268-9EAA-753F89B75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D6EB-A496-44CA-B856-B357CBFC0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397F-0454-4B3C-9D0D-57963064A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3AD9-0C92-49B5-8140-33893062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1474-0C94-46B5-B3F8-A8A420F8F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ourt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14-1.jpg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DDA-CE16-4887-89AA-269499150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refers to the relationships that managers develop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can provide leadership to help to attain group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liaisons within and outside th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figure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765A-881A-48AB-B72D-0AB4CAE15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 Informa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onitor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seminate information to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a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B73-FEF1-4BF6-A8B8-2C5A3FE7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 Decis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ake decisions about people, goals, and the means to atta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is capacity they act as entrepreneur, resource allocator, negotiator and trouble-sh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4-6.jpg"/>
          <p:cNvPicPr/>
          <p:nvPr/>
        </p:nvPicPr>
        <p:blipFill>
          <a:blip r:embed="rId1"/>
          <a:stretch/>
        </p:blipFill>
        <p:spPr>
          <a:xfrm>
            <a:off x="5219640" y="1752480"/>
            <a:ext cx="3924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19F4-0D30-439D-A5CA-9EF01A789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Functions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-7.jpg"/>
          <p:cNvPicPr/>
          <p:nvPr/>
        </p:nvPicPr>
        <p:blipFill>
          <a:blip r:embed="rId1"/>
          <a:stretch/>
        </p:blipFill>
        <p:spPr>
          <a:xfrm>
            <a:off x="5029200" y="2362320"/>
            <a:ext cx="332892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06C0-1838-468A-95E6-5BB40202C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the activities of the organization and its members are monitored to ensure they contribute positively to the attainment of organization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systems that ensure that the efforts of individuals working on major tasks are efficiently and effectively coordinated and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0687-5CB5-4A88-BE7E-D534E198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ng the direction towards which the efforts of individuals are to be direc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luencing the actions of others such that these actions are coordinated to produce the desired outco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ng as a role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piring a shared v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llenging the status quo and                                encouraging others to do 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ing contrib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6A48-97C0-455D-913C-82A60169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Management Skill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set of actions that individuals perform and that lead to certain outc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bal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time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86000" y="5637240"/>
            <a:ext cx="172764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abl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14-8.jpg"/>
          <p:cNvPicPr/>
          <p:nvPr/>
        </p:nvPicPr>
        <p:blipFill>
          <a:blip r:embed="rId1"/>
          <a:stretch/>
        </p:blipFill>
        <p:spPr>
          <a:xfrm>
            <a:off x="5513400" y="1600200"/>
            <a:ext cx="3630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70C9-DB17-4B6D-9EA6-4E0EAB0A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motional Intelligen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bility to manage your own and others’ emotions and your relationship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ive set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or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F44B-437F-4732-9CBB-51191D3C0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management development programs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kil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pplication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14-9.jpg"/>
          <p:cNvPicPr/>
          <p:nvPr/>
        </p:nvPicPr>
        <p:blipFill>
          <a:blip r:embed="rId1"/>
          <a:stretch/>
        </p:blipFill>
        <p:spPr>
          <a:xfrm>
            <a:off x="594360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667-7DD3-4342-ADB5-48AACA815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rengths and weaknesses of managers relative to the specific skills to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s to training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managers’ learning and behavioural sty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CEFF-21BB-4D33-9DA2-DF2940905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anagement and management development and explain how it is different from employe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in, roles, functions, and critical skills of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motional intelligence and its relevance f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odels of management skil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 of error-management training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tent of management skills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7B0-4629-42FB-B7AE-C7CCD6F6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cquisition (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being taught specific procedures or steps, managers learn how to recognize the need for the skill in a diverse number of circumst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involves group discussion of opportunities, obstacles, and strategies pertaining to skill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learning principles, not specific approa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71288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ive is to promote procedur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070C-E0DF-4BF8-A2E8-E9E61E572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rves three fundamental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s learning and shifts learning from the declarative to the procedural learn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trainees’ interest, attention and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6DAB-4D2B-4274-8CC7-875E8D73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pplication on the Job (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raining managers                              establish specific plans for the                   applic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s, coaching and                      reinforcement are frequently                      required to ensur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4-10.jpg"/>
          <p:cNvPicPr/>
          <p:nvPr/>
        </p:nvPicPr>
        <p:blipFill>
          <a:blip r:embed="rId1"/>
          <a:stretch/>
        </p:blipFill>
        <p:spPr>
          <a:xfrm>
            <a:off x="6324480" y="228600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97F-A594-452F-A347-5BEA4BFC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 Training for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has been found to be more effective when trainee has to generalize learning to new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jobs that require-problem solving skills, where reproduction of learned behaviour is not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jobs require constant adaptation to an ever-changing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be able to use new skills flexibly in a variety of contexts (adaptive expert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more effective in producing adaptive expertise and therefore advisable to consider for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1B05-5877-4DA1-BC89-2F5DBE7E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Content of Management Development Program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skills can be organized in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problem solving and decision making, planning, and performanc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using Excel, PowerPoint, knowing tax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mmunication, managing conflict and st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4DD7-41F5-47F7-A91E-CE399CD8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training methods tend to rely on highly informational and highly experi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and focused on the principles and applications of the skill or techniques being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, readings, informative videos, and grou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s that include skill practice exercises that actively engage and involve the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s, active exercises,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procedural knowledge &amp; boosts self-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A929-74FA-44D9-A2FD-929EF057E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and experiential components are present in mos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the two is not always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school DVD is mostly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door education is mostly experi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general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8E3-C66C-466B-83CC-62CEE0E4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quisition of a broad range of managerial knowledge and general conceptu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conducted by colleges and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B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case studies key 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0018-3BB3-40D4-857B-E07E9A8C1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activities designed to                              develop specific manager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lassroom based and Outdoor wilderness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teamwork and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provide individuals with managerial learning experiences on-the-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43E6-5968-48BD-8522-46EECC39D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coaching characteristic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listeners, empathy, interest in helping                           people achieve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“feel” the mood of learner,                                            know when to listen and when to challenge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learner use his/her previous knowledge and experience to develop his /her own perspective, understanding, and styles in dealing with the 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373-F5F8-42A2-8A7C-6291350C7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type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utdoor wilderness training programs and their effectiveness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job rotation and coaching and discuss the characteristics of great coaches, the five conditions that are necessary to ensure the development of managers, and the challenges of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search on the effectivenes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63AC-16EE-4098-A1CE-BF6B44D89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maximally helpful when they structure their efforts to help managers devel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heir ow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and caring about changing the ways in which they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resources/best practices for dealing with complex decisions and situations and by exploring alternative ways of dealing with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F5F4-3F6E-4E96-A1BF-17380D405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worl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 to implement, on a day-to-day basis, the little changes that should be made and to develop the critical perspective needed to assess what works, what does not,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the manager to demonstrate the new skills and knowledge through commitment to 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33D8-06DB-487B-A7FC-142EBBA9C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ese objectives, coaches face a number of challen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 must act to gain trust of “coache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confidentiality, discretion,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developing trust it becomes easier for coach to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pplying new skills is fraught with obstacles and hurdles that can discourage the use of new skills, a coach needs to be attentive to these situations and help managerial 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elf-effi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e obstacles as “problems” rather than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mo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6CB8-21C2-4754-AB8C-FE31395B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47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es who are in a position to do so sometimes intervene elsewhere in the organization to remov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aches in better position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have shown that coaching is generally perceived as an effective tool for management development albeit these findings are drawn more from self-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E2AD-159D-4710-9BE8-B7EB84BEC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ffectiveness of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studies as well as more formal meta-analysis indicate varying levels of effectiveness for management development program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 results show that management development programs do contribute to organizational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/3 of Canadian organizations have systematic coaching and mentoring programs and consider them effective 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search studies will continue to explore the question of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4B6E-87F8-433B-8798-4A5C384B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s, functions, and critical skills of manager and how they are developed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nagement skills that management development programs are designed to teach w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of management development (assessment, acquisition, practice, and application)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and most common delivery methods of management development programs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such as outdoor education, job-rotation and coach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BA8A-F8D6-487B-8B38-C4E067CFF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etting things done, efficiently and effectively, through and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-2.jpg"/>
          <p:cNvPicPr/>
          <p:nvPr/>
        </p:nvPicPr>
        <p:blipFill>
          <a:blip r:embed="rId1"/>
          <a:stretch/>
        </p:blipFill>
        <p:spPr>
          <a:xfrm>
            <a:off x="3886200" y="2819520"/>
            <a:ext cx="47498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1944-2A43-4B0E-9DD0-893267B88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133720" y="1676520"/>
            <a:ext cx="5257800" cy="4251240"/>
          </a:xfrm>
          <a:prstGeom prst="rect">
            <a:avLst/>
          </a:prstGeom>
          <a:solidFill>
            <a:srgbClr val="b2b2b2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743200" y="2286000"/>
            <a:ext cx="3949560" cy="3048120"/>
          </a:xfrm>
          <a:prstGeom prst="rect">
            <a:avLst/>
          </a:prstGeom>
          <a:solidFill>
            <a:srgbClr val="c0c0c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76720" y="2819520"/>
            <a:ext cx="2819160" cy="2057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3920" y="3352680"/>
            <a:ext cx="19047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33720" y="1676520"/>
            <a:ext cx="1600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5638320" y="1676520"/>
            <a:ext cx="17528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919680" y="27417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700960" y="3227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339000" y="323856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61600" y="4456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177080" y="2376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820960" y="2889360"/>
            <a:ext cx="320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288480" y="2754360"/>
            <a:ext cx="345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741840" y="1636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853320" y="2325600"/>
            <a:ext cx="3711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2262240" y="2535120"/>
            <a:ext cx="333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4039920" y="54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5638680" y="4419720"/>
            <a:ext cx="17528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2133720" y="441936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144000" y="5599080"/>
            <a:ext cx="18039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igur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44D1-0CAA-40E2-804A-7A4E4577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vs. Employee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work mainly throug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design techniques tend to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ial personalities must be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ment development is a longitudi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ique strategic significance of developing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954B-8233-4B95-A6AB-9052E2D22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What is Management Development?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process by which individuals learn to perform effectively in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nagement Developmen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 capita training expenditures are greater for managers than any other categor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porate expenditures on management development are estimated at $45 billion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r’s ro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al rol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E1D3-6804-4861-B47D-EBD4B8CB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 and Leadership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qualities and behaviours required to shape the direction of the organization and that inspire others to pursue that direction in the face of obstacle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4-3.jpg"/>
          <p:cNvPicPr/>
          <p:nvPr/>
        </p:nvPicPr>
        <p:blipFill>
          <a:blip r:embed="rId1"/>
          <a:stretch/>
        </p:blipFill>
        <p:spPr>
          <a:xfrm>
            <a:off x="5257800" y="1676520"/>
            <a:ext cx="2751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E908-F2D0-4846-B39D-FDAF0738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roles of manag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cis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14-4.jpg"/>
          <p:cNvPicPr/>
          <p:nvPr/>
        </p:nvPicPr>
        <p:blipFill>
          <a:blip r:embed="rId1"/>
          <a:stretch/>
        </p:blipFill>
        <p:spPr>
          <a:xfrm>
            <a:off x="4648320" y="2590920"/>
            <a:ext cx="3994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08:08Z</dcterms:modified>
  <cp:revision>355</cp:revision>
  <dc:subject/>
  <dc:title>Ch 14</dc:title>
</cp:coreProperties>
</file>