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1BE0-1747-49C0-86D6-B96DE5E20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78EF-9EE9-42E3-8282-2CED232F2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7801-5047-4A98-A0F6-EBEF5F4A0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D3DA-D8E8-4A54-AE7F-693DACE89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14C9-9734-4082-98C3-F925B2223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5AD0-C98D-4907-A66A-DD610ECFD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7A06-BA5A-40EE-A909-C1AB438E5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76C9-2585-42AF-97F2-1A9A4FAB0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59DF-58D4-4E0E-B947-0F0181DF4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9056-B882-43AD-B07B-EFE0C45F2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97E7-8B40-464C-8F29-48594B8AB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3F54-7000-4B6F-B2F0-D48481D3F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B323-3B26-474E-8601-04417AAE7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5593-9AA4-420D-920A-D2BC05097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2511-F9D2-4A5F-9D9E-8D49C0923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CD1F-D850-46E7-B60A-9C9C6C7C0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B724-E16A-4422-8225-41A4129F4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6107-3167-4F31-8A1E-C3179733E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9D81-6022-4DEE-A080-3A68295EF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C93F-4DE0-47CE-9BF8-CC5F17133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13B4-E798-43E8-8569-7CDF27EB5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5465-81C0-4193-80A1-A0798C1CC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B4BD-C44A-4C14-8118-1AA6BD7F6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B6E8-644F-4E2C-8D10-B3B8B5F43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09BCC-C64A-4FE1-811F-C2E4A755C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6F64-585A-4D88-821B-E74BBB084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7173-61E7-40DF-AB48-D041C1A07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E435-5A3A-4EC3-8107-A9D8C6BC3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ourt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14-1.jpg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DCD-9F23-4D24-838C-C8E17617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refers to the relationships that managers develop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can provide leadership to help to attain group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liaisons within and outside th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figureh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11B8-280E-4448-917F-30A16B91B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. Informa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onitor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seminate information to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a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6583-7D8A-4C7C-849D-AE6F3F576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. Decis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ake decisions about people, goals, and the means to atta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is capacity they act as entrepreneur, resource allocator, negotiator and trouble-sho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4-6.jpg"/>
          <p:cNvPicPr/>
          <p:nvPr/>
        </p:nvPicPr>
        <p:blipFill>
          <a:blip r:embed="rId1"/>
          <a:stretch/>
        </p:blipFill>
        <p:spPr>
          <a:xfrm>
            <a:off x="5219640" y="1752480"/>
            <a:ext cx="3924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0D04-D0A7-43B7-B330-7C90F7EC0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Functions of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4-7.jpg"/>
          <p:cNvPicPr/>
          <p:nvPr/>
        </p:nvPicPr>
        <p:blipFill>
          <a:blip r:embed="rId1"/>
          <a:stretch/>
        </p:blipFill>
        <p:spPr>
          <a:xfrm>
            <a:off x="5029200" y="2362320"/>
            <a:ext cx="332892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20C7-3A9F-488B-B358-6828186CE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the activities of the organization and its members are monitored to ensure they contribute positively to the attainment of organization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systems that ensure that the efforts of individuals working on major tasks are efficiently and effectively coordinated and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A45A-862E-49CE-8644-0CBE2D858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ng the direction towards which the efforts of individuals are to be direc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luencing the actions of others such that these actions are coordinated to produce the desired outco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ng as a role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piring a shared v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llenging the status quo and                                encouraging others to do 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gnizing contrib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7E36-E3F7-4873-97CD-2F9972818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Management Skill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set of actions that individuals perform and that lead to certain outcom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bal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time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le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m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086000" y="5637240"/>
            <a:ext cx="1727640" cy="368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abl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14-8.jpg"/>
          <p:cNvPicPr/>
          <p:nvPr/>
        </p:nvPicPr>
        <p:blipFill>
          <a:blip r:embed="rId1"/>
          <a:stretch/>
        </p:blipFill>
        <p:spPr>
          <a:xfrm>
            <a:off x="5513400" y="1600200"/>
            <a:ext cx="36306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D43D-97FC-4438-A6CE-79E0BE106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motional Intelligen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bility to manage your own and others’ emotions and your relationship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ive set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or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A208-7D2F-4407-B120-524A50494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management development programs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kill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pplication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14-9.jpg"/>
          <p:cNvPicPr/>
          <p:nvPr/>
        </p:nvPicPr>
        <p:blipFill>
          <a:blip r:embed="rId1"/>
          <a:stretch/>
        </p:blipFill>
        <p:spPr>
          <a:xfrm>
            <a:off x="5943600" y="2209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77E9-EBF8-437A-9F2C-776117E1F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trengths and weaknesses of managers relative to the specific skills to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s to training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managers’ learning and behavioural sty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1587-949E-4262-A291-F278DAE3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anagement and management development and explain how it is different from employe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in, roles, functions, and critical skills of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emotional intelligence and its relevance f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odels of management skil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 of error-management training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tent of management skills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D779-0AC3-4906-8117-531BA203D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cquisition (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being taught specific procedures or steps, managers learn how to recognize the need for the skill in a diverse number of circumsta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involves group discussion of opportunities, obstacles, and strategies pertaining to skill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learning principles, not specific approa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71288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ive is to promote procedur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4FEA-67ED-4F95-8719-E7DC98440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rves three fundamental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s learning and shifts learning from the declarative to the procedural learning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trainees’ interest, attention and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7375-5CC8-4FCD-B90A-15999BBE4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pplication on the Job (Trans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raining managers                              establish specific plans for the                   application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s, coaching and                      reinforcement are frequently                      required to ensur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4-10.jpg"/>
          <p:cNvPicPr/>
          <p:nvPr/>
        </p:nvPicPr>
        <p:blipFill>
          <a:blip r:embed="rId1"/>
          <a:stretch/>
        </p:blipFill>
        <p:spPr>
          <a:xfrm>
            <a:off x="6324480" y="228600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0558-B69E-46C7-8EC9-14F9E6DFC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 Training for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has been found to be more effective when trainee has to generalize learning to new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for jobs that require-problem solving skills, where reproduction of learned behaviour is not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jobs require constant adaptation to an ever-changing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be able to use new skills flexibly in a variety of contexts (adaptive expert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more effective in producing adaptive expertise and therefore advisable to consider for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2DB6-7F0B-4A4E-BD48-6A296AA4D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Content of Management Development Program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skills can be organized in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problem solving and decision making, planning, and performanc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using Excel, PowerPoint, knowing tax la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communication, managing conflict and st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1B75-E17A-4297-8A16-7AC74C1A7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training methods tend to rely on highly informational and highly experienti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and focused on the principles and applications of the skill or techniques being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, readings, informative videos, and group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s that include skill practice exercises that actively engage and involve the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lays, active exercises,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procedural knowledge &amp; boosts self-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3210-0FD3-4D7A-BEDF-A64ACF808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 and experiential components are present in mos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the two is not always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school DVD is mostly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door education is mostly experi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general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DA28-15F0-42A2-A9C6-82B70896B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quisition of a broad range of managerial knowledge and general conceptual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conducted by colleges and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BA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nd case studies key 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1BD6-799F-42A4-9BA5-6B56DC956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nd activities designed to                              develop specific manager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lassroom based and Outdoor wilderness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teamwork and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designed to provide individuals with managerial learning experiences on-the-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Job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E12E-B8E3-4A0F-9F8B-2315E1EBD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coaching characteristic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listeners, empathy, interest in helping                           people achieve thei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“feel” the mood of learner,                                            know when to listen and when to challenge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learner use his/her previous knowledge and experience to develop his /her own perspective, understanding, and styles in dealing with the 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ACF7-203E-41E2-9729-E0B81DA47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t type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utdoor wilderness training programs and their effectiveness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job rotation and coaching and discuss the characteristics of great coaches, the five conditions that are necessary to ensure the development of managers, and the challenges of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esearch on the effectivenes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8F52-38AD-4E49-AD08-9C1758757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es are maximally helpful when they structure their efforts to help managers devel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heir own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and caring about changing the ways in which they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resources/best practices for dealing with complex decisions and situations and by exploring alternative ways of dealing with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64A9-1EC7-48CB-B89A-886F502D4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worl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opportunities to implement, on a day-to-day basis, the little changes that should be made and to develop the critical perspective needed to assess what works, what does not,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ing the manager to demonstrate the new skills and knowledge through commitment to specific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D799-2947-4CCE-BCCF-03D865635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these objectives, coaches face a number of challen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 must act to gain trust of “coache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confidentiality, discretion, 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developing trust it becomes easier for coach to provid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pplying new skills is fraught with obstacles and hurdles that can discourage the use of new skills, a coach needs to be attentive to these situations and help managerial pers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elf-effic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e obstacles as “problems” rather than fail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mo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4919-30F1-4B52-8001-7F0886E39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47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es who are in a position to do so sometimes intervene elsewhere in the organization to remov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aches in better position to do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s have shown that coaching is generally perceived as an effective tool for management development albeit these findings are drawn more from self-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883-1EED-4800-9253-8B3F168CB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ffectiveness of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studies as well as more formal meta-analysis indicate varying levels of effectiveness for management development programs an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 results show that management development programs do contribute to organizational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/3 of Canadian organizations have systematic coaching and mentoring programs and consider them effective 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research studies will continue to explore the question of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5A46-C050-49CD-9D4A-350013024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s, functions, and critical skills of manager and how they are developed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nagement skills that management development programs are designed to teach was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of management development (assessment, acquisition, practice, and application)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and most common delivery methods of management development programs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such as outdoor education, job-rotation and coach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9C22-5AE9-411C-A663-178F43C37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getting things done, efficiently and effectively, through and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4-2.jpg"/>
          <p:cNvPicPr/>
          <p:nvPr/>
        </p:nvPicPr>
        <p:blipFill>
          <a:blip r:embed="rId1"/>
          <a:stretch/>
        </p:blipFill>
        <p:spPr>
          <a:xfrm>
            <a:off x="3886200" y="2819520"/>
            <a:ext cx="474984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3F09-CE07-4B51-8AE1-7485339A8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133720" y="1676520"/>
            <a:ext cx="5257800" cy="4251240"/>
          </a:xfrm>
          <a:prstGeom prst="rect">
            <a:avLst/>
          </a:prstGeom>
          <a:solidFill>
            <a:srgbClr val="b2b2b2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743200" y="2286000"/>
            <a:ext cx="3949560" cy="3048120"/>
          </a:xfrm>
          <a:prstGeom prst="rect">
            <a:avLst/>
          </a:prstGeom>
          <a:solidFill>
            <a:srgbClr val="c0c0c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76720" y="2819520"/>
            <a:ext cx="2819160" cy="20574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3920" y="3352680"/>
            <a:ext cx="190476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33720" y="1676520"/>
            <a:ext cx="16002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 flipH="1">
            <a:off x="5638320" y="1676520"/>
            <a:ext cx="17528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919680" y="27417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700960" y="32274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339000" y="323856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4161600" y="4456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177080" y="2376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820960" y="2889360"/>
            <a:ext cx="320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288480" y="2754360"/>
            <a:ext cx="34524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741840" y="1636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853320" y="2325600"/>
            <a:ext cx="3711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2262240" y="2535120"/>
            <a:ext cx="333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4039920" y="5408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5638680" y="4419720"/>
            <a:ext cx="17528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2133720" y="4419360"/>
            <a:ext cx="1600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144000" y="5599080"/>
            <a:ext cx="18039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igur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1101-2FA6-492D-8E5A-8BE30D5F7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vs. Employee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work mainly throug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design techniques tend to b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ial personalities must be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ment development is a longitudi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ique strategic significance of developing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CE8A-EA6D-440C-BF55-FA7D539D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What is Management Development?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process by which individuals learn to perform effectively in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Management Developmen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 capita training expenditures are greater for managers than any other category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porate expenditures on management development are estimated at $45 billion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ager’s rol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al rol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0A66-BC52-4CC3-B3C4-9DDE04C7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 and Leadership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qualities and behaviours required to shape the direction of the organization and that inspire others to pursue that direction in the face of obstacles an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4-3.jpg"/>
          <p:cNvPicPr/>
          <p:nvPr/>
        </p:nvPicPr>
        <p:blipFill>
          <a:blip r:embed="rId1"/>
          <a:stretch/>
        </p:blipFill>
        <p:spPr>
          <a:xfrm>
            <a:off x="5257800" y="1676520"/>
            <a:ext cx="2751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4812-9C2B-40F1-8C1A-F17A36C35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roles of manag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cis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14-4.jpg"/>
          <p:cNvPicPr/>
          <p:nvPr/>
        </p:nvPicPr>
        <p:blipFill>
          <a:blip r:embed="rId1"/>
          <a:stretch/>
        </p:blipFill>
        <p:spPr>
          <a:xfrm>
            <a:off x="4648320" y="2590920"/>
            <a:ext cx="3994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08:08Z</dcterms:modified>
  <cp:revision>355</cp:revision>
  <dc:subject/>
  <dc:title>Ch 14</dc:title>
</cp:coreProperties>
</file>