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notesSlide3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323C4-761E-4F82-B089-D81A7844E0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C4544-FD85-4789-9D2B-FD36AF8615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A3C10-A259-4AC1-854C-E52C9DFEB4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3A8C3-9E5C-480C-8939-7EC3492E16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35F93-B640-4666-96E2-37B86D4EF6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2CF9A-206E-441F-BBF7-553F455CD3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C1001-9524-4256-9098-01A17FA979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83A0B-FA96-493D-A560-EA7B62DF99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B98CB-B0BF-4405-ABF8-A74955F23A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50563-73E6-40FE-B23B-3142E86833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293A1-BB82-4CEE-A218-5BC96F7E1C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0A9BA-BAC5-4C90-BC1D-9A4861B4A8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15362-6E4D-46D2-A735-6A6F33BFD0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7A621-12BC-4128-BC5F-9FE28AEF61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461A85-CCFB-46A9-88B7-190F0DC4ED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240" y="4107240"/>
            <a:ext cx="8915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67693C-A507-4335-A69F-3D9124A48C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96640" y="15998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240" y="41072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96640" y="41072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465D77-EAB0-499F-9886-F96D0F8CF0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287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42880" y="1599840"/>
            <a:ext cx="287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57520" y="1599840"/>
            <a:ext cx="287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240" y="4107240"/>
            <a:ext cx="287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42880" y="4107240"/>
            <a:ext cx="287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57520" y="4107240"/>
            <a:ext cx="287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29AA1A-6FB4-4F83-9B45-E4D494262C9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BBC8A4-7AC0-4357-B7B2-6E15427D6C4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882100-4823-4966-BEBF-707E0862AF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350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96640" y="1599840"/>
            <a:ext cx="4350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BF0573-8F2B-4E46-8847-4E870AB4F3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024BC5-84B7-4FAB-8FBD-D931C2539B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124080" y="-360"/>
            <a:ext cx="6019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7D797D-A7F2-4DDC-B3F4-FC98AEA1C1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96640" y="1599840"/>
            <a:ext cx="4350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240" y="41072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D669AF-C176-4FDB-9186-228A520338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350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6640" y="15998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96640" y="41072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4FA3E7-10CE-40E4-B451-35DE304FB6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6640" y="15998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240" y="4107240"/>
            <a:ext cx="8915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1755F0-EE6A-4AE7-8AB2-3F0DA4F30A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2514240" y="6324120"/>
            <a:ext cx="47242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13AC9-023E-4F79-A531-ED9978E165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Footer Placeholder 3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6C162-CB39-41A3-B319-E4D5716DFD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1143000" y="1600200"/>
            <a:ext cx="64771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60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6000" spc="-1" strike="noStrike">
                <a:solidFill>
                  <a:srgbClr val="000000"/>
                </a:solidFill>
                <a:latin typeface="Arial"/>
              </a:rPr>
              <a:t>Developmen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5"/>
          <p:cNvSpPr/>
          <p:nvPr/>
        </p:nvSpPr>
        <p:spPr>
          <a:xfrm>
            <a:off x="13716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Chapter Fourte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6" descr="14-1.jpg"/>
          <p:cNvPicPr/>
          <p:nvPr/>
        </p:nvPicPr>
        <p:blipFill>
          <a:blip r:embed="rId1"/>
          <a:stretch/>
        </p:blipFill>
        <p:spPr>
          <a:xfrm>
            <a:off x="2362320" y="3733920"/>
            <a:ext cx="3962160" cy="24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Footer Placeholder 3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B7678-0A61-446D-804C-0191190C7E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ccffcc"/>
                </a:solidFill>
                <a:latin typeface="Arial"/>
              </a:rPr>
              <a:t>Core Managerial Roles 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Interpersonal Role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: refers to the relationships that managers develop with other peo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1139760" indent="-4921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anagers can provide leadership to help to attain group go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39760" indent="-4921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Are liaisons within and outside the un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39760" indent="-4921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Act as figurehea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3976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Footer Placeholder 4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Slide Number Placeholder 5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373E8-3A41-4C44-BCD7-21DACFF08D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ccffcc"/>
                </a:solidFill>
                <a:latin typeface="Arial"/>
              </a:rPr>
              <a:t>Core Managerial Role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B. Informational Ro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9996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anagers must monitor the enviro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9996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Disseminate information to othe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9996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Act as a spokesper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Footer Placeholder 3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71165-B1DD-46D8-B745-07D3F21CC7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ccffcc"/>
                </a:solidFill>
                <a:latin typeface="Arial"/>
              </a:rPr>
              <a:t>Core Managerial Role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54100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C. Decisional Ro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anagers must make decisions about people, goals, and the means to attain th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n this capacity they act as entrepreneur, resource allocator, negotiator and trouble-shoo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6" descr="14-6.jpg"/>
          <p:cNvPicPr/>
          <p:nvPr/>
        </p:nvPicPr>
        <p:blipFill>
          <a:blip r:embed="rId1"/>
          <a:stretch/>
        </p:blipFill>
        <p:spPr>
          <a:xfrm>
            <a:off x="5219640" y="1752480"/>
            <a:ext cx="3924360" cy="27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Footer Placeholder 3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89774-87E8-44FC-B7F9-059AD0F8AA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Managerial Function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jor Functions of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z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6" descr="14-7.jpg"/>
          <p:cNvPicPr/>
          <p:nvPr/>
        </p:nvPicPr>
        <p:blipFill>
          <a:blip r:embed="rId1"/>
          <a:stretch/>
        </p:blipFill>
        <p:spPr>
          <a:xfrm>
            <a:off x="5029200" y="2362320"/>
            <a:ext cx="3328920" cy="33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Footer Placeholder 3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A453A-095D-416F-8F0C-4636569DAC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Managerial Function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trol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rocess by which the activities of the organization and its members are monitored to ensure they contribute positively to the attainment of organization goals and 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tablishing systems that ensure that the efforts of individuals working on major tasks are efficiently and effectively coordinated and organ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Footer Placeholder 3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F1EB5-9B3A-4F6E-8818-D246170AA0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Managerial Function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Planning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efining the direction towards which the efforts of individuals are to be directed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Leading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fluencing the actions of others such that these actions are coordinated to produce the desired outcom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cting as a role mod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spiring a shared visio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hallenging the status quo and                                encouraging others to do so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Recognizing contribution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ooter Placeholder 4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Slide Number Placeholder 5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076A8-CE10-41E1-94CE-C80FCA813C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ccffcc"/>
                </a:solidFill>
                <a:latin typeface="Arial"/>
              </a:rPr>
              <a:t>Management Skill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5105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A set of actions that individuals perform and that lead to certain outcomes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854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Verbal communic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854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anaging time and st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854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Delega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854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elf-aware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854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eam buil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854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anaging confli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6"/>
          <p:cNvSpPr/>
          <p:nvPr/>
        </p:nvSpPr>
        <p:spPr>
          <a:xfrm>
            <a:off x="4086000" y="5637240"/>
            <a:ext cx="1727640" cy="368280"/>
          </a:xfrm>
          <a:prstGeom prst="rect">
            <a:avLst/>
          </a:prstGeom>
          <a:noFill/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e Table 14.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Picture 7" descr="14-8.jpg"/>
          <p:cNvPicPr/>
          <p:nvPr/>
        </p:nvPicPr>
        <p:blipFill>
          <a:blip r:embed="rId1"/>
          <a:stretch/>
        </p:blipFill>
        <p:spPr>
          <a:xfrm>
            <a:off x="5513400" y="1600200"/>
            <a:ext cx="3630600" cy="39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Footer Placeholder 3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5C176-C40F-48F0-8FC3-97334471E7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ccffcc"/>
                </a:solidFill>
                <a:latin typeface="Arial"/>
              </a:rPr>
              <a:t>Emotional Intelligence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Ability to manage your own and others’ emotions and your relationships with oth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Five sets of skill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2" marL="17874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elf-aware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7874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elf-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7874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otivation or dr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7874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Empat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7874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nterpersonal ski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Footer Placeholder 3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0001E-94F6-40A2-B6D2-0F4B10953E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Models of Management Skill Development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ll management development programs should inclu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216080" indent="-533520"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skills assess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216080" indent="-533520"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kill acquis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216080" indent="-533520"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kill pract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216080" indent="-533520"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kill application on the jo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6" descr="14-9.jpg"/>
          <p:cNvPicPr/>
          <p:nvPr/>
        </p:nvPicPr>
        <p:blipFill>
          <a:blip r:embed="rId1"/>
          <a:stretch/>
        </p:blipFill>
        <p:spPr>
          <a:xfrm>
            <a:off x="5943600" y="2209680"/>
            <a:ext cx="28576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Footer Placeholder 3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9A062-3AA0-4D36-8E99-1C6B9E92BE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Models of Management Skill Development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kills Assess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ies strengths and weaknesses of managers relative to the specific skills to be train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s self-aware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ibutes to training motiv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ies managers’ learning and behavioural styl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Footer Placeholder 3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5CE91-4FE7-40EA-BE4B-8BEE0B5DAB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Learning Outcome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763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management and management development and explain how it is different from employee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the main, roles, functions, and critical skills of manag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uss emotional intelligence and its relevance for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the models of management skil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the use of error-management training for management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the content of management skills development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Footer Placeholder 3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AA5EA-153F-4311-9E03-4A1D98420C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Models of Management Skill Development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3120" indent="-573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kill Acquisition (Learni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3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206360" indent="-51912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stead of being taught specific procedures or steps, managers learn how to recognize the need for the skill in a diverse number of circumstanc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1206360" indent="-51912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Usually involves group discussion of opportunities, obstacles, and strategies pertaining to skill us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1206360" indent="-51912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cus on learning principles, not specific approach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712880" indent="-392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Objective is to promote procedural learn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Footer Placeholder 3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A76B4-D528-49B3-878C-902FDAB768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Models of Management Skill Development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Arial"/>
              <a:buAutoNum type="alphaUcPeriod" startAt="3"/>
              <a:tabLst>
                <a:tab algn="l" pos="4280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kill Pract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349"/>
              </a:spcBef>
              <a:buNone/>
              <a:tabLst>
                <a:tab algn="l" pos="4280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280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actice serves three fundamental purpo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4479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280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inforces learning and shifts learning from the declarative to the procedural learning st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4479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280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hances self-effica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4479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280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ntains trainees’ interest, attention and motiv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Footer Placeholder 3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2006B-393B-4DA3-A47D-C11487C47D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Models of Management Skill Development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Arial"/>
              <a:buAutoNum type="alphaU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kill Application on the Job (Transf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ring training managers                              establish specific plans for the                   application of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176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llow-ups, coaching and                      reinforcement are frequently                      required to ensure transf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6" descr="14-10.jpg"/>
          <p:cNvPicPr/>
          <p:nvPr/>
        </p:nvPicPr>
        <p:blipFill>
          <a:blip r:embed="rId1"/>
          <a:stretch/>
        </p:blipFill>
        <p:spPr>
          <a:xfrm>
            <a:off x="6324480" y="2286000"/>
            <a:ext cx="2397240" cy="359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Footer Placeholder 3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1C447-7560-4937-A2AD-02164E66DB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cc"/>
                </a:solidFill>
                <a:latin typeface="Arial"/>
              </a:rPr>
              <a:t>Error Training for Management Development</a:t>
            </a:r>
            <a:endParaRPr b="1" lang="en-US" sz="36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T has been found to be more effective when trainee has to generalize learning to new ta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st for jobs that require-problem solving skills, where reproduction of learned behaviour is not suffici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agement jobs require constant adaptation to an ever-changing environ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agers must be able to use new skills flexibly in a variety of contexts (adaptive expertis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T more effective in producing adaptive expertise and therefore advisable to consider for management development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Footer Placeholder 3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79489-DFEA-4C0A-9155-1A448FEB44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cffcc"/>
                </a:solidFill>
                <a:latin typeface="Arial"/>
              </a:rPr>
              <a:t>Content of Management Development Programs</a:t>
            </a:r>
            <a:endParaRPr b="1" lang="en-US" sz="38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569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nagement skills can be organized in three categori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569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eptual ski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0176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569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.g., problem solving and decision making, planning, and performance manag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569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chnical ski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0176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569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.g., using Excel, PowerPoint, knowing tax la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569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personal ski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0176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569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.g., communication, managing conflict and st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Footer Placeholder 3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C0233-7D6C-4CF6-8F49-D688561D8E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cffcc"/>
                </a:solidFill>
                <a:latin typeface="Arial"/>
              </a:rPr>
              <a:t>Methods of Management Development</a:t>
            </a: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3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nagement training methods tend to rely on highly informational and highly experiential proced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3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format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3680" indent="-463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ormational and focused on the principles and applications of the skill or techniques being tau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ctures, readings, informative videos, and group discu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3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periential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3680" indent="0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463680" indent="-463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rning experiences that include skill practice exercises that actively engage and involve the lear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le plays, active exercises, and sim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s procedural knowledge &amp; boosts self-effica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06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Footer Placeholder 3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0FC63-D47B-49F7-828E-8E3A1BE2FD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cffcc"/>
                </a:solidFill>
                <a:latin typeface="Arial"/>
              </a:rPr>
              <a:t>Methods of Management Development</a:t>
            </a:r>
            <a:endParaRPr b="1" lang="en-US" sz="38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ormational and experiential components are present in most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lance between the two is not always identic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siness school DVD is mostly informat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tdoor education is mostly experient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general approach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agement edu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agement training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the-job management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Footer Placeholder 3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074C8-A67E-461F-A62D-31C4574BAD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cffcc"/>
                </a:solidFill>
                <a:latin typeface="Arial"/>
              </a:rPr>
              <a:t>Methods of Management Development</a:t>
            </a:r>
            <a:endParaRPr b="1" lang="en-US" sz="38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nagement edu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cquisition of a broad range of managerial knowledge and general conceptual abi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ically conducted by colleges and univers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MBA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 and case studies key learning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Footer Placeholder 3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4A97D-FCF5-4B37-821C-689DB32BD8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cffcc"/>
                </a:solidFill>
                <a:latin typeface="Arial"/>
              </a:rPr>
              <a:t>Methods of Management Development</a:t>
            </a:r>
            <a:endParaRPr b="1" lang="en-US" sz="38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nagement trai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s and activities designed to                              develop specific managerial ski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, Classroom based and Outdoor wilderness training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s teamwork and leadership ski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n-the-job management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s designed to provide individuals with managerial learning experiences on-the-jo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, Job ro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, Coac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Footer Placeholder 4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Slide Number Placeholder 5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52654-E757-44C4-8BC4-4053209823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Coaching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ffective coaching characteristics inclu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al ori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eat listeners, empathy, interest in helping                           people achieve their go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lleng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le to “feel” the mood of learner,                                            know when to listen and when to challenge belief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son focu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lp learner use his/her previous knowledge and experience to develop his /her own perspective, understanding, and styles in dealing with the problems to be solv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Footer Placeholder 3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A1829-E339-4F93-9719-216FCD55A1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Learning Outcome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uss the different types of management development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outdoor wilderness training programs and their effectiveness for management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job rotation and coaching and discuss the characteristics of great coaches, the five conditions that are necessary to ensure the development of managers, and the challenges of coac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uss the research on the effectiveness of management development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Footer Placeholder 3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5B1E4-25FB-4384-A4F1-D4A4B0B2B0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Coaching 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104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aches are maximally helpful when they structure their efforts to help managers develop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206360" indent="-51732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54944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ognizing their own strengths and weakne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206360" indent="-51732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54944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standing and caring about changing the ways in which they ope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206360" indent="-51732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54944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ying resources/best practices for dealing with complex decisions and situations and by exploring alternative ways of dealing with the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Footer Placeholder 3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02D23-F5EF-4E8A-8672-DF20B1D872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Coaching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l-world pract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ying opportunities to implement, on a day-to-day basis, the little changes that should be made and to develop the critical perspective needed to assess what works, what does not, and w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oun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couraging the manager to demonstrate the new skills and knowledge through commitment to specific 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Footer Placeholder 3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2A903-522F-47FF-AE29-52CD8A2098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Coaching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2" marL="143316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achieve these objectives, coaches face a number of challeng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43316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433160" indent="-52812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ach must act to gain trust of “coachee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886040" indent="-5281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monstrate confidentiality, discretion, hones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886040" indent="-5281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 the developing trust it becomes easier for coach to provide feedb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433160" indent="-52812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 applying new skills is fraught with obstacles and hurdles that can discourage the use of new skills, a coach needs to be attentive to these situations and help managerial persist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886040" indent="-5281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self-efficac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886040" indent="-5281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true obstacles as “problems” rather than failur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886040" indent="-5281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e emotional sup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Footer Placeholder 3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6E33A-66BC-4B04-9031-A3951C087F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Coaching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4479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aches who are in a position to do so sometimes intervene elsewhere in the organization to remove obstac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905120" indent="-53352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ac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905120" indent="-53352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nal coaches in better position to do th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905120" indent="0">
              <a:spcBef>
                <a:spcPts val="6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905120" indent="0">
              <a:spcBef>
                <a:spcPts val="6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90512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udies have shown that coaching is generally perceived as an effective tool for management development albeit these findings are drawn more from self-repor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90512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90512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90512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90512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Footer Placeholder 3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54FA1-9676-4949-8CB9-4381060E37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cc"/>
                </a:solidFill>
                <a:latin typeface="Arial"/>
              </a:rPr>
              <a:t>Effectiveness of Management Development</a:t>
            </a:r>
            <a:endParaRPr b="1" lang="en-US" sz="36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variety of studies as well as more formal meta-analysis indicate varying levels of effectiveness for management development programs and initia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average results show that management development programs do contribute to organizational effective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 1/3 of Canadian organizations have systematic coaching and mentoring programs and consider them effective lea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ture research studies will continue to explore the question of effective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Footer Placeholder 3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0AB86-2969-48BE-9278-F291F166B9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Summary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oles, functions, and critical skills of manager and how they are developed was discus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overview of the management skills that management development programs are designed to teach was presen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model of management development (assessment, acquisition, practice, and application) was describ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ntent and most common delivery methods of management development programs was discus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 such as outdoor education, job-rotation and coaching were discus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Footer Placeholder 3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F7140-30F7-490C-BDF4-B3526997E2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What is Management?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rocess of getting things done, efficiently and effectively, through and with other peo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033560" indent="-57636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33560" indent="-57636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33560" indent="-57636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ki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33560" indent="-57636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6" descr="14-2.jpg"/>
          <p:cNvPicPr/>
          <p:nvPr/>
        </p:nvPicPr>
        <p:blipFill>
          <a:blip r:embed="rId1"/>
          <a:stretch/>
        </p:blipFill>
        <p:spPr>
          <a:xfrm>
            <a:off x="3886200" y="2819520"/>
            <a:ext cx="4749840" cy="301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Footer Placeholder 2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9A837-C9CA-4FD2-AA1D-4367E4828D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Rectangle 9"/>
          <p:cNvSpPr/>
          <p:nvPr/>
        </p:nvSpPr>
        <p:spPr>
          <a:xfrm>
            <a:off x="2133720" y="1676520"/>
            <a:ext cx="5257800" cy="4251240"/>
          </a:xfrm>
          <a:prstGeom prst="rect">
            <a:avLst/>
          </a:prstGeom>
          <a:solidFill>
            <a:srgbClr val="b2b2b2"/>
          </a:solidFill>
          <a:ln w="255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7"/>
          <p:cNvSpPr/>
          <p:nvPr/>
        </p:nvSpPr>
        <p:spPr>
          <a:xfrm>
            <a:off x="2743200" y="2286000"/>
            <a:ext cx="3949560" cy="3048120"/>
          </a:xfrm>
          <a:prstGeom prst="rect">
            <a:avLst/>
          </a:prstGeom>
          <a:solidFill>
            <a:srgbClr val="c0c0c0"/>
          </a:solidFill>
          <a:ln w="255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5"/>
          <p:cNvSpPr/>
          <p:nvPr/>
        </p:nvSpPr>
        <p:spPr>
          <a:xfrm>
            <a:off x="3276720" y="2819520"/>
            <a:ext cx="2819160" cy="2057400"/>
          </a:xfrm>
          <a:prstGeom prst="rect">
            <a:avLst/>
          </a:prstGeom>
          <a:solidFill>
            <a:srgbClr val="dddddd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What is Management?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71" name="Rectangle 4"/>
          <p:cNvSpPr/>
          <p:nvPr/>
        </p:nvSpPr>
        <p:spPr>
          <a:xfrm>
            <a:off x="3733920" y="3352680"/>
            <a:ext cx="1904760" cy="10670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RO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pers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rmati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cisi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Line 10"/>
          <p:cNvSpPr/>
          <p:nvPr/>
        </p:nvSpPr>
        <p:spPr>
          <a:xfrm>
            <a:off x="2133720" y="1676520"/>
            <a:ext cx="1600200" cy="16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Line 11"/>
          <p:cNvSpPr/>
          <p:nvPr/>
        </p:nvSpPr>
        <p:spPr>
          <a:xfrm flipH="1">
            <a:off x="5638320" y="1676520"/>
            <a:ext cx="1752840" cy="16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17"/>
          <p:cNvSpPr/>
          <p:nvPr/>
        </p:nvSpPr>
        <p:spPr>
          <a:xfrm>
            <a:off x="3919680" y="2741760"/>
            <a:ext cx="151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FUN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18"/>
          <p:cNvSpPr/>
          <p:nvPr/>
        </p:nvSpPr>
        <p:spPr>
          <a:xfrm>
            <a:off x="5700960" y="3227400"/>
            <a:ext cx="30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19"/>
          <p:cNvSpPr/>
          <p:nvPr/>
        </p:nvSpPr>
        <p:spPr>
          <a:xfrm>
            <a:off x="3339000" y="3238560"/>
            <a:ext cx="30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20"/>
          <p:cNvSpPr/>
          <p:nvPr/>
        </p:nvSpPr>
        <p:spPr>
          <a:xfrm>
            <a:off x="4161600" y="4456080"/>
            <a:ext cx="11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aniz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22"/>
          <p:cNvSpPr/>
          <p:nvPr/>
        </p:nvSpPr>
        <p:spPr>
          <a:xfrm>
            <a:off x="4177080" y="2376360"/>
            <a:ext cx="95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KIL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23"/>
          <p:cNvSpPr/>
          <p:nvPr/>
        </p:nvSpPr>
        <p:spPr>
          <a:xfrm>
            <a:off x="2820960" y="2889360"/>
            <a:ext cx="320760" cy="20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24"/>
          <p:cNvSpPr/>
          <p:nvPr/>
        </p:nvSpPr>
        <p:spPr>
          <a:xfrm>
            <a:off x="6288480" y="2754360"/>
            <a:ext cx="345240" cy="250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26"/>
          <p:cNvSpPr/>
          <p:nvPr/>
        </p:nvSpPr>
        <p:spPr>
          <a:xfrm>
            <a:off x="3741840" y="1636560"/>
            <a:ext cx="185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ROGRAMM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the jo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27"/>
          <p:cNvSpPr/>
          <p:nvPr/>
        </p:nvSpPr>
        <p:spPr>
          <a:xfrm>
            <a:off x="6853320" y="2325600"/>
            <a:ext cx="371160" cy="31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28"/>
          <p:cNvSpPr/>
          <p:nvPr/>
        </p:nvSpPr>
        <p:spPr>
          <a:xfrm>
            <a:off x="2262240" y="2535120"/>
            <a:ext cx="333000" cy="27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29"/>
          <p:cNvSpPr/>
          <p:nvPr/>
        </p:nvSpPr>
        <p:spPr>
          <a:xfrm>
            <a:off x="4039920" y="5408640"/>
            <a:ext cx="123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f the jo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30"/>
          <p:cNvSpPr/>
          <p:nvPr/>
        </p:nvSpPr>
        <p:spPr>
          <a:xfrm>
            <a:off x="5638680" y="4419720"/>
            <a:ext cx="175284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31"/>
          <p:cNvSpPr/>
          <p:nvPr/>
        </p:nvSpPr>
        <p:spPr>
          <a:xfrm flipV="1">
            <a:off x="2133720" y="4419360"/>
            <a:ext cx="160020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32"/>
          <p:cNvSpPr/>
          <p:nvPr/>
        </p:nvSpPr>
        <p:spPr>
          <a:xfrm>
            <a:off x="144000" y="5599080"/>
            <a:ext cx="180396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e Figure 14.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Footer Placeholder 3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54A83-4A93-47E7-AF17-8DDF1E3DE1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ccffcc"/>
                </a:solidFill>
                <a:latin typeface="Arial"/>
              </a:rPr>
              <a:t>Management Development</a:t>
            </a:r>
            <a:br>
              <a:rPr sz="3600"/>
            </a:br>
            <a:r>
              <a:rPr b="1" lang="en-CA" sz="3600" spc="-1" strike="noStrike">
                <a:solidFill>
                  <a:srgbClr val="ccffcc"/>
                </a:solidFill>
                <a:latin typeface="Arial"/>
              </a:rPr>
              <a:t>vs. Employee Training</a:t>
            </a:r>
            <a:endParaRPr b="1" lang="en-US" sz="36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Differenc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anagers work mainly through other peo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raining design techniques tend to be differ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anagerial personalities must be taken into accou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anagement development is a longitudinal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Unique strategic significance of developing mana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Footer Placeholder 3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D5ABD-628B-4493-83D3-CA4770E619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ccffcc"/>
                </a:solidFill>
                <a:latin typeface="Arial"/>
              </a:rPr>
              <a:t>What is Management Development?</a:t>
            </a:r>
            <a:endParaRPr b="1" lang="en-US" sz="36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lex process by which individuals learn to perform effectively in managerial ro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s Management Development Importa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569880" indent="-4554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Per capita training expenditures are greater for managers than any other category of employ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69880" indent="-4554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Corporate expenditures on management development are estimated at $45 billion annu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69880" indent="-4554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manager’s role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ivotal role in organiz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ooter Placeholder 4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Slide Number Placeholder 5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B9DCE-AA15-4E04-825B-005EEAE654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ccffcc"/>
                </a:solidFill>
                <a:latin typeface="Arial"/>
              </a:rPr>
              <a:t>Management Development and Leadership</a:t>
            </a:r>
            <a:endParaRPr b="1" lang="en-US" sz="36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3815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 qualities and behaviours required to shape the direction of the organization and that inspire others to pursue that direction in the face of obstacles an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6" descr="14-3.jpg"/>
          <p:cNvPicPr/>
          <p:nvPr/>
        </p:nvPicPr>
        <p:blipFill>
          <a:blip r:embed="rId1"/>
          <a:stretch/>
        </p:blipFill>
        <p:spPr>
          <a:xfrm>
            <a:off x="5257800" y="1676520"/>
            <a:ext cx="2751120" cy="412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Footer Placeholder 4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Slide Number Placeholder 5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C3E9E-85B6-4367-8E5A-9C2826328B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ccffcc"/>
                </a:solidFill>
                <a:latin typeface="Arial"/>
              </a:rPr>
              <a:t>Core Managerial Role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6629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Major roles of manager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nterpersonal ro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nformational ro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Decisional ro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6" descr="14-4.jpg"/>
          <p:cNvPicPr/>
          <p:nvPr/>
        </p:nvPicPr>
        <p:blipFill>
          <a:blip r:embed="rId1"/>
          <a:stretch/>
        </p:blipFill>
        <p:spPr>
          <a:xfrm>
            <a:off x="4648320" y="2590920"/>
            <a:ext cx="3994200" cy="26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0:55:57Z</dcterms:created>
  <dc:creator>Tracey A. Starrett</dc:creator>
  <dc:description/>
  <dc:language>en-US</dc:language>
  <cp:lastModifiedBy>Karina</cp:lastModifiedBy>
  <dcterms:modified xsi:type="dcterms:W3CDTF">2009-10-30T18:08:08Z</dcterms:modified>
  <cp:revision>355</cp:revision>
  <dc:subject/>
  <dc:title>Ch 14</dc:title>
</cp:coreProperties>
</file>