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B34-0624-4282-B3C1-85BE747D6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3AD4-B7C7-40F9-8B2B-1454B2BDE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1209-7522-4E51-A337-6253922C9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C51E-6271-4BAF-ACF0-CEED31296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C62B-5899-43A3-996D-1B37112BD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AF63-9E7E-4B06-A6C6-CF42A6D66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E468-DDB8-47E6-986A-97020B03B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B27D-81D1-419E-99C0-14F6C269E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EF6B-4F2D-45C2-9972-F7CDA4382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3291-E2FF-4AC5-A590-E1887543D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BB66-12E0-4C93-B617-DD018C964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15AA-705D-4D52-8FC4-FCB790ED68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57BA-7F11-4E8F-92C1-C279310A4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F12C-BB46-46C6-B6B3-9D9D5FA4E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EFB5-E8A6-4A92-A2F6-CCFD7E410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C187-BAA3-4943-9AA3-1000E6BA3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0975-360E-4691-8519-02F30B558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396B-91F9-4C9E-93C9-F08F339E3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71DDE-FD69-4E34-9DD2-F4D881E6B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C516-02C2-43D7-885D-CB9F248D9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6C13-97ED-4EC3-908D-12B4037AF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2DE0-1CD9-49BC-91C3-D6DB4E38A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fte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Trends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5-1.jpg"/>
          <p:cNvPicPr/>
          <p:nvPr/>
        </p:nvPicPr>
        <p:blipFill>
          <a:blip r:embed="rId1"/>
          <a:stretch/>
        </p:blipFill>
        <p:spPr>
          <a:xfrm>
            <a:off x="2895480" y="3657600"/>
            <a:ext cx="35942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BFE2-7C7C-4C9B-8E00-8F00DCC86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-in-time learn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to provide learning and training opportunities when they are needed and where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s pace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chnologies helpful in achieving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e Training Today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50A5-8E51-4425-9CD7-8070C98B2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to shorten  the length of training programs increa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 training programs and find creative ways to make up for reduction i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urse work, job aids, on-the-job training, and using technology can accomplish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e-le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-style software with easy to use interface that guide trainer through the cours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e-learning more quickly, easily and at lower price than conventional  e-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8645-1306-4170-A0E5-7FB0E1E79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MS) is software that manages and tracks trai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stica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n organization to integrate and organize all their training data an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used by web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and report administrative activiti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1312-2BE3-4CB9-BDE0-3B4866A89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y sophisticated LMS include assessments, course catalogues, communication tools, and individual learn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of LMS is increased efficiency, reporting, tracking, and delivery of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use of technology for training will create increasingly more important role for 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A955-9A71-4ACF-B774-597938A66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pproach to learning that recognizes that learning takes place throughout a person’s life and involves all aspects of one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Council on Learning developed Composite Learning Index (C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Canada’s progress on  “Four Pill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liv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EDA6-2B57-4FEF-87B1-48D96CD28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 recognizes lifelong learning is critical to success of individual, the community, and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benefits from better jobs and higher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benefits from higher productivity and a stronger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is an important contributor to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 taking holistic and lifelong approach to continuous education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E106-7D00-4B5F-B414-2FBA1E78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&amp;D Best Practices: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ain Reasons for Failur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lignment with business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recognize non-training solu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objectives to provide direction and foc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olution is too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arding training as an ev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are not held accountable for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epare the job environment for 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management reinforcement and supp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isolate the effects of trai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commitment and involvement from execu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ovide feedback and use information abou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16680" y="5865840"/>
            <a:ext cx="155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F47-5951-4F53-A948-15B54DB1A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Best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factors that are important for learning and trans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understand the objectives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content is meaning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are given cues that help them learn and re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opportunities to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receive feedback on their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the opportunity to interact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is properly coordinated and arrang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528000" y="590220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B2B9-2E14-4626-AA49-82F5369B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changing role of the trainer and outsourcing training and devel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issues in training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rends including just-in-time learning, rapid e-learning, and learning management system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as part of larger process of lifelong learning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of major reasons for failure of training and development and design features that facilitate learning and transf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8C39-5053-42A8-9854-CB6195C3D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changing role of training professio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outsourcing of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role of ethics in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just-in-time learning, rapid e-learning, and learning management systems (L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lifelong learning and describe the four pillars of lifelong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main reasons why training programs fail and describe training design factors that facilitate learning and trans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A40C-9F8E-45E5-AC8E-E13EA67B0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ainer’s primary responsibilities have traditionally revolved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T&amp;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5-2.jpg"/>
          <p:cNvPicPr/>
          <p:nvPr/>
        </p:nvPicPr>
        <p:blipFill>
          <a:blip r:embed="rId1"/>
          <a:stretch/>
        </p:blipFill>
        <p:spPr>
          <a:xfrm>
            <a:off x="4518000" y="2743200"/>
            <a:ext cx="4626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AD00-7053-4E69-BE0B-3D423C4AF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the Trainer’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taff employee to strategic 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oles: (see Fig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rate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onsultant providing solutions to performanc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D225-8100-4C14-8D36-A5A0EE672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an external supplier to provide training and development program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% of HR and training professionals outsource at least some portion of T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ada, 52% of total training investment is outsour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to outside tr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ly to tuition reimbursement to outsid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678F-14A7-40A2-9ADC-FE7CC5E4A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to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variety of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and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in compliance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 in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does not understand organization’s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in-house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900B-505E-4BCC-B19F-70DAE6E76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likelihood of su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trusting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requent client-vendo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tractual agreements clear and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losely with training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e for the righ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C57B-081F-4D1B-A82F-4C7E182FC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systematic thinking about moral consequences of one’s actions and decisions on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kehol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s inside or outside the organization who might be affected by one’s actions an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, such as the Canadian Society for Training and Development, have codes of ethics that set standards of practice and professionalism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CD94-83C0-4D3A-BEC1-B21980EF8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al Guideline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portra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y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50160" y="586728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15-4.jpg"/>
          <p:cNvPicPr/>
          <p:nvPr/>
        </p:nvPicPr>
        <p:blipFill>
          <a:blip r:embed="rId1"/>
          <a:stretch/>
        </p:blipFill>
        <p:spPr>
          <a:xfrm>
            <a:off x="5440320" y="2514600"/>
            <a:ext cx="37036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3:16Z</dcterms:modified>
  <cp:revision>268</cp:revision>
  <dc:subject/>
  <dc:title>Ch 15</dc:title>
</cp:coreProperties>
</file>