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521C-B377-4074-B6EE-0EFA136D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ECFB-8C56-4336-A069-0D1E96339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F5D9-A342-4B89-85A3-2185D9A6E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D994-941D-450E-8ED9-CF92001B7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B06A-FCA9-42C0-AE3A-F47496FED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0538-A633-4D6E-9FE2-ADCC744F8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E976-0F72-4409-9AB9-386650C38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73A1-44EF-4D19-88A3-48A54A797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A475-AE60-4B31-82AC-3653B17F2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9B98-B985-464F-8EEC-3D6226EF0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6440-5EAD-4714-B3B2-B7858488D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6AA0-404B-46A9-B4F3-0A2A46A3A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2B11-3A6E-458B-86A7-791D69242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174A-3362-4B1D-9BF6-9A8C2735F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D2D1-0600-4B51-8294-687F6442A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4ECE-3E28-429A-A0B7-A440FF516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9554-7D23-408E-8D7A-B8FAEA79E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7E3A-FE00-4CA9-8CBC-05A4DB436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0E6D-8A99-4BFB-8114-87B084908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B8A2-B59F-4955-8AA2-180F6079F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D7C7-61AF-4B4E-83ED-A85DDFD30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395-9187-4C13-ABEC-9CF59E29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fte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Trends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5-1.jpg"/>
          <p:cNvPicPr/>
          <p:nvPr/>
        </p:nvPicPr>
        <p:blipFill>
          <a:blip r:embed="rId1"/>
          <a:stretch/>
        </p:blipFill>
        <p:spPr>
          <a:xfrm>
            <a:off x="2895480" y="3657600"/>
            <a:ext cx="3594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48AB-F7DF-4795-8553-3C8C2300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-in-time lear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to provide learning and training opportunities when they are needed and where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s pac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ies helpful in achiev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Training Today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763A-8B36-4060-B361-0B73C8134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to shorten  the length of training programs increa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 training programs and find creative ways to make up for reduction i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urse work, job aids, on-the-job training, and using technology can accomplis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e-le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-style software with easy to use interface that guide trainer through the cours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e-learning more quickly, easily and at lower price than conventional  e-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E7A0-97B5-4A31-A6D4-7A66A73F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 is software that manages and tracks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n organization to integrate and organize all their training data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used by web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and report administrative activiti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58DE-B679-401B-85A8-C963F251E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sophisticated LMS include assessments, course catalogues, communication tools, and individual learn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LMS is increased efficiency, reporting, tracking, and delivery of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use of technology for training will create increasingly more important role for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29FA-874B-45E4-835C-2C165CC75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pproach to learning that recognizes that learning takes place throughout a person’s life and involves all aspects of one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Council on Learning developed Composite Learning Index (C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Canada’s progress on  “Four Pill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liv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A3C3-88C4-4DB4-9CF9-23E95EBF2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 recognizes lifelong learning is critical to success of individual, the community, an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benefits from better jobs and highe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benefits from higher productivity and a stronger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is an important contributor to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taking holistic and lifelong approach to continuous education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784D-E849-4DF2-934D-FFFC10F55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&amp;D Best Practices: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ain Reasons for Failur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lignment with busines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recognize non-training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objectives to provide direction and fo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olution is too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arding training as an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are not held accountable for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epare the job environment for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management reinforcement and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isolate the effects of tra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commitment and involvement from execu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ovide feedback and use information abou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16680" y="5865840"/>
            <a:ext cx="155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BE43-B5F5-4D9C-9DB2-FA9F2A3E9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Best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factors that are important for learning and trans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understand the objectives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content is meaning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are given cues that help them learn and re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opportunities to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receive feedback on thei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the opportunity to interact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is properly coordinated and arran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28000" y="590220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3F5C-A8F6-4ECC-8F7C-BB84582A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changing role of the trainer and outsourcing training and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issues in training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 including just-in-time learning, rapid e-learning, and learning management syste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as part of larger process of lifelong learning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of major reasons for failure of training and development and design features that facilitate learning and transf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34B9-F999-4CAA-BDD5-84A7337B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changing role of training professio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outsourcing of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role of ethics in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just-in-time learning, rapid e-learning, and learning management systems (L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lifelong learning and describe the four pillars of lifelong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main reasons why training programs fail and describe training design factors that facilitate learning and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41D-02A1-4BAE-95E6-E297A3EBE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iner’s primary responsibilities have traditionally revolved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&amp;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-2.jpg"/>
          <p:cNvPicPr/>
          <p:nvPr/>
        </p:nvPicPr>
        <p:blipFill>
          <a:blip r:embed="rId1"/>
          <a:stretch/>
        </p:blipFill>
        <p:spPr>
          <a:xfrm>
            <a:off x="4518000" y="2743200"/>
            <a:ext cx="4626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21A8-3EC5-457F-83E1-311546CDA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the Trainer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aff employee to strategic 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: (see Fig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rate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onsultant providing solutions to performanc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FED3-F06B-4390-9FE0-8B9DFBFDD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n external supplier to provide training and development program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of HR and training professionals outsource at least some portion of T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ada, 52% of total training investment is outsou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to outside tr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ly to tuition reimbursement to outsid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4E9-4A1E-4863-8490-11BD28B9E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to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variety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and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compliance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 in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does not understand organization’s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-house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70C5-83B5-4932-8717-ECF53D72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likelihood of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rusting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requent client-vend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tractual agreements clear and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losely with training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e for the righ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2B16-DBA1-47A5-BF88-CCFAFC573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systematic thinking about moral consequences of one’s actions and decisions on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s inside or outside the organization who might be affected by one’s actions an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, such as the Canadian Society for Training and Development, have codes of ethics that set standards of practice and professionalism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2144-9093-46E8-8ABD-03272887B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al Guideline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ortra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y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0160" y="586728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15-4.jpg"/>
          <p:cNvPicPr/>
          <p:nvPr/>
        </p:nvPicPr>
        <p:blipFill>
          <a:blip r:embed="rId1"/>
          <a:stretch/>
        </p:blipFill>
        <p:spPr>
          <a:xfrm>
            <a:off x="5440320" y="2514600"/>
            <a:ext cx="37036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3:16Z</dcterms:modified>
  <cp:revision>268</cp:revision>
  <dc:subject/>
  <dc:title>Ch 15</dc:title>
</cp:coreProperties>
</file>