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630A-4E54-487E-8860-08F2AACF0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5844-7627-42D8-91CE-52C9F98C7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384B-5C5E-42E2-AE86-947493434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98A9-E8F3-4131-81A6-D9A423961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17EB-E1DC-42E6-B2B1-540809F41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BE0F-CE07-4E8F-A684-FD8A3D4CD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8C3A-EFDB-4A5D-8D30-C83C869C2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F328-A80B-4709-BDB7-C1FE9DC59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41223-E8D9-4A4F-876B-2B6AE5B213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71EC1-BFDC-496D-B3D8-70E3451982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785F5-5A2E-450E-BC1A-056F5C1AF0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BEBA4-879D-450D-8F2A-A570C8A283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7ABFA-3EE6-491D-8A1A-A006F705DE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59BB9-136E-4BCF-A84D-DCAD70B31A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27EB0-ECA0-48EC-9E01-180A0E1F03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C1DB6-44DD-4520-B31C-3FFDAF8A2B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F87BD-BB6F-4F99-B0A5-A9BBB913B9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87C1B-A1CA-4F96-A64E-84F90889E2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C06E4-16E8-4255-B007-026A093280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90FA8-6F24-49C3-98F0-C43B5FF45B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14240" y="632412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4E9A-E0EA-48BD-9FDF-3FA904691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1FFB-AD96-449F-AD05-1A1714420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Fiftee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ning Trends a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est Practi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15-1.jpg"/>
          <p:cNvPicPr/>
          <p:nvPr/>
        </p:nvPicPr>
        <p:blipFill>
          <a:blip r:embed="rId1"/>
          <a:stretch/>
        </p:blipFill>
        <p:spPr>
          <a:xfrm>
            <a:off x="2895480" y="3657600"/>
            <a:ext cx="359424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F495-C6AF-4624-9AD7-718FC6D9E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ends in Training and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ust-in-time learn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bility to provide learning and training opportunities when they are needed and where they are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lerates pace of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technologies helpful in achieving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enario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ee Training Today 15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5410-6911-41F9-A4D1-55D89D8F1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ends in Training and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mand to shorten  the length of training programs increas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esign training programs and find creative ways to make up for reduction in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course work, job aids, on-the-job training, and using technology can accomplish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pid e-learning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late-style software with easy to use interface that guide trainer through the course development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e-learning more quickly, easily and at lower price than conventional  e-learning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B54B-23A3-4E2A-B267-077506160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ends in Training and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 Management Syste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LMS) is software that manages and tracks training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phisticated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an organization to integrate and organize all their training data and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used by web-based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k and report administrative activities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roll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ion of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5F52-08E9-48EC-91D5-BD15F9D0F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ends in Training and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very sophisticated LMS include assessments, course catalogues, communication tools, and individual learning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t of LMS is increased efficiency, reporting, tracking, and delivery of e-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use of technology for training will create increasingly more important role for L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D40E-5F1F-4D38-979F-E4F995FFC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ends in Training and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felong Lear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approach to learning that recognizes that learning takes place throughout a person’s life and involves all aspects of one’s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adian Council on Learning developed Composite Learning Index (C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Canada’s progress on  “Four Pilla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t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to live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to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EE9C-4722-454C-A2DC-E7E1732F5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ends in Training and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I recognizes lifelong learning is critical to success of individual, the community, and the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 benefits from better jobs and higher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ada benefits from higher productivity and a stronger ec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and development is an important contributor to lifelong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rganizations taking holistic and lifelong approach to continuous education an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8173-40BA-489D-95A7-28B69DD39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T&amp;D Best Practices:</a:t>
            </a:r>
            <a:br>
              <a:rPr sz="3600"/>
            </a:b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Main Reasons for Failure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ck of alignment with business nee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ailure to recognize non-training solu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ck of objectives to provide direction and focu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solution is too expensi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garding training as an ev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icipants are not held accountable for resul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6208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ailure to prepare the job environment for transf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ck of management reinforcement and suppor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ailure to isolate the effects of train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ck of commitment and involvement from executiv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ailure to provide feedback and use information about resul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6016680" y="5865840"/>
            <a:ext cx="155700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Table 15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ADD1-0308-4140-8589-C9AF52554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&amp;D Best Practic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factors that are important for learning and transf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ees understand the objectives of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ing content is meaningfu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ees are given cues that help them learn and re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ees have opportunities to pract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ees receive feedback on their lear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ees have the opportunity to interact with oth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ing is properly coordinated and arrang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528000" y="5902200"/>
            <a:ext cx="276408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Trainer’s Notebook 15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9491-0380-487B-BB62-133029B65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the changing role of the trainer and outsourcing training and develop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ical issues in training dis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trends including just-in-time learning, rapid e-learning, and learning management systems were int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and development as part of larger process of lifelong learning was descri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of major reasons for failure of training and development and design features that facilitate learning and transf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53B3-1EC8-4BDD-8BD1-2CBEB1F67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320" y="1599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cribe the changing role of training profession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uss the outsourcing of training &amp;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uss the role of ethics in training &amp;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uss just-in-time learning, rapid e-learning, and learning management systems (LM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e lifelong learning and describe the four pillars of lifelong lear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cribe the main reasons why training programs fail and describe training design factors that facilitate learning and transf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738B-AA93-49AC-868E-18B591877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rainer’s Rol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trainer’s primary responsibilities have traditionally revolved arou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very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 of T&amp;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15-2.jpg"/>
          <p:cNvPicPr/>
          <p:nvPr/>
        </p:nvPicPr>
        <p:blipFill>
          <a:blip r:embed="rId1"/>
          <a:stretch/>
        </p:blipFill>
        <p:spPr>
          <a:xfrm>
            <a:off x="4518000" y="2743200"/>
            <a:ext cx="462600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3562-4E9D-4252-8254-9B6A96E2C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rainer’s Role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s in the Trainer’s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staff employee to strategic business part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roles: (see Fig 15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strateg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part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specia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consultant providing solutions to performanc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230B-6C4E-4315-89B8-D044221EC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utsourcing T&amp;D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an external supplier to provide training and development programs an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7% of HR and training professionals outsource at least some portion of T&amp;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anada, 52% of total training investment is outsourc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ly to outside tr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rectly to tuition reimbursement to outside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C280-7B0E-4C4B-84AB-2CC9378C5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utsourcing T&amp;D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efits to outsour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o speci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variety of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efficient and less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in compliance and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62080" y="1599840"/>
            <a:ext cx="4381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ks in outsour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 of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dor does not understand organization’s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 of in-house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vulne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6743-5F92-4F5A-AA22-B2B7204F2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utsourcing T&amp;D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increase likelihood of suc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trusting relationshi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frequent client-vendor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contractual agreements clear and compreh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closely with training supp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source for the right rea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3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C171-3661-41A0-A9E6-554A457F3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Ethics of Training &amp;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hic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volves systematic thinking about moral consequences of one’s actions and decisions on various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keholder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sons inside or outside the organization who might be affected by one’s actions and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rganizations, such as the Canadian Society for Training and Development, have codes of ethics that set standards of practice and professionalism for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4"/>
          <p:cNvSpPr/>
          <p:nvPr/>
        </p:nvSpPr>
        <p:spPr>
          <a:xfrm>
            <a:off x="2514600" y="632448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440A-83FC-4A21-B1DB-413E45FA0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Ethics of Training &amp;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553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hical Guidelines for Tr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ary con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i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te portray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ncy in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3350160" y="5867280"/>
            <a:ext cx="2764080" cy="3373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Trainer’s Notebook 15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7" descr="15-4.jpg"/>
          <p:cNvPicPr/>
          <p:nvPr/>
        </p:nvPicPr>
        <p:blipFill>
          <a:blip r:embed="rId1"/>
          <a:stretch/>
        </p:blipFill>
        <p:spPr>
          <a:xfrm>
            <a:off x="5440320" y="2514600"/>
            <a:ext cx="370368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30T18:13:16Z</dcterms:modified>
  <cp:revision>268</cp:revision>
  <dc:subject/>
  <dc:title>Ch 15</dc:title>
</cp:coreProperties>
</file>