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5D21-B3DF-4526-AD4A-6FB691CA7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B27E-3F8D-4588-BC2C-EA0FE5A8C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0498-3848-4326-BF6B-568567DDE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4890-B42A-4EE6-B704-CED58FCBD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064D-8EB7-4A1A-8635-9C8456C36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8042-32F6-4819-8ADD-AB2DB5DFA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A202-F5A9-4A8E-9067-27E636D68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B4C2-662A-4E97-BCE1-3292930DB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B9AB-A1DD-48AD-936A-23653732A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8AD5-DA94-4AFB-8B62-88DE23DCB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A6D4-F90F-4918-9CCD-B78B93A57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4083-5DB3-4833-B433-BBA15E0E4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B9B3-35F7-4058-A0F7-107AC189B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68CB-8FD4-4020-95C9-DFFD05A49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93A8-3FA2-431E-B32C-A631E88F76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BDA8-6083-4A69-8557-9CC51ABB06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D325C-BA30-4136-91F6-7CD9AE270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66ED-EEF6-4F7F-942B-61D858825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0C10-020E-40E6-AFB6-B37C71BAD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09F8-34D2-43DD-8269-AE6FAF77E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8B49-F107-44AE-80E8-92FB2571B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FDAB-7C76-4DC4-AB14-2BC6C4345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666F-CDF2-4912-BE70-AC70D2AEB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9E6F-342F-4325-9595-90ECA43B3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43A1-FEE3-4291-924F-E18C87D80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iv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Desig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5-1.jpg"/>
          <p:cNvPicPr/>
          <p:nvPr/>
        </p:nvPicPr>
        <p:blipFill>
          <a:blip r:embed="rId1"/>
          <a:stretch/>
        </p:blipFill>
        <p:spPr>
          <a:xfrm>
            <a:off x="3276720" y="26668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7D80-5C97-4AE5-91B8-195AF9E90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or Design Decis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internal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nd 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rganization’s jar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organization’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nal content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de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E212-9BC4-4AE5-A5AA-97652519E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6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Decision Considera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mportant factors to consider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and expertise to               desig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( i.e., how soon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 need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5-11.jpg"/>
          <p:cNvPicPr/>
          <p:nvPr/>
        </p:nvPicPr>
        <p:blipFill>
          <a:blip r:embed="rId1"/>
          <a:stretch/>
        </p:blipFill>
        <p:spPr>
          <a:xfrm>
            <a:off x="6019920" y="2438280"/>
            <a:ext cx="24685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EDFF-771B-43B0-82D3-CF6BEAF6B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Request for Proposa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RFP is a document that outlines to potential vendors and consultants an organization’s training and projec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P’s include section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company and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of project and statement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on how to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servic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43B0-2D40-4743-93D7-EAC8506FB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Cont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ucial stage as it must be based on training need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est priority question: “What is to be learned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alysis and training objectives guide content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5-13.jpg"/>
          <p:cNvPicPr/>
          <p:nvPr/>
        </p:nvPicPr>
        <p:blipFill>
          <a:blip r:embed="rId1"/>
          <a:stretch/>
        </p:blipFill>
        <p:spPr>
          <a:xfrm>
            <a:off x="5257800" y="2362320"/>
            <a:ext cx="37101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25FC-79CF-4C10-A0A7-BCB327F3F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Cont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legislated, or identified by Subject Matter Expert (S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o what degree content is to be learned based on performance standard in 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5-14A.jpg"/>
          <p:cNvPicPr/>
          <p:nvPr/>
        </p:nvPicPr>
        <p:blipFill>
          <a:blip r:embed="rId1"/>
          <a:stretch/>
        </p:blipFill>
        <p:spPr>
          <a:xfrm>
            <a:off x="5486400" y="1600200"/>
            <a:ext cx="2841480" cy="188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5-14B.jpg"/>
          <p:cNvPicPr/>
          <p:nvPr/>
        </p:nvPicPr>
        <p:blipFill>
          <a:blip r:embed="rId2"/>
          <a:stretch/>
        </p:blipFill>
        <p:spPr>
          <a:xfrm>
            <a:off x="5334120" y="365760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BEA4-AB07-4D26-9AF0-358CEB041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Metho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ethods is an extensive topic and is covered in more detail in following chap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ethods can be distinguished by several factors including where they occ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n the job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job instruction training, coaching, performance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ff the job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classroom,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 based: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, computer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7871-28DE-4747-BE4B-C0FB18B28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Metho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and retention are best achieved through the use of methods that promot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productive responses;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reby the trainee actively uses the training content rather than passively watches, listens, or imitates th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y organizations find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lended training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combination of approaches to training, is the bes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C83B-8882-4A94-930B-95F5E3657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Active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5486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actice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Physical or mental rehearsal of a task, skill, or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ing trainees with opportunities to practice performing a training task or using knowledge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5-17.jpg"/>
          <p:cNvPicPr/>
          <p:nvPr/>
        </p:nvPicPr>
        <p:blipFill>
          <a:blip r:embed="rId1"/>
          <a:stretch/>
        </p:blipFill>
        <p:spPr>
          <a:xfrm>
            <a:off x="5943600" y="2666880"/>
            <a:ext cx="292572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1349-AE2B-433F-8817-6AF35727E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e-practic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rategies or interventions that can be implemented prior to a training 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. Attentional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. Metacogni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1756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acognition: self-regulatory process  that helps people guide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. Advance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4191120" indent="0">
              <a:spcBef>
                <a:spcPts val="70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F3D8-D1CF-430D-A41F-94C0D5103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384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e-practice conditions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. Go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mastery or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 Preparato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.  Pre-practice brief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specific to team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5-19.jpg"/>
          <p:cNvPicPr/>
          <p:nvPr/>
        </p:nvPicPr>
        <p:blipFill>
          <a:blip r:embed="rId1"/>
          <a:stretch/>
        </p:blipFill>
        <p:spPr>
          <a:xfrm>
            <a:off x="5962680" y="2666880"/>
            <a:ext cx="3181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1392-22F8-4083-92EF-055F9B2D0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write training objectives and describe their five elements and thre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actors to consider when deciding to purchase or design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purpose of an RFP and how to creat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ways to determine the content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types of training methods and define blend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8FA0-0DDC-489C-B0B1-D0DEF3C67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31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s of practice during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ssed vs. distribute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le vs. par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ver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sk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eedback or knowledge                            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5-20.jpg"/>
          <p:cNvPicPr/>
          <p:nvPr/>
        </p:nvPicPr>
        <p:blipFill>
          <a:blip r:embed="rId1"/>
          <a:stretch/>
        </p:blipFill>
        <p:spPr>
          <a:xfrm>
            <a:off x="5486400" y="31240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2872-64DE-43F0-AC5C-AF76BE02E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approach to learning reinfor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ine expert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reproducing specific behaviours in similar settings and st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jobs and tasks requi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ive expert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eing able to use knowledge and skills across a range of tasks, settings, and situations. Deeper understanding of the task is required to achieve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76E0-0F15-4B20-8203-4F843447E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n be achieved with more focus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 is given control over their own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ctive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rules, principles, strategies for performance of a task are learned through exploration and experiment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du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s knowledge to the learner, and gives more guidance and structure on what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025D-C1F1-41B3-B066-879059498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an be designed for active learning using several desig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atory/discovery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proceduralized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 fram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ing errors and viewing errors as instrumental fo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ion contro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 as learning can evoke stress and anxiety which can hinder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3D06-A982-40C0-B641-769870AB4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element of active learning is error framing which is discussed in more detail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 stimulates metacognitive activities to a greater extent than proceduralized instruction and helps to explain the effects of active learning strategies on adaptive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021D-D153-471C-BC82-786F94A29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 that encourages trainees to make errors while learning and to learn from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are a form of negative feedback that can have a positive and informative function i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d by providing only basic information or minimal instructions about how to perform a task being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3A48-0844-4B42-8273-2C3903074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are introduced to various problems, invited to explore/solve on their own (active explo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will try different approaches, likely making err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management instru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cessary to avoid frustration and to frame errors posi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avoida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E4EF-A770-46A9-9DDA-251B3BC8C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ror avoidant trai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that explicitly avoids or minimizes trainee errors while learning to perform a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are given detailed, step by step instructions on how to perform a task with the goal of avoid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rrors are made trainer intervenes and corrects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A26B-CC83-4E56-9129-548CAA51D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 of 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s trainees of K/S that need improvement and provides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develop thoughtful strategies and deeper processing of information leading to mental models for task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practice enroute to ma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“error-recovery strateg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exploration to determine reasons for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8B81-9280-4D0F-AA38-DF4C66CA3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-management training is particularly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ost-train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performance of tasks that require adaptive expertise, known as adaptive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ccompanied by error-management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design element for facilitating 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4A50-FAFA-4E89-AD09-0FF4C5B30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practice and active practice, the conditions of practice before and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difference between routine expertise and adaptive expertise and the implications of each for training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ctive learning and describe training design elements to develop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rror-management training and describe when it is most likely to result in positive train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0641-8790-4B43-A9C2-15FEFB21F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odel of Training Effectivenes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ble to add Training Design to this model as shown in Fig 5.1 as influences on training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76F8-2EE2-4894-857B-1EAE3CE45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the main activities involved in the design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elements, components, and writing of 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decision factors related to purchase or design of training and importance of R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factors involved in design of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active learning and design elements that promote adaptive expertise including 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10ED-D2BA-4804-AE6F-3E47578C8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on from the first step of the ISD model (Needs Analysis), the second step is Training Design an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s related to Training Design and Delivery are explored in the next five chapters beginning with Training Design in this chap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83E8-7403-4F8A-A107-D9B40F227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67" name="Picture 4" descr="F1-2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2C41-F3D8-4924-9647-1F2591C55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Objectiv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tement of what trainees are expected to be able to do after a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5-6.jpg"/>
          <p:cNvPicPr/>
          <p:nvPr/>
        </p:nvPicPr>
        <p:blipFill>
          <a:blip r:embed="rId1"/>
          <a:stretch/>
        </p:blipFill>
        <p:spPr>
          <a:xfrm>
            <a:off x="4846680" y="182880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8198-3B74-41C6-B34F-CE24C8E5E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riting Training Objectiv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objectives should include five key elements of the desired outco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to perform the desired behavi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actual behavi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behaviour to be demonst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the behaviour to be demonst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tandard by which the behaviour will be judg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69DC-5E01-4A4C-A892-4DA97D8DF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riting Training Objective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l written objectives should contain three key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5-8.jpg"/>
          <p:cNvPicPr/>
          <p:nvPr/>
        </p:nvPicPr>
        <p:blipFill>
          <a:blip r:embed="rId1"/>
          <a:stretch/>
        </p:blipFill>
        <p:spPr>
          <a:xfrm>
            <a:off x="5303880" y="2133720"/>
            <a:ext cx="38401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EDC8-6511-45FB-AB35-395A6E90E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or Design Decis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of packag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mediat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cilla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tential to custo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nefits from others’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tensiv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ten less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18:16:43Z</dcterms:modified>
  <cp:revision>302</cp:revision>
  <dc:subject/>
  <dc:title>Chapter 5</dc:title>
</cp:coreProperties>
</file>