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A300-84E0-4057-8474-FDB0F798D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0FE7-1E60-45D7-A964-5A055B3DF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F6D1-4C96-45CE-B584-58E70098B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D8D1-2E04-41C6-979B-5D025AE05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4FCF-C33A-4835-A2AE-49D9A863C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107D-7259-49F5-A5BE-0D5956879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7DAC-DDA9-4046-838F-77232730E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7C05-BEE3-4EBB-94BE-20E6CA668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2FBE-59F0-4DFD-9A41-F53B3BA24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8F9-D4E5-474B-AD51-1BFDA6FF3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0E68-B5D4-4D26-AE0A-45DEBA99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28600" y="4266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2385-57FC-4973-A6C3-277F6622A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B89A-F29D-4373-A36F-48FD09864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5156-AEBE-41ED-9884-C83BFD026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5998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10724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6B65-6127-40BD-BC54-52C610EA5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87BE-E996-4872-AE1E-33C5D20D6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CE3F-1E38-4F5E-B435-28D044EAE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059E-E4FF-4A8D-9C7C-CC28EF9BF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0DB1-5BAC-415F-A38D-64499A1B2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24080" y="-360"/>
            <a:ext cx="6019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2C27-3B83-4742-85C5-2F4A3D337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5D28D-DABB-4A4B-B69E-D2A623182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1072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A1E44-0653-44B6-9B8A-D0D169C1C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59984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0724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B10B-3698-4C16-9BDF-49855F4E0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DA71-8C6C-436B-816B-DB558869B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5D16-DF35-4707-AD64-A76735AB5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Chapter Fiv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aining Desig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5-1.jpg"/>
          <p:cNvPicPr/>
          <p:nvPr/>
        </p:nvPicPr>
        <p:blipFill>
          <a:blip r:embed="rId1"/>
          <a:stretch/>
        </p:blipFill>
        <p:spPr>
          <a:xfrm>
            <a:off x="3276720" y="26668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ED57-5773-48B8-A25A-5AE7BE169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 of intern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rganization’s jar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organization’s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ternal content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ud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 and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8EF2-6573-4592-B609-94BA1C9F9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6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Decision Consideration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Important factors to consider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and expertise to               desig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me ( i.e., how soon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3160" indent="-447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 needs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5-11.jpg"/>
          <p:cNvPicPr/>
          <p:nvPr/>
        </p:nvPicPr>
        <p:blipFill>
          <a:blip r:embed="rId1"/>
          <a:stretch/>
        </p:blipFill>
        <p:spPr>
          <a:xfrm>
            <a:off x="6019920" y="2438280"/>
            <a:ext cx="24685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D121-0ECE-4B0B-B140-B7352711A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Request for Proposal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RFP is a document that outlines to potential vendors and consultants an organization’s training and project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P’s include sections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company and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of project and statement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on how to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48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of service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FB1E-09D2-4354-8921-6960EAE8B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ucial stage as it must be based on training needs an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ighest priority question: “What is to be learned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analysis and training objectives guide cont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5-13.jpg"/>
          <p:cNvPicPr/>
          <p:nvPr/>
        </p:nvPicPr>
        <p:blipFill>
          <a:blip r:embed="rId1"/>
          <a:stretch/>
        </p:blipFill>
        <p:spPr>
          <a:xfrm>
            <a:off x="5257800" y="2362320"/>
            <a:ext cx="37101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3790-BAB6-4C2C-B96B-075D527C7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Content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egislated, or identified by Subject Matter Expert (S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o what degree content is to be learned based on performance standard in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5-14A.jpg"/>
          <p:cNvPicPr/>
          <p:nvPr/>
        </p:nvPicPr>
        <p:blipFill>
          <a:blip r:embed="rId1"/>
          <a:stretch/>
        </p:blipFill>
        <p:spPr>
          <a:xfrm>
            <a:off x="5486400" y="1600200"/>
            <a:ext cx="2841480" cy="188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5-14B.jpg"/>
          <p:cNvPicPr/>
          <p:nvPr/>
        </p:nvPicPr>
        <p:blipFill>
          <a:blip r:embed="rId2"/>
          <a:stretch/>
        </p:blipFill>
        <p:spPr>
          <a:xfrm>
            <a:off x="5334120" y="3657600"/>
            <a:ext cx="3200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2103-11E1-4D35-9626-A9FD2C6B4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is an extensive topic and is covered in more detail in following chap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methods can be distinguished by several factors including where they occ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n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job instruction training, coaching, performance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ff the job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classroom,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52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echnology based: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-learning, computer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0E0A-52E2-497F-944D-EE495EC11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Method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rning and retention are best achieved through the use of methods that promot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productive responses;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reby the trainee actively uses the training content rather than passively watches, listens, or imitates the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y organizations find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lended training,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combination of approaches to training, is the bes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28E6-C55D-4C8A-A3BF-FBBAAB72B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Active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548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actice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Physical or mental rehearsal of a task, skill, or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practi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ing trainees with opportunities to practice performing a training task or using knowledge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5-17.jpg"/>
          <p:cNvPicPr/>
          <p:nvPr/>
        </p:nvPicPr>
        <p:blipFill>
          <a:blip r:embed="rId1"/>
          <a:stretch/>
        </p:blipFill>
        <p:spPr>
          <a:xfrm>
            <a:off x="5943600" y="2666880"/>
            <a:ext cx="292572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AB4B-D7FD-4A2B-91F9-EA9D23A5B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rategies or interventions that can be implemented prior to a training pro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 Attentional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Metacogni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17560" indent="-396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tacognition: self-regulatory process  that helps people guid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92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Advance organ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4191120" indent="0">
              <a:spcBef>
                <a:spcPts val="70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03F8-6B39-41C4-AE3B-02ECA6599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384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e-practice conditions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cont'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Goal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mastery or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Prepara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.  Pre-practice brief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(specific to team trai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5-19.jpg"/>
          <p:cNvPicPr/>
          <p:nvPr/>
        </p:nvPicPr>
        <p:blipFill>
          <a:blip r:embed="rId1"/>
          <a:stretch/>
        </p:blipFill>
        <p:spPr>
          <a:xfrm>
            <a:off x="5962680" y="2666880"/>
            <a:ext cx="3181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B70F-7988-4107-8D68-5E8ADF785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nd write training objectives and describe their five elements and thre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factors to consider when deciding to purchase or design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purpose of an RFP and how to create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ways to determine the content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types of training methods and define blend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709A-16A0-4561-B6ED-5AE06BDFF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Conditions of Practice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31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s of practice during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ed vs. distribute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ole vs. par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sk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edback or knowledge                            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5-20.jpg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0EA3-800C-4420-99B3-3CD1B6246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approach to learning reinfo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reproducing specific behaviours in similar settings and st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jobs and tasks 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aptive expert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eing able to use knowledge and skills across a range of tasks, settings, and situations. Deeper understanding of the task is required to achieve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55E8-E5E4-4C9E-A5D8-E82D875DC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achieved with more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 is given control over their own 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rules, principles, strategies for performance of a task are learned through exploration and experiment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u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s knowledge to the learner, and gives more guidance and structure on what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03F7-FBF5-4B5B-AE6E-A114BCF6B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can be designed for active learning using several design el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atory/discovery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ead of proceduraliz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 fram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errors and viewing errors as instrumental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otion contr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 as learning can evoke stress and anxiety which can hinder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8398-6333-45B9-A66C-4807ABE5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Active  Learning and Adaptive Expertise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element of active learning is error framing which is discussed in more detail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 stimulates metacognitive activities to a greater extent than proceduralized instruction and helps to explain the effects of active learning strategies on adaptive learning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0FE1-C222-4D79-80FF-C1EAEEC96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that encourages trainees to make errors while learning and to learn from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are a form of negative feedback that can have a positive and informative function i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d by providing only basic information or minimal instructions about how to perform a task being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DD83-1F6B-4AB2-959D-909182B63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introduced to various problems, invited to explore/solve on their own (active explo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will try different approaches, likely making err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management instru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necessary to avoid frustration and to frame errors posi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trast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ror-avoida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235B-C439-413C-9FDE-3A2D5596C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ror avoidant train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that explicitly avoids or minimizes trainee errors while learning to perform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are given detailed, step by step instructions on how to perform a task with the goal of avoiding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errors are made trainer intervenes and corrects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1405-43D9-4C45-B363-640DF7216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tages of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s trainees of K/S that need improvement and provides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develop thoughtful strategies and deeper processing of information leading to mental models for task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practice enroute to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es learn “error-recovery strategi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exploration to determine reasons for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34BB-7E4F-4E45-8F3A-E853A7E15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Error-Management Training (EMT)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-management training is particularly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ost-train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performance of tasks that require adaptive expertise, known as adapt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ccompanied by error-management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design element for facilitating 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5EA8-1EAB-4C65-93D5-337355BA4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Learning Outcom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actice and active practice, the conditions of practice before and during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difference between routine expertise and adaptive expertise and the implications of each for training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active learning and describe training design elements to develop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rror-management training and describe when it is most likely to result in positive trai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29B1-3A63-4E8D-8C72-057001480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Model of Training Effectiveness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ble to add Training Design to this model as shown in Fig 5.1 as influences on training 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of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F187-133A-40A4-8C54-2AC91A48C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the main activities involved in the design of a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elements, components, and writing of trai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decision factors related to purchase or design of training and importance of R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factors involved in design of trai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active learning and design elements that promote adaptive expertise including error-managem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5153-0EBB-4201-B185-1F5E09B69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on from the first step of the ISD model (Needs Analysis), the second step is Training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 related to Training Design and Delivery are explored in the next five chapters beginning with Training Design in this chap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D0F3-F62B-4A3E-90AC-021AB1CB8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Instructional Systems Design Model</a:t>
            </a:r>
            <a:endParaRPr b="1" lang="en-US" sz="3600" spc="-1" strike="noStrike">
              <a:solidFill>
                <a:srgbClr val="ccffcc"/>
              </a:solidFill>
              <a:latin typeface="Arial"/>
            </a:endParaRPr>
          </a:p>
        </p:txBody>
      </p:sp>
      <p:pic>
        <p:nvPicPr>
          <p:cNvPr id="67" name="Picture 4" descr="F1-2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CF29-A55A-46E9-B650-D5C34FB33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tement of what trainees are expected to be able to do after a train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5-6.jpg"/>
          <p:cNvPicPr/>
          <p:nvPr/>
        </p:nvPicPr>
        <p:blipFill>
          <a:blip r:embed="rId1"/>
          <a:stretch/>
        </p:blipFill>
        <p:spPr>
          <a:xfrm>
            <a:off x="4846680" y="182880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8395-378B-4FF7-84E7-34C4DE761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ining objectives should include five key elements of the desired 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o perform the desired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ctual behavi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the behaviour to be demonstr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5176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tandard by which the behaviour will be judg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B7CB-F96E-49F9-B4EC-B97B39EE2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Writing Training Objectives 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 written objectives should contain three key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11120" indent="-5108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5-8.jpg"/>
          <p:cNvPicPr/>
          <p:nvPr/>
        </p:nvPicPr>
        <p:blipFill>
          <a:blip r:embed="rId1"/>
          <a:stretch/>
        </p:blipFill>
        <p:spPr>
          <a:xfrm>
            <a:off x="5303880" y="2133720"/>
            <a:ext cx="3840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5D95-BE76-45ED-B329-CEAAAF497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2362320" y="62485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10 by Nelson Education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240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ccffcc"/>
                </a:solidFill>
                <a:latin typeface="Arial"/>
              </a:rPr>
              <a:t>Purchase or Design Decision</a:t>
            </a:r>
            <a:endParaRPr b="1" lang="en-US" sz="4000" spc="-1" strike="noStrike">
              <a:solidFill>
                <a:srgbClr val="cc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dvantages of packag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mediat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tential to custo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efits from others’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xtensiv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4557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ten less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0:55:57Z</dcterms:created>
  <dc:creator>Tracey A. Starrett</dc:creator>
  <dc:description/>
  <dc:language>en-US</dc:language>
  <cp:lastModifiedBy>Karina</cp:lastModifiedBy>
  <dcterms:modified xsi:type="dcterms:W3CDTF">2009-10-27T18:16:43Z</dcterms:modified>
  <cp:revision>302</cp:revision>
  <dc:subject/>
  <dc:title>Chapter 5</dc:title>
</cp:coreProperties>
</file>