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C972-1C07-4B03-BAC6-E6379BDF3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7D89-999C-4A7B-851E-EAC424A1D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F0FC-6EDE-4F96-8973-0A09978FE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B607-6151-4003-820C-F319F525F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2B33-682E-4BDD-9380-1C508E3FD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9A4B-3334-4FF7-8DC8-FE2273FE0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8224-2702-4FBE-A830-A555895DA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9C46-95D8-42F6-870A-E87F6C224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38C1-4BB0-46C4-AEF7-0E38E178F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A3CF-C1CC-4210-B84F-7E59AC78B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EBB0-6410-47DB-9CBB-1A6FC5BE7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29EF-751C-4DBD-AA20-8C0C57F13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48F9-8215-4152-AAD3-64D198F46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E911-50B8-4769-979A-44DE5105E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7251-0005-4AE1-BF14-55EE9ADEA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E53E-485E-4C62-AB6F-F4420306D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019B-D836-4379-A948-0B59E946B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F549-8E73-44B2-8E1E-BE60CC356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DE0C-F8B5-40F9-9733-FC23FBF1E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DDE1-DAE3-4B3A-A0AD-64E809259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F4B8-5929-445F-BE73-B1CEAAC20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1C5F-E347-407A-A21B-CE64941CA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1EF996F-2A2D-4CD5-94F4-DE2A7929AE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F2928CC-CAFB-46B7-B7CF-7F165B04C8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B2A1267-2059-42CA-AA6F-7E3DEEB4F4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C5E0DC2-8E18-4ABC-9B04-BAF028BA75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5EEA9A-172D-4759-99B4-9FB1BA9E34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4F3302F-A6E5-443D-B005-93C02E4FD2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7EAFA49-F7D3-4B74-B2E4-D6119B1BFE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F4046C3-1E64-40BB-948E-C3A19C579A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F4E31DE-47EE-4AAC-8384-F9CD32D2A4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7BDC2DF-4FB4-4384-B711-7B9E7A6523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0D8CD27-C6CD-4230-9390-2C71B98CBF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4C0704-1ED7-43C8-B0E7-FE8F88D8A3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BEDD-7DEC-4F0B-AE02-D6FE0073F6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48520"/>
            <a:ext cx="47242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232D-0CA4-4F18-BD6E-714D2BDE80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Six</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ff-the-Job Training Methods</a:t>
            </a:r>
            <a:endParaRPr b="0" lang="en-US" sz="6000" spc="-1" strike="noStrike">
              <a:solidFill>
                <a:srgbClr val="000000"/>
              </a:solidFill>
              <a:latin typeface="Arial"/>
            </a:endParaRPr>
          </a:p>
        </p:txBody>
      </p:sp>
      <p:pic>
        <p:nvPicPr>
          <p:cNvPr id="51" name="Picture 6" descr="6-1.jpg"/>
          <p:cNvPicPr/>
          <p:nvPr/>
        </p:nvPicPr>
        <p:blipFill>
          <a:blip r:embed="rId1"/>
          <a:stretch/>
        </p:blipFill>
        <p:spPr>
          <a:xfrm>
            <a:off x="1905120" y="3429000"/>
            <a:ext cx="5532480" cy="274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E9F8-4110-4892-9D0C-45777E0689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udio-visual Methods</a:t>
            </a:r>
            <a:endParaRPr b="1" lang="en-US" sz="4000" spc="-1" strike="noStrike">
              <a:solidFill>
                <a:srgbClr val="ccffcc"/>
              </a:solidFill>
              <a:latin typeface="Arial"/>
            </a:endParaRPr>
          </a:p>
        </p:txBody>
      </p:sp>
      <p:sp>
        <p:nvSpPr>
          <p:cNvPr id="9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 to various forms of media</a:t>
            </a:r>
            <a:r>
              <a:rPr b="1" lang="en-US" sz="3600" spc="-1" strike="noStrike">
                <a:solidFill>
                  <a:srgbClr val="000000"/>
                </a:solidFill>
                <a:latin typeface="Arial"/>
              </a:rPr>
              <a:t> </a:t>
            </a:r>
            <a:r>
              <a:rPr b="1" lang="en-US" sz="2000" spc="-1" strike="noStrike">
                <a:solidFill>
                  <a:srgbClr val="000000"/>
                </a:solidFill>
                <a:latin typeface="Arial"/>
              </a:rPr>
              <a:t>(i.e., video, slides)</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illustrate behaviour</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key points (slid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ace of training</a:t>
            </a:r>
            <a:endParaRPr b="0" lang="en-US" sz="2800" spc="-1" strike="noStrike">
              <a:solidFill>
                <a:srgbClr val="000000"/>
              </a:solidFill>
              <a:latin typeface="Arial"/>
            </a:endParaRPr>
          </a:p>
          <a:p>
            <a:pPr lvl="1" marL="853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learning objectiv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overwhelm trainees with information</a:t>
            </a:r>
            <a:endParaRPr b="0" lang="en-US" sz="2800" spc="-1" strike="noStrike">
              <a:solidFill>
                <a:srgbClr val="000000"/>
              </a:solidFill>
              <a:latin typeface="Arial"/>
            </a:endParaRPr>
          </a:p>
          <a:p>
            <a:pPr lvl="1" marL="85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6" descr="6-10.jpg"/>
          <p:cNvPicPr/>
          <p:nvPr/>
        </p:nvPicPr>
        <p:blipFill>
          <a:blip r:embed="rId1"/>
          <a:stretch/>
        </p:blipFill>
        <p:spPr>
          <a:xfrm>
            <a:off x="6095880" y="3657600"/>
            <a:ext cx="28450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C971-7915-4982-AEB7-C3D5BDA70A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97"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ees discuss, analyze, and solve problems based on real situation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realism into learning</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 with variety of problems, goals, facts, conditions, and conflic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how to make decis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creativity, think independ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B97D-EC48-4376-B34F-B3AA91FD95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trainer must have qualifications to analyze material</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ime must be provided</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osphere must be supportive</a:t>
            </a:r>
            <a:endParaRPr b="0" lang="en-US" sz="2800" spc="-1" strike="noStrike">
              <a:solidFill>
                <a:srgbClr val="000000"/>
              </a:solidFill>
              <a:latin typeface="Arial"/>
            </a:endParaRPr>
          </a:p>
          <a:p>
            <a:pPr lvl="1" marL="853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yles/Method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problem vs. multiple situat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audio-visual, live case/operational consul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9D21-686A-441F-A608-717F824C15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5"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hould be based in reality</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in writing cas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relevant detail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6" descr="6-13.jpg"/>
          <p:cNvPicPr/>
          <p:nvPr/>
        </p:nvPicPr>
        <p:blipFill>
          <a:blip r:embed="rId1"/>
          <a:stretch/>
        </p:blipFill>
        <p:spPr>
          <a:xfrm>
            <a:off x="2819520" y="3962520"/>
            <a:ext cx="3195360" cy="21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50D3-B5FA-4FDD-BC35-5B513534082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thod in which one problem is presented for analysis</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milar to case study but a much smaller scale</a:t>
            </a:r>
            <a:endParaRPr b="0" lang="en-US" sz="31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vantag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to stress one topic or concep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o can be read during training session</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effect of differences in reading tim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can draw on their own experi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672A-F1F0-43CE-A185-FA81176F9B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background material</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tic for people with limited work experience</a:t>
            </a:r>
            <a:endParaRPr b="0" lang="en-US" sz="2800" spc="-1" strike="noStrike">
              <a:solidFill>
                <a:srgbClr val="000000"/>
              </a:solidFill>
              <a:latin typeface="Arial"/>
            </a:endParaRPr>
          </a:p>
          <a:p>
            <a:pPr lvl="1" marL="1087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learners into groups with a note taker  and spokesperson. After group discussion, each spokesperson presents answer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read/discuss as on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C2F8-B909-42A9-8774-3CAE09CD446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observe a model and attempt to replicat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social cognitive theory and observational lear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for learning skills and behaviours, not for factual inf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four learning principle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modelling)</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earsal (practice)</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re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93EC-513B-4D90-8E3C-3AC05396A2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 </a:t>
            </a:r>
            <a:endParaRPr b="1" lang="en-US" sz="4000" spc="-1" strike="noStrike">
              <a:solidFill>
                <a:srgbClr val="ccffcc"/>
              </a:solidFill>
              <a:latin typeface="Arial"/>
            </a:endParaRPr>
          </a:p>
        </p:txBody>
      </p:sp>
      <p:sp>
        <p:nvSpPr>
          <p:cNvPr id="122"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should be someone with whom trainee can identify, and perceive as credibl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down observed behaviour into steps, practiced one at a tim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inforcement and motivation to use training</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earning, and reinforcement on the job can ensure transfer of training</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4F98-7676-4B49-81D5-A3295710CD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26"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practice new behaviours in a safe environment</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doing and experienc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for acquiring interpersonal skills,  human relations skills, and changing attitud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hases: development, enactment, debrief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riefing is most important phase and should take 2-3X longer than enactmen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B944-5D6E-40F4-BC78-AE458381E87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arious methods to overcome possible resistance</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operly developed and objectives understoo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incorrect and correct behaviours during debrief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DC32-E37E-413F-9109-462A7704EA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off-the-job instructional methods </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advantages and disadvantages of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how and when to use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physical and psychological fidelity</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factors to consider when choosing an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ptitude-treatment interaction and discuss its implications for training</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a blended delivery approach to training</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4611-AD9C-4C6A-900E-5FD02F10AC7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4"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 characterized by structured competition that allow trainees to learn specific skills</a:t>
            </a:r>
            <a:endParaRPr b="0" lang="en-US" sz="2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 to focus on development of problem-solving, interpersonal skills, and decision-making skill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learning from experience, active practice and direct application to real problem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from simple to complex, individual to team games</a:t>
            </a:r>
            <a:endParaRPr b="0" lang="en-US" sz="2800" spc="-1" strike="noStrike">
              <a:solidFill>
                <a:srgbClr val="000000"/>
              </a:solidFill>
              <a:latin typeface="Arial"/>
            </a:endParaRPr>
          </a:p>
          <a:p>
            <a:pPr lvl="1" marL="80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Picture 5" descr="6-19.jpg"/>
          <p:cNvPicPr/>
          <p:nvPr/>
        </p:nvPicPr>
        <p:blipFill>
          <a:blip r:embed="rId1"/>
          <a:stretch/>
        </p:blipFill>
        <p:spPr>
          <a:xfrm>
            <a:off x="0" y="368280"/>
            <a:ext cx="1903320" cy="127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0587-DE54-4478-B3BE-86DC48640E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outside of classroom, and computer based training applic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of learning wrong th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relation to trai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fun of game or w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5" descr="6-21.jpg"/>
          <p:cNvPicPr/>
          <p:nvPr/>
        </p:nvPicPr>
        <p:blipFill>
          <a:blip r:embed="rId1"/>
          <a:stretch/>
        </p:blipFill>
        <p:spPr>
          <a:xfrm>
            <a:off x="6553080" y="2209680"/>
            <a:ext cx="2024280" cy="351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5926-4B3E-4034-9851-4040362ACCC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4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learning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ol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games are realistic</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well prepared</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link to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debriefing session</a:t>
            </a:r>
            <a:endParaRPr b="0" lang="en-US" sz="2800" spc="-1" strike="noStrike">
              <a:solidFill>
                <a:srgbClr val="000000"/>
              </a:solidFill>
              <a:latin typeface="Arial"/>
            </a:endParaRPr>
          </a:p>
        </p:txBody>
      </p:sp>
      <p:pic>
        <p:nvPicPr>
          <p:cNvPr id="145" name="Picture 6" descr="6-22.jpg"/>
          <p:cNvPicPr/>
          <p:nvPr/>
        </p:nvPicPr>
        <p:blipFill>
          <a:blip r:embed="rId1"/>
          <a:stretch/>
        </p:blipFill>
        <p:spPr>
          <a:xfrm>
            <a:off x="6062760" y="1523880"/>
            <a:ext cx="3081240" cy="462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FE7F-A00C-4C42-AA82-DADA90A570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49"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of operating models of physical/social events designed to represent reality</a:t>
            </a:r>
            <a:endParaRPr b="0" lang="en-US" sz="32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create situations by simplifying them</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when training in real world might involve danger, extreme costs, or is impractical</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simulators: mechanical devices similar to those on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8495-F8BD-42F6-8EAB-F9C979AB52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3" name="PlaceHolder 2"/>
          <p:cNvSpPr>
            <a:spLocks noGrp="1"/>
          </p:cNvSpPr>
          <p:nvPr>
            <p:ph/>
          </p:nvPr>
        </p:nvSpPr>
        <p:spPr>
          <a:xfrm>
            <a:off x="228240" y="1599840"/>
            <a:ext cx="8915400" cy="4800600"/>
          </a:xfrm>
          <a:prstGeom prst="rect">
            <a:avLst/>
          </a:prstGeom>
          <a:noFill/>
          <a:ln w="0">
            <a:noFill/>
          </a:ln>
        </p:spPr>
        <p:txBody>
          <a:bodyPr anchor="t">
            <a:normAutofit/>
          </a:bodyPr>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r>
              <a:rPr b="0" lang="en-US" sz="3200" spc="-1" strike="noStrike">
                <a:solidFill>
                  <a:srgbClr val="000000"/>
                </a:solidFill>
                <a:latin typeface="Arial"/>
              </a:rPr>
              <a:t> realistic and sometimes cost effectiv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a:t>
            </a:r>
            <a:r>
              <a:rPr b="0" lang="en-US" sz="3200" spc="-1" strike="noStrike">
                <a:solidFill>
                  <a:srgbClr val="000000"/>
                </a:solidFill>
                <a:latin typeface="Arial"/>
              </a:rPr>
              <a:t> some are expensive to develop and stage</a:t>
            </a:r>
            <a:endParaRPr b="0" lang="en-US" sz="32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5" descr="6-24A.jpg"/>
          <p:cNvPicPr/>
          <p:nvPr/>
        </p:nvPicPr>
        <p:blipFill>
          <a:blip r:embed="rId1"/>
          <a:stretch/>
        </p:blipFill>
        <p:spPr>
          <a:xfrm>
            <a:off x="4648320" y="2133720"/>
            <a:ext cx="2111400" cy="1404720"/>
          </a:xfrm>
          <a:prstGeom prst="rect">
            <a:avLst/>
          </a:prstGeom>
          <a:ln w="0">
            <a:noFill/>
          </a:ln>
        </p:spPr>
      </p:pic>
      <p:pic>
        <p:nvPicPr>
          <p:cNvPr id="155" name="Picture 6" descr="6-24B.jpg"/>
          <p:cNvPicPr/>
          <p:nvPr/>
        </p:nvPicPr>
        <p:blipFill>
          <a:blip r:embed="rId2"/>
          <a:stretch/>
        </p:blipFill>
        <p:spPr>
          <a:xfrm>
            <a:off x="5257800" y="4114800"/>
            <a:ext cx="1463760" cy="2200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8B20-1614-48AE-80BC-53D4C4AD46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5345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ensure presence of</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fidelity:</a:t>
            </a:r>
            <a:r>
              <a:rPr b="0" lang="en-US" sz="2800" spc="-1" strike="noStrike">
                <a:solidFill>
                  <a:srgbClr val="000000"/>
                </a:solidFill>
                <a:latin typeface="Arial"/>
              </a:rPr>
              <a:t> similarity of physical aspects of the simulation to actual job</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ical fidelity:</a:t>
            </a:r>
            <a:r>
              <a:rPr b="0" lang="en-US" sz="2800" spc="-1" strike="noStrike">
                <a:solidFill>
                  <a:srgbClr val="000000"/>
                </a:solidFill>
                <a:latin typeface="Arial"/>
              </a:rPr>
              <a:t> similarity of psychological conditions of the simulation to actual work environment</a:t>
            </a:r>
            <a:endParaRPr b="0" lang="en-US" sz="2800" spc="-1" strike="noStrike">
              <a:solidFill>
                <a:srgbClr val="000000"/>
              </a:solidFill>
              <a:latin typeface="Arial"/>
            </a:endParaRPr>
          </a:p>
        </p:txBody>
      </p:sp>
      <p:pic>
        <p:nvPicPr>
          <p:cNvPr id="160" name="Picture 7" descr="6-25.jpg"/>
          <p:cNvPicPr/>
          <p:nvPr/>
        </p:nvPicPr>
        <p:blipFill>
          <a:blip r:embed="rId1"/>
          <a:stretch/>
        </p:blipFill>
        <p:spPr>
          <a:xfrm>
            <a:off x="4343400" y="4495680"/>
            <a:ext cx="2475000" cy="164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7459-0FB5-47AF-87A6-92320589061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Experiential Learning</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 games, and simulations are also known as experiential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are immersed in the experience, actively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ch learning style would these methods appeal 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self-study as a learning method – is this passive or active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C002-130F-40DB-9ECF-D442584922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6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er develops skills through responsible involvement in a real, complex, and stressful problem</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re to involve and challenge trainee</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identifying real problems, developing solutions, testing them in real world and evaluating consequenc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rainees from passive information receivers to problem solver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s more adult learning principles than other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BB74-C8C7-47EE-ACF4-6430BF0793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72" name="PlaceHolder 2"/>
          <p:cNvSpPr>
            <a:spLocks noGrp="1"/>
          </p:cNvSpPr>
          <p:nvPr>
            <p:ph/>
          </p:nvPr>
        </p:nvSpPr>
        <p:spPr>
          <a:xfrm>
            <a:off x="380880" y="144756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must be challenging and involve real organizational concern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n group skills may be necessary</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some release from normal work</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s (4-7)</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groups, trainees accountable for proposed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71B9-DC90-4DCC-839E-6DF780B8F1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76" name="PlaceHolder 2"/>
          <p:cNvSpPr>
            <a:spLocks noGrp="1"/>
          </p:cNvSpPr>
          <p:nvPr>
            <p:ph/>
          </p:nvPr>
        </p:nvSpPr>
        <p:spPr>
          <a:xfrm>
            <a:off x="228240" y="1600200"/>
            <a:ext cx="5638680" cy="45720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highly involved the trainee in the learning process and the more the training situation resembles the job, the more likely it is that transfer will occur</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of a training method depends on its achievement of training objective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Picture 6" descr="6-29.jpg"/>
          <p:cNvPicPr/>
          <p:nvPr/>
        </p:nvPicPr>
        <p:blipFill>
          <a:blip r:embed="rId1"/>
          <a:stretch/>
        </p:blipFill>
        <p:spPr>
          <a:xfrm>
            <a:off x="5837400" y="2286000"/>
            <a:ext cx="330660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7285-1E08-4695-84EF-7B2632DD29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59" name="PlaceHolder 2"/>
          <p:cNvSpPr>
            <a:spLocks noGrp="1"/>
          </p:cNvSpPr>
          <p:nvPr>
            <p:ph/>
          </p:nvPr>
        </p:nvSpPr>
        <p:spPr>
          <a:xfrm>
            <a:off x="22824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visual method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incid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6208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ur model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learning</a:t>
            </a:r>
            <a:endParaRPr b="0" lang="en-US" sz="2800" spc="-1" strike="noStrike">
              <a:solidFill>
                <a:srgbClr val="000000"/>
              </a:solidFill>
              <a:latin typeface="Arial"/>
            </a:endParaRPr>
          </a:p>
        </p:txBody>
      </p:sp>
      <p:sp>
        <p:nvSpPr>
          <p:cNvPr id="61" name="Text Box 7"/>
          <p:cNvSpPr/>
          <p:nvPr/>
        </p:nvSpPr>
        <p:spPr>
          <a:xfrm>
            <a:off x="3115080" y="5013360"/>
            <a:ext cx="2109960" cy="33732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Table 6.1 in 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7DDD-5F39-4105-B34E-C1AFCABA121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1" name="PlaceHolder 2"/>
          <p:cNvSpPr>
            <a:spLocks noGrp="1"/>
          </p:cNvSpPr>
          <p:nvPr>
            <p:ph/>
          </p:nvPr>
        </p:nvSpPr>
        <p:spPr>
          <a:xfrm>
            <a:off x="228240" y="1599840"/>
            <a:ext cx="838188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to consider</a:t>
            </a:r>
            <a:endParaRPr b="0" lang="en-US" sz="32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nd resource availability</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job application</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skill and preferenc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characteristics and preferences</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C8A0-4702-48FC-9550-0BD11063631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3"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5"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titude treatment interaction:</a:t>
            </a:r>
            <a:r>
              <a:rPr b="0" lang="en-US" sz="2400" spc="-1" strike="noStrike">
                <a:solidFill>
                  <a:srgbClr val="000000"/>
                </a:solidFill>
                <a:latin typeface="Arial"/>
              </a:rPr>
              <a:t> when a  training method has differential effects on trainees with                    different aptitu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inforces that training methods must be suited to trainee aptitud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6" name=""/>
          <p:cNvGraphicFramePr/>
          <p:nvPr/>
        </p:nvGraphicFramePr>
        <p:xfrm>
          <a:off x="3962520" y="1676520"/>
          <a:ext cx="5029200" cy="2836800"/>
        </p:xfrm>
        <a:graphic>
          <a:graphicData uri="http://schemas.openxmlformats.org/drawingml/2006/table">
            <a:tbl>
              <a:tblPr/>
              <a:tblGrid>
                <a:gridCol w="1395360"/>
                <a:gridCol w="1576440"/>
                <a:gridCol w="2057400"/>
              </a:tblGrid>
              <a:tr h="72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e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01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bility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bil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6E98-C085-44D4-BA35-B69EF18EA9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9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a Blended Delivery Approac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mix and combine a variety of methods to  suit objectives, needs of learners, resources of organiz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participants to learn in ways that work for them (learning styles), allows multiple learning outcomes to be achieved, and increases likelihood of training being applied on the job (training transf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rs/Trainers must be skilled in a variety of methods to select and deliver them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649A-90BB-4754-A9DD-DDCB77B7AE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10 of the most common off-the-job instructional training methods and their advantages and disadvant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elements to ensure effective use of each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how to choose from amongst the instructional training methods and main factors to consi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he importance of combining methods and a blended delivery approa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C71C-0998-44E9-BEC5-12DFDD48947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a:t>
            </a:r>
            <a:br>
              <a:rPr sz="3600"/>
            </a:br>
            <a:r>
              <a:rPr b="1" lang="en-US" sz="3600" spc="-1" strike="noStrike">
                <a:solidFill>
                  <a:srgbClr val="ccffcc"/>
                </a:solidFill>
                <a:latin typeface="Arial"/>
              </a:rPr>
              <a:t> Instructional Methods</a:t>
            </a:r>
            <a:endParaRPr b="1" lang="en-US" sz="3600" spc="-1" strike="noStrike">
              <a:solidFill>
                <a:srgbClr val="ccffcc"/>
              </a:solidFill>
              <a:latin typeface="Arial"/>
            </a:endParaRPr>
          </a:p>
        </p:txBody>
      </p:sp>
      <p:sp>
        <p:nvSpPr>
          <p:cNvPr id="65"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nstructional methods take place within classroom setting, outside of a classroom setting, and are even incorporated  into computer-based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instructional methods are combined to create a “program” or “course”, which may also be referred to as a training session, workshop, symposium, or conference depending on the length and scope of th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140C-DE67-4A8E-B4F2-F68809BA12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69"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vary in degree of trainee involv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least) to  Active Learning (mos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the most widely used method of training in Canada and U.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of all training in Canada takes place in a classroom set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7" descr="6-5.jpg"/>
          <p:cNvPicPr/>
          <p:nvPr/>
        </p:nvPicPr>
        <p:blipFill>
          <a:blip r:embed="rId1"/>
          <a:stretch/>
        </p:blipFill>
        <p:spPr>
          <a:xfrm>
            <a:off x="4618080" y="1752480"/>
            <a:ext cx="4525920" cy="30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97ED-ECF3-4D56-A4F1-923724184D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4" name="PlaceHolder 2"/>
          <p:cNvSpPr>
            <a:spLocks noGrp="1"/>
          </p:cNvSpPr>
          <p:nvPr>
            <p:ph/>
          </p:nvPr>
        </p:nvSpPr>
        <p:spPr>
          <a:xfrm>
            <a:off x="228240" y="1523520"/>
            <a:ext cx="8915400" cy="4800600"/>
          </a:xfrm>
          <a:prstGeom prst="rect">
            <a:avLst/>
          </a:prstGeom>
          <a:noFill/>
          <a:ln w="0">
            <a:noFill/>
          </a:ln>
        </p:spPr>
        <p:txBody>
          <a:bodyPr anchor="t">
            <a:normAutofit/>
          </a:bodyPr>
          <a:p>
            <a:pPr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3200" spc="-1" strike="noStrike">
                <a:solidFill>
                  <a:srgbClr val="000000"/>
                </a:solidFill>
                <a:latin typeface="Arial"/>
              </a:rPr>
              <a:t>Trainer organizes content &amp; presents orally; little listener involvement</a:t>
            </a:r>
            <a:endParaRPr b="0" lang="en-US" sz="3200" spc="-1" strike="noStrike">
              <a:solidFill>
                <a:srgbClr val="000000"/>
              </a:solidFill>
              <a:latin typeface="Arial"/>
            </a:endParaRPr>
          </a:p>
          <a:p>
            <a:pPr indent="0">
              <a:spcBef>
                <a:spcPts val="2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2800" spc="-1" strike="noStrike">
                <a:solidFill>
                  <a:srgbClr val="000000"/>
                </a:solidFill>
                <a:latin typeface="Arial"/>
              </a:rPr>
              <a:t> </a:t>
            </a: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Transfer large amounts in short time. Minimal $$$</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Listeners all get same message</a:t>
            </a:r>
            <a:endParaRPr b="0" lang="en-US" sz="2600" spc="-1" strike="noStrike">
              <a:solidFill>
                <a:srgbClr val="000000"/>
              </a:solidFill>
              <a:latin typeface="Arial"/>
            </a:endParaRPr>
          </a:p>
          <a:p>
            <a:pPr lvl="1" marL="743040" indent="0">
              <a:spcBef>
                <a:spcPts val="20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0" lang="en-US" sz="2800" spc="-1" strike="noStrike">
                <a:solidFill>
                  <a:srgbClr val="000000"/>
                </a:solidFill>
                <a:latin typeface="Arial"/>
              </a:rPr>
              <a:t> </a:t>
            </a:r>
            <a:r>
              <a:rPr b="1"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Not effective for development of skills/change        of attitudes. Forced passive learning</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Does not accommodate differences in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DD85-072F-45AD-A51F-372E9D06792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specific objectiv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arrange info in logical order</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be notes onto paper, etc.</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into segments (approx. 15m)</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material/exercise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6" descr="6-7.jpg"/>
          <p:cNvPicPr/>
          <p:nvPr/>
        </p:nvPicPr>
        <p:blipFill>
          <a:blip r:embed="rId1"/>
          <a:stretch/>
        </p:blipFill>
        <p:spPr>
          <a:xfrm>
            <a:off x="6629400" y="2286000"/>
            <a:ext cx="2514600" cy="29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CAC9-EC84-4451-B6ED-A8459CD6F9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3"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8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facilitates analysis of a problem or case</a:t>
            </a:r>
            <a:endParaRPr b="0" lang="en-US" sz="3200" spc="-1" strike="noStrike">
              <a:solidFill>
                <a:srgbClr val="000000"/>
              </a:solidFill>
              <a:latin typeface="Arial"/>
            </a:endParaRPr>
          </a:p>
          <a:p>
            <a:pPr marL="3884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8440" indent="-388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purposes:</a:t>
            </a:r>
            <a:endParaRPr b="0" lang="en-US" sz="2800" spc="-1" strike="noStrike">
              <a:solidFill>
                <a:srgbClr val="000000"/>
              </a:solidFill>
              <a:latin typeface="Arial"/>
            </a:endParaRPr>
          </a:p>
          <a:p>
            <a:pPr marL="3884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members recognize what they do not know but should</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for members to get answers to questio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members to get advice on concer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haring ideas and deriving a common wisdom</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y to learn about one another</a:t>
            </a:r>
            <a:endParaRPr b="0" lang="en-US" sz="2600" spc="-1" strike="noStrike">
              <a:solidFill>
                <a:srgbClr val="000000"/>
              </a:solidFill>
              <a:latin typeface="Arial"/>
            </a:endParaRPr>
          </a:p>
          <a:p>
            <a:pPr marL="388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A2DD-9B4C-4540-914E-37C85D7BB9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7"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articipative cultur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questions back to group</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reluct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focus on topic</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domin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groups small (4-6)</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well-defined tasks, with time frames</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6" descr="6-9.jpg"/>
          <p:cNvPicPr/>
          <p:nvPr/>
        </p:nvPicPr>
        <p:blipFill>
          <a:blip r:embed="rId1"/>
          <a:stretch/>
        </p:blipFill>
        <p:spPr>
          <a:xfrm>
            <a:off x="5791320" y="2743200"/>
            <a:ext cx="3195360" cy="21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7T19:48:08Z</dcterms:modified>
  <cp:revision>248</cp:revision>
  <dc:subject/>
  <dc:title>Chapter 6</dc:title>
</cp:coreProperties>
</file>