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5E00-C07F-4539-B048-363628E3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0386-978F-49F6-8C95-B3A8DB98F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E960-F947-4731-8991-0CA3DBDCD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9308-F6C6-41AA-B0E3-722F82ED9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27D3-27F8-4EB3-8BB9-F39E5C394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C339-CFB9-4CD1-9A91-97445BA7C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ACCF-DE4D-433C-8CC6-B93ACB5BA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98E6-2FC5-49E0-AA41-BF5F30198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BE87-EE1B-4C1A-86B4-2773810DD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5273-4DEA-4C9F-A0C4-C7B011E2A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8633-3A23-4FF7-B9F1-BD5E4AD79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1A72-3C40-496D-A5B7-FB4E157D3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1DDC-148C-43F9-B65E-0421A3718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1B5F-9D1B-44DE-9089-2C563D154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1418-5356-401A-9BD1-42A8A8B72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5AB8-10DD-47B1-8DF3-52AEA2BBE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3241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CAA9-9095-454E-818C-FEB4F3A85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S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0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7-1.jpg"/>
          <p:cNvPicPr/>
          <p:nvPr/>
        </p:nvPicPr>
        <p:blipFill>
          <a:blip r:embed="rId1"/>
          <a:stretch/>
        </p:blipFill>
        <p:spPr>
          <a:xfrm>
            <a:off x="2714760" y="3429000"/>
            <a:ext cx="4265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7B45-A793-465A-B383-56D1405D0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be managed differently from other typ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tegrated with other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must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must be properly chosen and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E may need train-the-train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A40-EEC3-45BE-8013-BA52CED81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vice that helps an employee perform his/her job (while on the j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/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shoot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ol or ga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 or check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7-11.jpg"/>
          <p:cNvPicPr/>
          <p:nvPr/>
        </p:nvPicPr>
        <p:blipFill>
          <a:blip r:embed="rId1"/>
          <a:stretch/>
        </p:blipFill>
        <p:spPr>
          <a:xfrm>
            <a:off x="5786280" y="2286000"/>
            <a:ext cx="2633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C22B-7AEC-4B2F-AA8F-9A6A9636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visual performance aid with concepts from graphic artists’ 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reading, colour, boldness, graph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performance aids might save time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use of technology (electronic performance support syste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B73D-7772-4F58-B4E0-97D23893C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ainees are exposed to many jobs, functions and areas within an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ten used as an ongoing career-development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learn a variety of skills required for current and future jobs or colleagues’ jobs as done in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ross trai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FD94-276B-47F7-BC66-1BA2571BE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roved knowledge and ski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opportunities for career advanc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igher job satisfaction and sal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AACD-D0E8-4E29-B074-B9D4B4810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 so that trainees receive sufficient exposure and experience on each assignment to make it worth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ilor assignments to each individual’s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 rotation should be only one component of a training program and learning process and supplemented with classroom instruction, coaching or men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94C2-0C48-4011-9197-2E46891FA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for skilled trades that combines OJT and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in Mediev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component (80%) teache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omponent (20%) teaches theory done in community colleges or “labour ha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system covers over  65 regulated occupations in four occupationa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1F1F-4BB9-4438-8D77-E8018A33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700280"/>
          <a:ext cx="7978680" cy="4465440"/>
        </p:xfrm>
        <a:graphic>
          <a:graphicData uri="http://schemas.openxmlformats.org/drawingml/2006/table">
            <a:tbl>
              <a:tblPr/>
              <a:tblGrid>
                <a:gridCol w="1995480"/>
                <a:gridCol w="2179440"/>
                <a:gridCol w="1810080"/>
                <a:gridCol w="1993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e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Vehi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w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M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&amp;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sty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597C-2A2C-4C11-B860-8040D1A14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 receives supervised training by a journeyperson; must pass a provincial exam to become 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period lasts between 1 and 5 years depending on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s are focused on collective training needs of specific occupations within broad industri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ECDB-0369-47C6-B793-D9E6EE0C5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learned are transferable within an occupation across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eal program (developed in 1950’s) promotes this transferability in specific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is advantageous when regional supply and demand fluct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DAFB-906B-4C23-B04B-5EBCC168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n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st the advantages and disadvantages of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how and when to use each training metho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oaching process and how to design a coach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0116-2D07-4D1F-83E7-409F7B28C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557360"/>
          <a:ext cx="8713800" cy="5349960"/>
        </p:xfrm>
        <a:graphic>
          <a:graphicData uri="http://schemas.openxmlformats.org/drawingml/2006/table">
            <a:tbl>
              <a:tblPr/>
              <a:tblGrid>
                <a:gridCol w="2327040"/>
                <a:gridCol w="2127240"/>
                <a:gridCol w="2000520"/>
                <a:gridCol w="2259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ial/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inter-provincial 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es &amp;  administer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tuition for in- school tr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school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OJ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income support during in-school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 and 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nd pays costs of on-the-job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7E39-5751-4AA3-B8B4-DF69A9BF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OI on investment in apprentices for emplo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skilled tradespersons increasing as current labour force 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cus on program enhancement/ expansion to meet needs of current/futur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7-21.jpg"/>
          <p:cNvPicPr/>
          <p:nvPr/>
        </p:nvPicPr>
        <p:blipFill>
          <a:blip r:embed="rId1"/>
          <a:stretch/>
        </p:blipFill>
        <p:spPr>
          <a:xfrm>
            <a:off x="5446800" y="2857680"/>
            <a:ext cx="3697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EF0B-BCE6-4FCA-A92E-07557244C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values influencing youth and parents to select other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attract wider demographic into apprenticeship labour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luctance to offer apprenticeship programs and rely on existing labour market to meet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HR and Training professionals important in championing apprenticeships as effective recruitment and reten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B7C8-3299-4417-922F-CEB1BEA6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-on-one individualized learning experience in which a more experienced and knowledgeable person is formally called upon to help another person develop their insights and techniques pertinent to the accomplishments of thei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CFB0-9FEB-4C37-9BA1-4F8FFCAA5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lements in coach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opportunities in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upon set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trengths; weaknesses only if inhibi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, sett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identified, long-term pla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performs tasks, reports to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460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itted into employee’s goals and organization’s long-term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6558-A52D-42A2-A448-A51E964EA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tion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enga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3415-EE24-43CA-9762-2E52C9D48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in enhancing interpersonal skills, communication skills, leadership skills, and self-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working relationships, job attitudes, increases rate of advancement and salar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in productivity, quality, customer service, retention; decreases in customer complaints,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6EB9-7E2D-4DE6-8B19-46E1EC0E9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571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alogue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 must be able to relate to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should be par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-27.jpg"/>
          <p:cNvPicPr/>
          <p:nvPr/>
        </p:nvPicPr>
        <p:blipFill>
          <a:blip r:embed="rId1"/>
          <a:stretch/>
        </p:blipFill>
        <p:spPr>
          <a:xfrm>
            <a:off x="5857920" y="2143080"/>
            <a:ext cx="31068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2186-B43F-473A-9BEF-EC49D5018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n which a senior member of an organization takes a personal interest in the career of a junio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coaching and counseling to a junior employee (the protég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d mentoring programs are emerging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narrower than coaching: career development of “junior” 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s generally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4B6A-9F6E-456C-B988-5EC5C9FAB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oles of a Men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, sponsorship, exposure, visibility, protection, and provision of challeng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, listening, counselling, feedback, role model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ACE5-4ED6-4F16-B340-05D2AA2D8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entoring and describe how to develop a formal mentor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advantages/disadvantages of on-the-job and off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7BA8-4E3F-45CD-9035-AF2F89CBE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career progress of underrepresen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culture and values to newer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on accumulated wisdom of season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7-30.jpg"/>
          <p:cNvPicPr/>
          <p:nvPr/>
        </p:nvPicPr>
        <p:blipFill>
          <a:blip r:embed="rId1"/>
          <a:stretch/>
        </p:blipFill>
        <p:spPr>
          <a:xfrm>
            <a:off x="6000840" y="1428840"/>
            <a:ext cx="2967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CB2C-C6A7-4ECD-801A-EF2106E53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larity of roles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ent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mentors and protégé(s)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both mentors and protégé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mentor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pport fro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enefits for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00E7-00A4-4DE1-886D-4943A3D11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-the-job 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wide variety of training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rol training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numbers of trainees can be trained at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much more costly than on-the-job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raining environment differs from workplace, there are challenges regarding transfer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276-E295-4888-A162-40DFF59A9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2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ikelihood of application of training on-the-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-33A.jpg"/>
          <p:cNvPicPr/>
          <p:nvPr/>
        </p:nvPicPr>
        <p:blipFill>
          <a:blip r:embed="rId1"/>
          <a:stretch/>
        </p:blipFill>
        <p:spPr>
          <a:xfrm>
            <a:off x="5929200" y="221472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0095-774C-4DFC-BD82-B90C9D41F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ions in work environment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damage when training on actu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service, or slow down of production,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2359-C0B8-4892-99D6-D92A9C32E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ich Method is Bes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ost important is mixing and combining methods (blended delivery approach) to best suit a particular training need, objective, or any organiza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-33B.jpg"/>
          <p:cNvPicPr/>
          <p:nvPr/>
        </p:nvPicPr>
        <p:blipFill>
          <a:blip r:embed="rId1"/>
          <a:stretch/>
        </p:blipFill>
        <p:spPr>
          <a:xfrm>
            <a:off x="5572080" y="2928960"/>
            <a:ext cx="2529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4C1B-B996-4454-A9B7-85DFF4C78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as most common yet also most misused and the need for planning and structure to achiev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pecific methods, their advantages and disadvantages, and the considera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mportance of selecting most appropriate method to meet training need, and value of blended delivery approach with off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9E02-261A-4083-AA0C-E55AFB57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inee receives instruction and training at work station from a supervisor or experienced cowo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ommon approach 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useful for small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misuse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not well planned or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ssigned to train have no training to be tr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transfer of undesirable habits/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approach most 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ADA-6B7C-49FB-B15C-E0ED0D6A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ized, structured, and systematic approach to 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s the principles of behaviour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7-5.jpg"/>
          <p:cNvPicPr/>
          <p:nvPr/>
        </p:nvPicPr>
        <p:blipFill>
          <a:blip r:embed="rId1"/>
          <a:stretch/>
        </p:blipFill>
        <p:spPr>
          <a:xfrm>
            <a:off x="4643280" y="3357720"/>
            <a:ext cx="41086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D835-9508-4773-B239-6C4DDF9B8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the job into small tasks, prepares equipment and supplies and allocates time to learn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mmunication strategy and what trainee already knows and nature of the task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ut trainee at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guarantee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build interest and show pers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A743-84F4-46FF-99F2-EE50AFD8B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, showing, explaining, and           demonstrat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nee how to perform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explain key points in                   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see whole job                      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7-7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C02C-1D9C-4675-AF4C-2E473852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9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performs task under guidance from instructor who provides feedback and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rainee to perform less difficult parts of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perform entir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7-8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FC4-E8C8-4817-AFA1-B2B37EDF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monitors performance and provid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tapers off instruction as employee gains confidenc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7-9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49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17:09Z</dcterms:modified>
  <cp:revision>299</cp:revision>
  <dc:subject/>
  <dc:title>Chapter 7</dc:title>
</cp:coreProperties>
</file>