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0A7-84DA-446F-98D3-CF675A031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2133-4CD2-4508-96CE-DBBD53184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844-A6E0-4388-BA6A-FE549FC50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AFDA-861A-409C-A7D0-9901E4825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5A21-4CA4-44D8-A355-5A235E709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9D62-EBEB-42EC-8805-54136AE1E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B71B-F6B6-41BD-A779-90597422F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E0E8-E76C-4129-86D4-4F6EC1FD2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E93B-BF8D-4E90-9822-63D3CBAB6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9FDA-37B1-4B77-A8D0-9FA27C7F8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1BC6-ADDA-4908-825C-E025EAB31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EFD4-805D-4107-9AF4-389534D8C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5B02-EAA3-4AC2-9764-96FABC066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5620-E2C7-4CA4-BF67-08A77E0C4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5567-58E2-4D2E-ABD2-54414EAF73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F1C5-0E15-4A93-841F-AAECBD7561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4C1D-B438-4764-BDE8-DB8AE3158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7EB6-CFDB-4799-BB8E-3B9F4D544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9EC3-FAD4-4790-82E9-B66019366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31E4-59CD-4E46-9860-ABF37E05A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88C2-6EDC-4C51-B006-5F9EE26BA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5C4B-3803-44FF-8F5F-4071B415F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E9F3-740D-4AFA-B335-D106F15F7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1090-8B74-4D28-A58C-90B637519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02D2-48B2-47E1-85D8-FD722B19C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5-1.jpg"/>
          <p:cNvPicPr/>
          <p:nvPr/>
        </p:nvPicPr>
        <p:blipFill>
          <a:blip r:embed="rId1"/>
          <a:stretch/>
        </p:blipFill>
        <p:spPr>
          <a:xfrm>
            <a:off x="327672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A6F6-6C53-4C85-8F5E-453E2CD63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intern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rganization’s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organization’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al content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1704-7D22-44DC-BFD8-5301499AA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Decision Considera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mportant factors to consider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nd expertise to               desig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( i.e., how so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need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5-11.jpg"/>
          <p:cNvPicPr/>
          <p:nvPr/>
        </p:nvPicPr>
        <p:blipFill>
          <a:blip r:embed="rId1"/>
          <a:stretch/>
        </p:blipFill>
        <p:spPr>
          <a:xfrm>
            <a:off x="6019920" y="2438280"/>
            <a:ext cx="2468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829-729B-4ED5-8B3E-D0CE47FB5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Request for Propos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RFP is a document that outlines to potential vendors and consultants an organization’s training and projec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’s include section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company and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project and statement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on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0A29-236E-4062-8B8C-CCE0D0503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ucial stage as it must be based on training need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priority question: “What is to be learned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 and training objectives guide cont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5-13.jpg"/>
          <p:cNvPicPr/>
          <p:nvPr/>
        </p:nvPicPr>
        <p:blipFill>
          <a:blip r:embed="rId1"/>
          <a:stretch/>
        </p:blipFill>
        <p:spPr>
          <a:xfrm>
            <a:off x="5257800" y="2362320"/>
            <a:ext cx="3710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ED88-17A7-44CF-B808-441B8E45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egislated, or identified by Subject Matter Expert (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 what degree content is to be learned based on performance standard in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5-14A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188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5-14B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317A-31F3-4581-9145-423625D35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is an extensive topic and is covered in more detail in following chap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can be distinguished by several factors including where they occ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ob instruction training, coaching, performance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ff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lassroom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 based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, computer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4B1D-D96D-4AB4-A8EF-6C8E613B2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and retention are best achieved through the use of methods that promot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productive responses;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by the trainee actively uses the training content rather than passively watches, listens, or imitates th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organizations fi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ended training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bination of approaches to training, is the be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B69F-08C9-4F7C-A248-8D45F27C1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Active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actic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hysical or mental rehearsal of a task, skill, 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ing trainees with opportunities to practice performing a training task or using knowledg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5-17.jpg"/>
          <p:cNvPicPr/>
          <p:nvPr/>
        </p:nvPicPr>
        <p:blipFill>
          <a:blip r:embed="rId1"/>
          <a:stretch/>
        </p:blipFill>
        <p:spPr>
          <a:xfrm>
            <a:off x="5943600" y="2666880"/>
            <a:ext cx="292572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B99-31F7-4839-9C33-FAE1C5320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ies or interventions that can be implemented prior to a training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 Attention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Metacogni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1756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acognition: self-regulatory process  that helps people guid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419112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1B7C-04D6-4BAD-B960-DDE94AD7E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38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Go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astery or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Prepara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.  Pre-practice brief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specific to team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5-19.jpg"/>
          <p:cNvPicPr/>
          <p:nvPr/>
        </p:nvPicPr>
        <p:blipFill>
          <a:blip r:embed="rId1"/>
          <a:stretch/>
        </p:blipFill>
        <p:spPr>
          <a:xfrm>
            <a:off x="5962680" y="2666880"/>
            <a:ext cx="3181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E384-33B2-481E-B930-8ECD072D5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write training objectives and describe their five elements and thre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actors to consider when deciding to purchase or design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urpose of an RFP and how to creat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s to determine the content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ypes of training methods and define blend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D7BD-91E1-4D2A-A92B-C1207FA2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31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s of practice dur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le vs. pa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sk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edback or knowledge                            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5-20.jpg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CE60-C771-4627-8B54-558A40C6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 to learning rein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reproducing specific behaviours in similar settings and st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jobs and tasks 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ing able to use knowledge and skills across a range of tasks, settings, and situations. Deeper understanding of the task is required to achieve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7411-415A-4B31-B744-230241FEB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achieved with more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is given control over their own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rules, principles, strategies for performance of a task are learned through exploration and experi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knowledge to the learner, and gives more guidance and structure on what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4259-67FA-4057-861B-5B344032A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be designed for active learning using several desig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ory/discovery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proceduraliz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fra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errors and viewing errors as instrument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ion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as learning can evoke stress and anxiety which can hinder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58D8-2D83-4B35-A1ED-FB7BA6CA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active learning is error framing which is discussed in more detail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stimulates metacognitive activities to a greater extent than proceduralized instruction and helps to explain the effects of active learning strategies on adaptiv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B093-2B49-4573-B47E-D647E8EF8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that encourages trainees to make errors while learning and to learn from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are a form of negative feedback that can have a positive and informative function i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providing only basic information or minimal instructions about how to perform a task being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FD53-D3FA-4886-8F34-954BE3959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introduced to various problems, invited to explore/solve on their own (active expl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will try different approaches, likely making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cessary to avoid frustration and to frame errors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avoida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8A83-DD9C-45C7-A007-8A8DA1951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avoidant trai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hat explicitly avoids or minimizes trainee errors while learning to perform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given detailed, step by step instructions on how to perform a task with the goal of avoi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rrors are made trainer intervenes and correct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526-E726-462F-992C-D7187EF9A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trainees of K/S that need improvement and provide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develop thoughtful strategies and deeper processing of information leading to mental models for tas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practice enroute to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“error-recovery strateg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exploration to determine reasons fo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91D2-D098-452A-92AC-FB3F3D373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management training is particular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st-train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erformance of tasks that require adaptive expertise, known as adap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ccompanied by error-management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design element for facilitating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FE9A-D7CB-41B4-BEF3-CE3B7FD1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actice and active practice, the conditions of practice before and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 between routine expertise and adaptive expertise and the implications of each for train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ctive learning and describe training design elements to develop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rror-management training and describe when it is most likely to result in positive trai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6E2E-1E7E-40D0-BC00-064C73A1E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 of Training Effectivenes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ble to add Training Design to this model as shown in Fig 5.1 as influences on training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4B7-068B-4406-971F-98C521A66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main activities involved in the design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lements, components, and writing of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decision factors related to purchase or design of training and importance of R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factors involved in desig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ctive learning and design elements that promote adaptive expertise including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D361-8EE3-4CD9-B575-B22168D72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n from the first step of the ISD model (Needs Analysis), the second step is Training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related to Training Design and Delivery are explored in the next five chapters beginning with Training Design in this cha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1A4E-DDFD-4074-9A4E-B1CE61275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7" name="Picture 4" descr="F1-2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07F6-5B7A-41C6-B6EE-6EDB53C99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tement of what trainees are expected to be able to do after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5-6.jpg"/>
          <p:cNvPicPr/>
          <p:nvPr/>
        </p:nvPicPr>
        <p:blipFill>
          <a:blip r:embed="rId1"/>
          <a:stretch/>
        </p:blipFill>
        <p:spPr>
          <a:xfrm>
            <a:off x="4846680" y="18288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2B06-526A-4DEF-A18E-321180275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objectives should include five key elements of the desired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o perform the desired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ctual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tandard by which the behaviour will be jud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F6A0-8048-41FF-9952-E0F622374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written objectives should contain three ke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5-8.jpg"/>
          <p:cNvPicPr/>
          <p:nvPr/>
        </p:nvPicPr>
        <p:blipFill>
          <a:blip r:embed="rId1"/>
          <a:stretch/>
        </p:blipFill>
        <p:spPr>
          <a:xfrm>
            <a:off x="5303880" y="2133720"/>
            <a:ext cx="3840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F5C4-5A3D-40D5-8886-D12425FE3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of packag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custo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efits from others’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les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18:16:43Z</dcterms:modified>
  <cp:revision>302</cp:revision>
  <dc:subject/>
  <dc:title>Chapter 5</dc:title>
</cp:coreProperties>
</file>