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C6F5-A51A-46AE-B742-B06D2EE28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78DE-869E-4DC6-9C19-7ABEAAA74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3DC7-5513-4E16-B913-47838FF88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4A98-A578-40E7-AE38-1C36CBB27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D461-5AD9-47E6-B2E5-AFE63B6B1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1B8F-82B9-4B5F-974B-F85838945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7962-0C1F-49F2-BB9F-C3811E273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B829-4C3E-4F43-A529-C560C492F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775E-A942-4B27-9DF8-B9634A9E5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7935-E78A-4031-A232-DC0B12F02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D9D4-4EE3-4092-BCAF-0993B5AA7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7117-6ABA-4E24-83E7-F4F9A22B2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4C9E-46AE-440A-A289-A8D376D2D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265A-8BDD-4700-A2B5-22681765C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8BDE-4241-4D0D-9E7E-39512BFA54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F394-1CA1-4987-A1FE-1FFE12C62D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5A94-3CF8-4A2B-A72B-38CFD5C56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2A3A-1713-42EC-9A3B-FDE52BED7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A43C-AEFE-4209-A668-D60CA9D40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91E0-AB7B-4718-833D-9722749F8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EE37-0E3A-4840-8930-C0EAD2AF0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1703-610A-4A9B-92ED-80B523599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53F0-6B57-428F-9381-74D114F25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13D7-EA94-4DA0-AF29-A37412A50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017E-B327-4F92-A009-F17982A5B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iv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Desig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5-1.jpg"/>
          <p:cNvPicPr/>
          <p:nvPr/>
        </p:nvPicPr>
        <p:blipFill>
          <a:blip r:embed="rId1"/>
          <a:stretch/>
        </p:blipFill>
        <p:spPr>
          <a:xfrm>
            <a:off x="3276720" y="26668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04C3-70A8-4DAE-A291-07E9B05F6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or Design Decis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internal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nd confidenti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rganization’s jar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organization’s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ternal content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de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A9BA-2436-4B53-9286-5F2CCE19A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6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Decision Considera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mportant factors to consider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and expertise to               design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( i.e., how soon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 need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5-11.jpg"/>
          <p:cNvPicPr/>
          <p:nvPr/>
        </p:nvPicPr>
        <p:blipFill>
          <a:blip r:embed="rId1"/>
          <a:stretch/>
        </p:blipFill>
        <p:spPr>
          <a:xfrm>
            <a:off x="6019920" y="2438280"/>
            <a:ext cx="24685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2C6F-0870-4685-96EF-0C51C58C0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Request for Proposa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RFP is a document that outlines to potential vendors and consultants an organization’s training and project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P’s include sections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company and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of project and statement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on how to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servic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BEC8-EBCC-4B0D-9E68-627B99F17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Cont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rucial stage as it must be based on training need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ghest priority question: “What is to be learned?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nalysis and training objectives guide content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5-13.jpg"/>
          <p:cNvPicPr/>
          <p:nvPr/>
        </p:nvPicPr>
        <p:blipFill>
          <a:blip r:embed="rId1"/>
          <a:stretch/>
        </p:blipFill>
        <p:spPr>
          <a:xfrm>
            <a:off x="5257800" y="2362320"/>
            <a:ext cx="37101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5587-C6CB-4F57-980A-50F0939DC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Cont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legislated, or identified by Subject Matter Expert (S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o what degree content is to be learned based on performance standard in 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5-14A.jpg"/>
          <p:cNvPicPr/>
          <p:nvPr/>
        </p:nvPicPr>
        <p:blipFill>
          <a:blip r:embed="rId1"/>
          <a:stretch/>
        </p:blipFill>
        <p:spPr>
          <a:xfrm>
            <a:off x="5486400" y="1600200"/>
            <a:ext cx="2841480" cy="188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5-14B.jpg"/>
          <p:cNvPicPr/>
          <p:nvPr/>
        </p:nvPicPr>
        <p:blipFill>
          <a:blip r:embed="rId2"/>
          <a:stretch/>
        </p:blipFill>
        <p:spPr>
          <a:xfrm>
            <a:off x="5334120" y="365760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573E-D3E6-4043-8078-35E5165FF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Metho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ethods is an extensive topic and is covered in more detail in following chap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ethods can be distinguished by several factors including where they occ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n the job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job instruction training, coaching, performance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ff the job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classroom,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echnology based: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learning, computer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9F24-E477-4B8B-AA68-2C1B89BAA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Metho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and retention are best achieved through the use of methods that promot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productive responses;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reby the trainee actively uses the training content rather than passively watches, listens, or imitates th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y organizations find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blended training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combination of approaches to training, is the bes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31A7-B7E8-43A5-88E5-7B5F106D3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Active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5486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actice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Physical or mental rehearsal of a task, skill, or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practi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ing trainees with opportunities to practice performing a training task or using knowledge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5-17.jpg"/>
          <p:cNvPicPr/>
          <p:nvPr/>
        </p:nvPicPr>
        <p:blipFill>
          <a:blip r:embed="rId1"/>
          <a:stretch/>
        </p:blipFill>
        <p:spPr>
          <a:xfrm>
            <a:off x="5943600" y="2666880"/>
            <a:ext cx="292572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63B8-E91F-4724-AF9F-F183AA99B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e-practic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rategies or interventions that can be implemented prior to a training pro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. Attentional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. Metacognitiv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1756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tacognition: self-regulatory process  that helps people guide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. Advance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4191120" indent="0">
              <a:spcBef>
                <a:spcPts val="70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B044-FABF-4CB9-BEA4-39B1AE07F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384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e-practice conditions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. Go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mastery or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 Preparator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.  Pre-practice brief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specific to team 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5-19.jpg"/>
          <p:cNvPicPr/>
          <p:nvPr/>
        </p:nvPicPr>
        <p:blipFill>
          <a:blip r:embed="rId1"/>
          <a:stretch/>
        </p:blipFill>
        <p:spPr>
          <a:xfrm>
            <a:off x="5962680" y="2666880"/>
            <a:ext cx="3181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A429-19FD-496D-97FF-4AF3478B0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write training objectives and describe their five elements and thre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actors to consider when deciding to purchase or design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purpose of an RFP and how to create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ways to determine the content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types of training methods and define blend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6E52-0626-4DE3-A93D-EE4B3762A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31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tions of practice during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3160"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ssed vs. distribute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le vs. par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ver-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sk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eedback or knowledge                            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5-20.jpg"/>
          <p:cNvPicPr/>
          <p:nvPr/>
        </p:nvPicPr>
        <p:blipFill>
          <a:blip r:embed="rId1"/>
          <a:stretch/>
        </p:blipFill>
        <p:spPr>
          <a:xfrm>
            <a:off x="5486400" y="31240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2654-419D-4025-BE3D-C4CA32560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approach to learning reinfor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ine expert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reproducing specific behaviours in similar settings and st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lex jobs and tasks requi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ptive expert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being able to use knowledge and skills across a range of tasks, settings, and situations. Deeper understanding of the task is required to achieve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982F-E9DD-4D37-AA9D-B5F5AD05C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n be achieved with more focus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 is given control over their own 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ctive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rules, principles, strategies for performance of a task are learned through exploration and experiment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du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s knowledge to the learner, and gives more guidance and structure on what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B1D6-EA41-4544-A47A-5FF0925A6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can be designed for active learning using several design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atory/discovery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ead of proceduralized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 fram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ing errors and viewing errors as instrumental fo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tion contro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 as learning can evoke stress and anxiety which can hinder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40D6-0220-4E33-AEE3-F12EE1C1B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element of active learning is error framing which is discussed in more detail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learning stimulates metacognitive activities to a greater extent than proceduralized instruction and helps to explain the effects of active learning strategies on adaptive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27A1-F925-4D67-BDA9-2E6A2AFBF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ing that encourages trainees to make errors while learning and to learn from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 are a form of negative feedback that can have a positive and informative function i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d by providing only basic information or minimal instructions about how to perform a task being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1595-6B89-4D25-990A-DFCFB89BD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are introduced to various problems, invited to explore/solve on their own (active explo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will try different approaches, likely making err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management instru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ecessary to avoid frustration and to frame errors posi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avoida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81A7-CE6D-4C9C-8015-99ABE840C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ror avoidant trai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that explicitly avoids or minimizes trainee errors while learning to perform a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are given detailed, step by step instructions on how to perform a task with the goal of avoidin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rrors are made trainer intervenes and corrects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D79B-DFD7-47B3-8230-1E6FBE0AF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 of 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s trainees of K/S that need improvement and provides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develop thoughtful strategies and deeper processing of information leading to mental models for task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practice enroute to ma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learn “error-recovery strateg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exploration to determine reasons for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E20F-9E13-43C7-ABDC-92840318A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-management training is particularly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ost-train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performance of tasks that require adaptive expertise, known as adaptive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ccompanied by error-management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design element for facilitating 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46B0-A8AE-4604-AD52-FA229FDAF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practice and active practice, the conditions of practice before and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difference between routine expertise and adaptive expertise and the implications of each for training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ctive learning and describe training design elements to develop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error-management training and describe when it is most likely to result in positive training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1C45-0841-40AE-85CC-4372E9E7F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odel of Training Effectivenes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ble to add Training Design to this model as shown in Fig 5.1 as influences on training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of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5824-649C-481E-BE4E-0948BCB2B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the main activities involved in the design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elements, components, and writing of 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decision factors related to purchase or design of training and importance of R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factors involved in design of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active learning and design elements that promote adaptive expertise including 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A158-1157-4CD7-9C8F-FD4B33C9A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on from the first step of the ISD model (Needs Analysis), the second step is Training Design an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s related to Training Design and Delivery are explored in the next five chapters beginning with Training Design in this chap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8A43-BA5E-4030-8048-F70466315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67" name="Picture 4" descr="F1-2jpg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F334-67D0-45B1-9689-ABBC65D52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Objectiv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tement of what trainees are expected to be able to do after a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5-6.jpg"/>
          <p:cNvPicPr/>
          <p:nvPr/>
        </p:nvPicPr>
        <p:blipFill>
          <a:blip r:embed="rId1"/>
          <a:stretch/>
        </p:blipFill>
        <p:spPr>
          <a:xfrm>
            <a:off x="4846680" y="1828800"/>
            <a:ext cx="4297320" cy="42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F42A-9D92-49F4-87C7-9B76CD713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riting Training Objectiv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objectives should include five key elements of the desired outco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to perform the desired behavi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actual behavi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behaviour to be demonstr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s the behaviour to be demonstr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tandard by which the behaviour will be judg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6635-476F-4A6D-86EA-241520975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riting Training Objective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l written objectives should contain three key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5-8.jpg"/>
          <p:cNvPicPr/>
          <p:nvPr/>
        </p:nvPicPr>
        <p:blipFill>
          <a:blip r:embed="rId1"/>
          <a:stretch/>
        </p:blipFill>
        <p:spPr>
          <a:xfrm>
            <a:off x="5303880" y="2133720"/>
            <a:ext cx="38401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EE14-B33F-4906-8A9C-9BE388A7F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or Design Decis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tages of packag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mediat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cillar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tential to custo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nefits from others’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tensiv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ften less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7T18:16:43Z</dcterms:modified>
  <cp:revision>302</cp:revision>
  <dc:subject/>
  <dc:title>Chapter 5</dc:title>
</cp:coreProperties>
</file>