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988DD-EEF2-43C2-B437-0794C3357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D3D2-56D9-4686-9035-82D64D350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ED555-E3EE-44F0-AD2A-01AF5FBE4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BF9D-BCF7-475E-8F7A-70EB688C3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FA999-CF8C-427A-A223-F377B41AE4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5601-F79A-4E7F-AA98-2DB3A8C5E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08EF8-FC8B-439D-B56C-BFDA088DF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343A7-A1B7-4BD0-8AD3-21BE76369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14E4-0EE7-4989-A6FE-A2DCACB06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2BE3-73BB-4E07-96B2-A3302DE74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B4BB-38CE-4ABB-8166-B9DD82FDE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9DFB-470F-4577-94A0-23D992CA3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3835-C078-4306-862C-61824B02C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6FE1-AC0C-4E49-997C-FE21DE211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B4EE-8229-40FC-A1BE-6A3465BBC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FAE9-5F03-4337-A04C-2A5D9294E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DD1E-D620-4083-A0B1-E3AC2DED7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AEA2-B36E-467A-8171-DAB32A863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4091-0BC3-4947-80AE-E6AF2E568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5F34-C8EA-409B-AEDF-3778C74C2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FF82-2E8E-481A-97D1-7E3EFFB2B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673A-A9A5-41DB-AA2F-EC46D10FE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B043FA3-3139-4E6B-BECA-2623CA9C74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27F91A9-EABD-43D0-A23C-01E3551825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15DD3AF-A2B6-4E60-9499-E5AFFC08BC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E8B86CA-7F4D-4556-8116-587A43275A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C4B5A1B-C4CA-44D0-ACFD-E4CBD38ABA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D30147E-1FED-47E9-9EE8-45C74E2AD0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CB71E09-AAFA-4A15-949A-9E9DF73252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1322F5D-FABB-4A07-B77D-501F9D8FD5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4AB017-FDBE-4306-9323-3711BF6465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18A807-979A-40B3-A445-DF5F75775C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44809C0-E137-4921-B933-123AAC922D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7CBA1D-0FB4-4769-8F14-876E530169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E0BF-9A5B-4E5E-B012-F16FE950A7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47242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FB4B-9FB1-45D6-896A-B72950CC85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Six</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ff-the-Job Training Methods</a:t>
            </a:r>
            <a:endParaRPr b="0" lang="en-US" sz="6000" spc="-1" strike="noStrike">
              <a:solidFill>
                <a:srgbClr val="000000"/>
              </a:solidFill>
              <a:latin typeface="Arial"/>
            </a:endParaRPr>
          </a:p>
        </p:txBody>
      </p:sp>
      <p:pic>
        <p:nvPicPr>
          <p:cNvPr id="51" name="Picture 6" descr="6-1.jpg"/>
          <p:cNvPicPr/>
          <p:nvPr/>
        </p:nvPicPr>
        <p:blipFill>
          <a:blip r:embed="rId1"/>
          <a:stretch/>
        </p:blipFill>
        <p:spPr>
          <a:xfrm>
            <a:off x="1905120" y="3429000"/>
            <a:ext cx="5532480" cy="274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9432-5E7C-4127-9C2E-84E37E1261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udio-visual Methods</a:t>
            </a:r>
            <a:endParaRPr b="1" lang="en-US" sz="4000" spc="-1" strike="noStrike">
              <a:solidFill>
                <a:srgbClr val="ccffcc"/>
              </a:solidFill>
              <a:latin typeface="Arial"/>
            </a:endParaRPr>
          </a:p>
        </p:txBody>
      </p:sp>
      <p:sp>
        <p:nvSpPr>
          <p:cNvPr id="9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 to various forms of media</a:t>
            </a:r>
            <a:r>
              <a:rPr b="1" lang="en-US" sz="3600" spc="-1" strike="noStrike">
                <a:solidFill>
                  <a:srgbClr val="000000"/>
                </a:solidFill>
                <a:latin typeface="Arial"/>
              </a:rPr>
              <a:t> </a:t>
            </a:r>
            <a:r>
              <a:rPr b="1" lang="en-US" sz="2000" spc="-1" strike="noStrike">
                <a:solidFill>
                  <a:srgbClr val="000000"/>
                </a:solidFill>
                <a:latin typeface="Arial"/>
              </a:rPr>
              <a:t>(i.e., video, slides)</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illustrate behaviour</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key points (slid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ace of training</a:t>
            </a:r>
            <a:endParaRPr b="0" lang="en-US" sz="2800" spc="-1" strike="noStrike">
              <a:solidFill>
                <a:srgbClr val="000000"/>
              </a:solidFill>
              <a:latin typeface="Arial"/>
            </a:endParaRPr>
          </a:p>
          <a:p>
            <a:pPr lvl="1" marL="853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learning objectiv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overwhelm trainees with information</a:t>
            </a:r>
            <a:endParaRPr b="0" lang="en-US" sz="2800" spc="-1" strike="noStrike">
              <a:solidFill>
                <a:srgbClr val="000000"/>
              </a:solidFill>
              <a:latin typeface="Arial"/>
            </a:endParaRPr>
          </a:p>
          <a:p>
            <a:pPr lvl="1" marL="85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6" descr="6-10.jpg"/>
          <p:cNvPicPr/>
          <p:nvPr/>
        </p:nvPicPr>
        <p:blipFill>
          <a:blip r:embed="rId1"/>
          <a:stretch/>
        </p:blipFill>
        <p:spPr>
          <a:xfrm>
            <a:off x="6095880" y="3657600"/>
            <a:ext cx="28450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A4C8-2368-492C-BA2A-DC82FEAC48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97"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ees discuss, analyze, and solve problems based on real situation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realism into learning</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 with variety of problems, goals, facts, conditions, and conflic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how to make decis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creativity, think independ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7BA3C-4F04-4894-B5D9-76919FAA32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trainer must have qualifications to analyze material</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ime must be provided</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osphere must be supportive</a:t>
            </a:r>
            <a:endParaRPr b="0" lang="en-US" sz="2800" spc="-1" strike="noStrike">
              <a:solidFill>
                <a:srgbClr val="000000"/>
              </a:solidFill>
              <a:latin typeface="Arial"/>
            </a:endParaRPr>
          </a:p>
          <a:p>
            <a:pPr lvl="1" marL="853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yles/Method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roblem vs. multiple situat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audio-visual, live case/operational consul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D022-298F-427F-9726-FC79007160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5"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hould be based in reality</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in writing cas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relevant detail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6" descr="6-13.jpg"/>
          <p:cNvPicPr/>
          <p:nvPr/>
        </p:nvPicPr>
        <p:blipFill>
          <a:blip r:embed="rId1"/>
          <a:stretch/>
        </p:blipFill>
        <p:spPr>
          <a:xfrm>
            <a:off x="2819520" y="3962520"/>
            <a:ext cx="3195360" cy="21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7EBA-72E4-41F3-9141-5B6DD3CBF1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thod in which one problem is presented for analysis</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milar to case study but a much smaller scale</a:t>
            </a:r>
            <a:endParaRPr b="0" lang="en-US" sz="31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vantag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to stress one topic or concep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o can be read during training session</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effect of differences in reading tim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can draw on their own experi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0FC4-636B-4609-BF78-DEE3E3C7B8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background material</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for people with limited work experience</a:t>
            </a:r>
            <a:endParaRPr b="0" lang="en-US" sz="2800" spc="-1" strike="noStrike">
              <a:solidFill>
                <a:srgbClr val="000000"/>
              </a:solidFill>
              <a:latin typeface="Arial"/>
            </a:endParaRPr>
          </a:p>
          <a:p>
            <a:pPr lvl="1" marL="1087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learners into groups with a note taker  and spokesperson. After group discussion, each spokesperson presents answer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read/discuss as on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1CB0-1E1A-4CBC-A12D-D549930C9F2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observe a model and attempt to replicat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social cognitive theory and observational lear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or learning skills and behaviours, not for factual inf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four learning principle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modelling)</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earsal (practice)</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re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1A1C-B4D3-4EB3-AE7B-BB6A2B62E6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 </a:t>
            </a:r>
            <a:endParaRPr b="1" lang="en-US" sz="4000" spc="-1" strike="noStrike">
              <a:solidFill>
                <a:srgbClr val="ccffcc"/>
              </a:solidFill>
              <a:latin typeface="Arial"/>
            </a:endParaRPr>
          </a:p>
        </p:txBody>
      </p:sp>
      <p:sp>
        <p:nvSpPr>
          <p:cNvPr id="122"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hould be someone with whom trainee can identify, and perceive as credibl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down observed behaviour into steps, practiced one at a tim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inforcement and motivation to use training</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earning, and reinforcement on the job can ensure transfer of training</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9E6A-92A0-4FEF-91FA-1CC91FC230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26"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practice new behaviours in a safe environment</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doing and experienc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acquiring interpersonal skills,  human relations skills, and changing attitud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hases: development, enactment, debrief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efing is most important phase and should take 2-3X longer than enactmen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B175-D000-475E-AC4E-B6FCBB819E0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arious methods to overcome possible resistance</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operly developed and objectives understoo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incorrect and correct behaviours during debrief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FD76-9222-4811-A689-4E4434152A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off-the-job instructional methods </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advantages and disadvantages of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and when to use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hysical and psychological fidelity</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factors to consider when choosing an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ptitude-treatment interaction and discuss its implications for training</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a blended delivery approach to training</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B4045-D9A6-488B-930B-20AB000DA4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4"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 characterized by structured competition that allow trainees to learn specific skills</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 to focus on development of problem-solving, interpersonal skills, and decision-making skill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learning from experience, active practice and direct application to real problem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from simple to complex, individual to team games</a:t>
            </a:r>
            <a:endParaRPr b="0" lang="en-US" sz="2800" spc="-1" strike="noStrike">
              <a:solidFill>
                <a:srgbClr val="000000"/>
              </a:solidFill>
              <a:latin typeface="Arial"/>
            </a:endParaRPr>
          </a:p>
          <a:p>
            <a:pPr lvl="1" marL="80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Picture 5" descr="6-19.jpg"/>
          <p:cNvPicPr/>
          <p:nvPr/>
        </p:nvPicPr>
        <p:blipFill>
          <a:blip r:embed="rId1"/>
          <a:stretch/>
        </p:blipFill>
        <p:spPr>
          <a:xfrm>
            <a:off x="0" y="368280"/>
            <a:ext cx="1903320" cy="127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E238A-FA77-4A7B-ABC1-7E755975FBE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outside of classroom, and computer based training applic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learning wrong th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relation to trai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fun of game or w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5" descr="6-21.jpg"/>
          <p:cNvPicPr/>
          <p:nvPr/>
        </p:nvPicPr>
        <p:blipFill>
          <a:blip r:embed="rId1"/>
          <a:stretch/>
        </p:blipFill>
        <p:spPr>
          <a:xfrm>
            <a:off x="6553080" y="2209680"/>
            <a:ext cx="2024280" cy="351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C547-46AB-4AF1-B765-1BC74A5EE4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4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learning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ol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games are realistic</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well prepared</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link to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debriefing session</a:t>
            </a:r>
            <a:endParaRPr b="0" lang="en-US" sz="2800" spc="-1" strike="noStrike">
              <a:solidFill>
                <a:srgbClr val="000000"/>
              </a:solidFill>
              <a:latin typeface="Arial"/>
            </a:endParaRPr>
          </a:p>
        </p:txBody>
      </p:sp>
      <p:pic>
        <p:nvPicPr>
          <p:cNvPr id="145" name="Picture 6" descr="6-22.jpg"/>
          <p:cNvPicPr/>
          <p:nvPr/>
        </p:nvPicPr>
        <p:blipFill>
          <a:blip r:embed="rId1"/>
          <a:stretch/>
        </p:blipFill>
        <p:spPr>
          <a:xfrm>
            <a:off x="6062760" y="1523880"/>
            <a:ext cx="3081240" cy="462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E707-D89A-4F9C-824E-F3D46DD5FF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49"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of operating models of physical/social events designed to represent reality</a:t>
            </a:r>
            <a:endParaRPr b="0" lang="en-US" sz="32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create situations by simplifying them</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when training in real world might involve danger, extreme costs, or is impractical</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simulators: mechanical devices similar to those on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7865-CA45-4ACF-9028-57E2318FD5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3" name="PlaceHolder 2"/>
          <p:cNvSpPr>
            <a:spLocks noGrp="1"/>
          </p:cNvSpPr>
          <p:nvPr>
            <p:ph/>
          </p:nvPr>
        </p:nvSpPr>
        <p:spPr>
          <a:xfrm>
            <a:off x="228240" y="1599840"/>
            <a:ext cx="8915400" cy="4800600"/>
          </a:xfrm>
          <a:prstGeom prst="rect">
            <a:avLst/>
          </a:prstGeom>
          <a:noFill/>
          <a:ln w="0">
            <a:noFill/>
          </a:ln>
        </p:spPr>
        <p:txBody>
          <a:bodyPr anchor="t">
            <a:normAutofit/>
          </a:bodyPr>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r>
              <a:rPr b="0" lang="en-US" sz="3200" spc="-1" strike="noStrike">
                <a:solidFill>
                  <a:srgbClr val="000000"/>
                </a:solidFill>
                <a:latin typeface="Arial"/>
              </a:rPr>
              <a:t> realistic and sometimes cost effectiv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a:t>
            </a:r>
            <a:r>
              <a:rPr b="0" lang="en-US" sz="3200" spc="-1" strike="noStrike">
                <a:solidFill>
                  <a:srgbClr val="000000"/>
                </a:solidFill>
                <a:latin typeface="Arial"/>
              </a:rPr>
              <a:t> some are expensive to develop and stage</a:t>
            </a:r>
            <a:endParaRPr b="0" lang="en-US" sz="3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5" descr="6-24A.jpg"/>
          <p:cNvPicPr/>
          <p:nvPr/>
        </p:nvPicPr>
        <p:blipFill>
          <a:blip r:embed="rId1"/>
          <a:stretch/>
        </p:blipFill>
        <p:spPr>
          <a:xfrm>
            <a:off x="4648320" y="2133720"/>
            <a:ext cx="2111400" cy="1404720"/>
          </a:xfrm>
          <a:prstGeom prst="rect">
            <a:avLst/>
          </a:prstGeom>
          <a:ln w="0">
            <a:noFill/>
          </a:ln>
        </p:spPr>
      </p:pic>
      <p:pic>
        <p:nvPicPr>
          <p:cNvPr id="155" name="Picture 6" descr="6-24B.jpg"/>
          <p:cNvPicPr/>
          <p:nvPr/>
        </p:nvPicPr>
        <p:blipFill>
          <a:blip r:embed="rId2"/>
          <a:stretch/>
        </p:blipFill>
        <p:spPr>
          <a:xfrm>
            <a:off x="5257800" y="4114800"/>
            <a:ext cx="1463760" cy="220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D029-2A56-454B-9128-AED2B8120F1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5345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ensure presence of</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fidelity:</a:t>
            </a:r>
            <a:r>
              <a:rPr b="0" lang="en-US" sz="2800" spc="-1" strike="noStrike">
                <a:solidFill>
                  <a:srgbClr val="000000"/>
                </a:solidFill>
                <a:latin typeface="Arial"/>
              </a:rPr>
              <a:t> similarity of physical aspects of the simulation to actual job</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ical fidelity:</a:t>
            </a:r>
            <a:r>
              <a:rPr b="0" lang="en-US" sz="2800" spc="-1" strike="noStrike">
                <a:solidFill>
                  <a:srgbClr val="000000"/>
                </a:solidFill>
                <a:latin typeface="Arial"/>
              </a:rPr>
              <a:t> similarity of psychological conditions of the simulation to actual work environment</a:t>
            </a:r>
            <a:endParaRPr b="0" lang="en-US" sz="2800" spc="-1" strike="noStrike">
              <a:solidFill>
                <a:srgbClr val="000000"/>
              </a:solidFill>
              <a:latin typeface="Arial"/>
            </a:endParaRPr>
          </a:p>
        </p:txBody>
      </p:sp>
      <p:pic>
        <p:nvPicPr>
          <p:cNvPr id="160" name="Picture 7" descr="6-25.jpg"/>
          <p:cNvPicPr/>
          <p:nvPr/>
        </p:nvPicPr>
        <p:blipFill>
          <a:blip r:embed="rId1"/>
          <a:stretch/>
        </p:blipFill>
        <p:spPr>
          <a:xfrm>
            <a:off x="4343400" y="4495680"/>
            <a:ext cx="2475000" cy="164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7AEF-07C3-4176-8869-34E1FB8A7C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Experiential Learning</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 games, and simulations are also known as experiential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are immersed in the experience, actively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ch learning style would these methods appeal 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self-study as a learning method – is this passive or active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D000-C707-4641-A56E-A2DEFF9DF51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6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er develops skills through responsible involvement in a real, complex, and stressful problem</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re to involve and challenge trainee</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identifying real problems, developing solutions, testing them in real world and evaluating consequenc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rainees from passive information receivers to problem solver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s more adult learning principles than other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6CC1-A3CA-42D8-9014-55BCE3FDAE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72" name="PlaceHolder 2"/>
          <p:cNvSpPr>
            <a:spLocks noGrp="1"/>
          </p:cNvSpPr>
          <p:nvPr>
            <p:ph/>
          </p:nvPr>
        </p:nvSpPr>
        <p:spPr>
          <a:xfrm>
            <a:off x="380880" y="144756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must be challenging and involve real organizational concern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n group skills may be necessary</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some release from normal work</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s (4-7)</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groups, trainees accountable for proposed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9D1A-08C4-4599-8734-91C711740D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76" name="PlaceHolder 2"/>
          <p:cNvSpPr>
            <a:spLocks noGrp="1"/>
          </p:cNvSpPr>
          <p:nvPr>
            <p:ph/>
          </p:nvPr>
        </p:nvSpPr>
        <p:spPr>
          <a:xfrm>
            <a:off x="228240" y="1600200"/>
            <a:ext cx="5638680" cy="45720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highly involved the trainee in the learning process and the more the training situation resembles the job, the more likely it is that transfer will occur</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of a training method depends on its achievement of training objective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Picture 6" descr="6-29.jpg"/>
          <p:cNvPicPr/>
          <p:nvPr/>
        </p:nvPicPr>
        <p:blipFill>
          <a:blip r:embed="rId1"/>
          <a:stretch/>
        </p:blipFill>
        <p:spPr>
          <a:xfrm>
            <a:off x="5837400" y="2286000"/>
            <a:ext cx="330660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ED6F-56B3-4F17-9D20-29D1496CC3D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59" name="PlaceHolder 2"/>
          <p:cNvSpPr>
            <a:spLocks noGrp="1"/>
          </p:cNvSpPr>
          <p:nvPr>
            <p:ph/>
          </p:nvPr>
        </p:nvSpPr>
        <p:spPr>
          <a:xfrm>
            <a:off x="22824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visual method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incid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6208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ur model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learning</a:t>
            </a:r>
            <a:endParaRPr b="0" lang="en-US" sz="2800" spc="-1" strike="noStrike">
              <a:solidFill>
                <a:srgbClr val="000000"/>
              </a:solidFill>
              <a:latin typeface="Arial"/>
            </a:endParaRPr>
          </a:p>
        </p:txBody>
      </p:sp>
      <p:sp>
        <p:nvSpPr>
          <p:cNvPr id="61" name="Text Box 7"/>
          <p:cNvSpPr/>
          <p:nvPr/>
        </p:nvSpPr>
        <p:spPr>
          <a:xfrm>
            <a:off x="3115080" y="5013360"/>
            <a:ext cx="2109960" cy="33732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able 6.1 in 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C664-25E3-46C8-9094-66F65D8D0F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1" name="PlaceHolder 2"/>
          <p:cNvSpPr>
            <a:spLocks noGrp="1"/>
          </p:cNvSpPr>
          <p:nvPr>
            <p:ph/>
          </p:nvPr>
        </p:nvSpPr>
        <p:spPr>
          <a:xfrm>
            <a:off x="228240" y="1599840"/>
            <a:ext cx="838188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to consider</a:t>
            </a:r>
            <a:endParaRPr b="0" lang="en-US" sz="32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nd resource availability</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job application</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skill and preferenc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characteristics and preferences</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56D4-9F5C-4753-B969-C3BD375170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3"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5"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titude treatment interaction:</a:t>
            </a:r>
            <a:r>
              <a:rPr b="0" lang="en-US" sz="2400" spc="-1" strike="noStrike">
                <a:solidFill>
                  <a:srgbClr val="000000"/>
                </a:solidFill>
                <a:latin typeface="Arial"/>
              </a:rPr>
              <a:t> when a  training method has differential effects on trainees with                    different aptitu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inforces that training methods must be suited to trainee aptitu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3962520" y="1676520"/>
          <a:ext cx="5029200" cy="2836800"/>
        </p:xfrm>
        <a:graphic>
          <a:graphicData uri="http://schemas.openxmlformats.org/drawingml/2006/table">
            <a:tbl>
              <a:tblPr/>
              <a:tblGrid>
                <a:gridCol w="1395360"/>
                <a:gridCol w="1576440"/>
                <a:gridCol w="2057400"/>
              </a:tblGrid>
              <a:tr h="72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e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01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bility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bil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589E-5D6C-4083-BE05-532E3CA387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9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a Blended Delivery Approac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mix and combine a variety of methods to  suit objectives, needs of learners, resources of organiz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participants to learn in ways that work for them (learning styles), allows multiple learning outcomes to be achieved, and increases likelihood of training being applied on the job (training transf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rs/Trainers must be skilled in a variety of methods to select and deliver them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3B01-56C6-483D-9528-6388596942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10 of the most common off-the-job instructional training methods and their advantages and disadvant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elements to ensure effective use of each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how to choose from amongst the instructional training methods and main factors to consi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he importance of combining methods and a blended delivery approa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AC190-FB20-4818-B004-F0F276FC4D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a:t>
            </a:r>
            <a:br>
              <a:rPr sz="3600"/>
            </a:br>
            <a:r>
              <a:rPr b="1" lang="en-US" sz="3600" spc="-1" strike="noStrike">
                <a:solidFill>
                  <a:srgbClr val="ccffcc"/>
                </a:solidFill>
                <a:latin typeface="Arial"/>
              </a:rPr>
              <a:t> Instructional Methods</a:t>
            </a:r>
            <a:endParaRPr b="1" lang="en-US" sz="3600" spc="-1" strike="noStrike">
              <a:solidFill>
                <a:srgbClr val="ccffcc"/>
              </a:solidFill>
              <a:latin typeface="Arial"/>
            </a:endParaRPr>
          </a:p>
        </p:txBody>
      </p:sp>
      <p:sp>
        <p:nvSpPr>
          <p:cNvPr id="65"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nstructional methods take place within classroom setting, outside of a classroom setting, and are even incorporated  into computer-based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instructional methods are combined to create a “program” or “course”, which may also be referred to as a training session, workshop, symposium, or conference depending on the length and scope of th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885F-6A27-4A16-89B9-2E0DF316DA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69"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vary in degree of trainee involv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least) to  Active Learning (mos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the most widely used method of training in Canada and U.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of all training in Canada takes place in a classroom set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7" descr="6-5.jpg"/>
          <p:cNvPicPr/>
          <p:nvPr/>
        </p:nvPicPr>
        <p:blipFill>
          <a:blip r:embed="rId1"/>
          <a:stretch/>
        </p:blipFill>
        <p:spPr>
          <a:xfrm>
            <a:off x="4618080" y="1752480"/>
            <a:ext cx="4525920" cy="30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3E7AD-B431-4764-872E-AEBE98ECAA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4" name="PlaceHolder 2"/>
          <p:cNvSpPr>
            <a:spLocks noGrp="1"/>
          </p:cNvSpPr>
          <p:nvPr>
            <p:ph/>
          </p:nvPr>
        </p:nvSpPr>
        <p:spPr>
          <a:xfrm>
            <a:off x="228240" y="1523520"/>
            <a:ext cx="8915400" cy="4800600"/>
          </a:xfrm>
          <a:prstGeom prst="rect">
            <a:avLst/>
          </a:prstGeom>
          <a:noFill/>
          <a:ln w="0">
            <a:noFill/>
          </a:ln>
        </p:spPr>
        <p:txBody>
          <a:bodyPr anchor="t">
            <a:normAutofit/>
          </a:bodyPr>
          <a:p>
            <a:pPr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3200" spc="-1" strike="noStrike">
                <a:solidFill>
                  <a:srgbClr val="000000"/>
                </a:solidFill>
                <a:latin typeface="Arial"/>
              </a:rPr>
              <a:t>Trainer organizes content &amp; presents orally; little listener involvement</a:t>
            </a:r>
            <a:endParaRPr b="0" lang="en-US" sz="3200" spc="-1" strike="noStrike">
              <a:solidFill>
                <a:srgbClr val="000000"/>
              </a:solidFill>
              <a:latin typeface="Arial"/>
            </a:endParaRPr>
          </a:p>
          <a:p>
            <a:pPr indent="0">
              <a:spcBef>
                <a:spcPts val="2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2800" spc="-1" strike="noStrike">
                <a:solidFill>
                  <a:srgbClr val="000000"/>
                </a:solidFill>
                <a:latin typeface="Arial"/>
              </a:rPr>
              <a:t> </a:t>
            </a: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Transfer large amounts in short time. Minimal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Listeners all get same message</a:t>
            </a:r>
            <a:endParaRPr b="0" lang="en-US" sz="2600" spc="-1" strike="noStrike">
              <a:solidFill>
                <a:srgbClr val="000000"/>
              </a:solidFill>
              <a:latin typeface="Arial"/>
            </a:endParaRPr>
          </a:p>
          <a:p>
            <a:pPr lvl="1" marL="743040" indent="0">
              <a:spcBef>
                <a:spcPts val="20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0" lang="en-US" sz="2800" spc="-1" strike="noStrike">
                <a:solidFill>
                  <a:srgbClr val="000000"/>
                </a:solidFill>
                <a:latin typeface="Arial"/>
              </a:rPr>
              <a:t> </a:t>
            </a:r>
            <a:r>
              <a:rPr b="1"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Not effective for development of skills/change        of attitudes. Forced passive learning</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Does not accommodate differences in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647D-E154-4A45-8D90-0A46A7BF71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specific objectiv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arrange info in logical order</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be notes onto paper, etc.</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nto segments (approx. 15m)</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material/exercise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6" descr="6-7.jpg"/>
          <p:cNvPicPr/>
          <p:nvPr/>
        </p:nvPicPr>
        <p:blipFill>
          <a:blip r:embed="rId1"/>
          <a:stretch/>
        </p:blipFill>
        <p:spPr>
          <a:xfrm>
            <a:off x="6629400" y="2286000"/>
            <a:ext cx="2514600" cy="29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715E-436E-4C01-B7DA-D85A511BB5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3"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8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facilitates analysis of a problem or case</a:t>
            </a:r>
            <a:endParaRPr b="0" lang="en-US" sz="3200" spc="-1" strike="noStrike">
              <a:solidFill>
                <a:srgbClr val="000000"/>
              </a:solidFill>
              <a:latin typeface="Arial"/>
            </a:endParaRPr>
          </a:p>
          <a:p>
            <a:pPr marL="3884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8440" indent="-38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purposes:</a:t>
            </a:r>
            <a:endParaRPr b="0" lang="en-US" sz="2800" spc="-1" strike="noStrike">
              <a:solidFill>
                <a:srgbClr val="000000"/>
              </a:solidFill>
              <a:latin typeface="Arial"/>
            </a:endParaRPr>
          </a:p>
          <a:p>
            <a:pPr marL="3884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members recognize what they do not know but should</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for members to get answers to questio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members to get advice on concer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haring ideas and deriving a common wisdom</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y to learn about one another</a:t>
            </a:r>
            <a:endParaRPr b="0" lang="en-US" sz="2600" spc="-1" strike="noStrike">
              <a:solidFill>
                <a:srgbClr val="000000"/>
              </a:solidFill>
              <a:latin typeface="Arial"/>
            </a:endParaRPr>
          </a:p>
          <a:p>
            <a:pPr marL="388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319D-D1FE-41AD-ADFF-5F04331347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7"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articipative cultur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questions back to group</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reluct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focus on topic</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domin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groups small (4-6)</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well-defined tasks, with time frames</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6" descr="6-9.jpg"/>
          <p:cNvPicPr/>
          <p:nvPr/>
        </p:nvPicPr>
        <p:blipFill>
          <a:blip r:embed="rId1"/>
          <a:stretch/>
        </p:blipFill>
        <p:spPr>
          <a:xfrm>
            <a:off x="5791320" y="2743200"/>
            <a:ext cx="3195360" cy="21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7T19:48:08Z</dcterms:modified>
  <cp:revision>248</cp:revision>
  <dc:subject/>
  <dc:title>Chapter 6</dc:title>
</cp:coreProperties>
</file>