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C408-291C-4FA0-851D-D26670CDB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D137-2F36-472E-B86C-9B1773F0B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20C3-35EE-4F8D-958B-892D991B3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6B8A-9FD0-4B33-BBFB-1E26CCF0F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BBA6-9704-4642-94B5-416D5DFFB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832B-F848-426C-A711-C5501BB59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03CC-D9D9-4C0A-8842-9C37FE6A6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232B-B1C9-47CA-A1C3-149E91561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50EB-3804-4B45-979B-76AE2A953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1100-86EC-470E-A78B-20A95D30E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D0A7-6232-49C9-BCA3-DAE0BD243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B904-21F4-4B14-9A12-AD7AC1511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4A53-F52F-470F-B799-5671C8A8E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0D47-2865-4B6E-8744-C363D1185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5169-7D96-456B-B7DF-CAB07EB81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6642-9DC6-4D8B-9469-E04299E89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4283-99BF-47B0-AA75-E368BF8A2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CB69-201C-4657-83AC-ADAE419E6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1B4A-89EE-4BA7-8E2A-1DFAA1948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8D59-180F-4AD9-B87B-5A1764294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7AC1-F3E8-490B-ADF8-41CBDB63E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C351-11A8-41F5-8598-C2EAC9FD3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2792ABD-7ACC-4701-BFEB-7FF3DE4E99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4C3058C-1C42-4849-84C9-17F2A32A7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6D12365-EF53-445E-9C9D-90A6844DBC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A7F67FE-9C40-4769-8ECB-C8311E2BBB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7B32CF7-7B5B-41C5-93FB-043BA58E65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D0353C-32D3-4DF7-BBC3-065F7968E7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C7D37C6-9580-46DE-A637-B202E2D653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8DFCDA7-171D-4878-8EF4-3B955C6D9B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7A856E-9992-4C8A-A2A0-066C52191D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831901-780E-4530-9707-49007783E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604A8F-2FA7-4463-8F9D-290608BBE9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C72218-972C-4407-A781-4ECF6DBD8F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2E02-4097-40B7-A1B1-38E411C025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724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C72B-80EE-490A-B199-0CAC008DB4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Six</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f-the-Job Training Methods</a:t>
            </a:r>
            <a:endParaRPr b="0" lang="en-US" sz="6000" spc="-1" strike="noStrike">
              <a:solidFill>
                <a:srgbClr val="000000"/>
              </a:solidFill>
              <a:latin typeface="Arial"/>
            </a:endParaRPr>
          </a:p>
        </p:txBody>
      </p:sp>
      <p:pic>
        <p:nvPicPr>
          <p:cNvPr id="51" name="Picture 6" descr="6-1.jpg"/>
          <p:cNvPicPr/>
          <p:nvPr/>
        </p:nvPicPr>
        <p:blipFill>
          <a:blip r:embed="rId1"/>
          <a:stretch/>
        </p:blipFill>
        <p:spPr>
          <a:xfrm>
            <a:off x="1905120" y="3429000"/>
            <a:ext cx="5532480" cy="27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A119-C8FB-491E-BB37-0A3C152D2D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udio-visual Methods</a:t>
            </a:r>
            <a:endParaRPr b="1" lang="en-US" sz="4000" spc="-1" strike="noStrike">
              <a:solidFill>
                <a:srgbClr val="ccffcc"/>
              </a:solidFill>
              <a:latin typeface="Arial"/>
            </a:endParaRPr>
          </a:p>
        </p:txBody>
      </p:sp>
      <p:sp>
        <p:nvSpPr>
          <p:cNvPr id="9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various forms of media</a:t>
            </a:r>
            <a:r>
              <a:rPr b="1" lang="en-US" sz="3600" spc="-1" strike="noStrike">
                <a:solidFill>
                  <a:srgbClr val="000000"/>
                </a:solidFill>
                <a:latin typeface="Arial"/>
              </a:rPr>
              <a:t> </a:t>
            </a:r>
            <a:r>
              <a:rPr b="1" lang="en-US" sz="2000" spc="-1" strike="noStrike">
                <a:solidFill>
                  <a:srgbClr val="000000"/>
                </a:solidFill>
                <a:latin typeface="Arial"/>
              </a:rPr>
              <a:t>(i.e., video, slides)</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illustrate behaviour</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key points (slid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ce of training</a:t>
            </a:r>
            <a:endParaRPr b="0" lang="en-US" sz="2800" spc="-1" strike="noStrike">
              <a:solidFill>
                <a:srgbClr val="000000"/>
              </a:solidFill>
              <a:latin typeface="Arial"/>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learning objectiv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overwhelm trainees with information</a:t>
            </a:r>
            <a:endParaRPr b="0" lang="en-US" sz="2800" spc="-1" strike="noStrike">
              <a:solidFill>
                <a:srgbClr val="000000"/>
              </a:solidFill>
              <a:latin typeface="Arial"/>
            </a:endParaRPr>
          </a:p>
          <a:p>
            <a:pPr lvl="1" marL="85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6" descr="6-10.jpg"/>
          <p:cNvPicPr/>
          <p:nvPr/>
        </p:nvPicPr>
        <p:blipFill>
          <a:blip r:embed="rId1"/>
          <a:stretch/>
        </p:blipFill>
        <p:spPr>
          <a:xfrm>
            <a:off x="6095880" y="3657600"/>
            <a:ext cx="28450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6679-BF09-4ABC-8014-2103B41504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97"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ees discuss, analyze, and solve problems based on real situation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realism into learning</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variety of problems, goals, facts, conditions, and conflic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how to make decis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creativity, think independ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8FB3-6C38-457F-AF94-C1701D5DA7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trainer must have qualifications to analyze material</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ime must be provided</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osphere must be supportive</a:t>
            </a:r>
            <a:endParaRPr b="0" lang="en-US" sz="2800" spc="-1" strike="noStrike">
              <a:solidFill>
                <a:srgbClr val="000000"/>
              </a:solidFill>
              <a:latin typeface="Arial"/>
            </a:endParaRPr>
          </a:p>
          <a:p>
            <a:pPr lvl="1" marL="853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yles/Method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roblem vs. multiple situat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audio-visual, live case/operational consul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6221-D84A-4846-8455-CFF7875563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5"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hould be based in reality</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in writing cas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relevant detail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6-13.jpg"/>
          <p:cNvPicPr/>
          <p:nvPr/>
        </p:nvPicPr>
        <p:blipFill>
          <a:blip r:embed="rId1"/>
          <a:stretch/>
        </p:blipFill>
        <p:spPr>
          <a:xfrm>
            <a:off x="2819520" y="3962520"/>
            <a:ext cx="3195360" cy="21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0145-2F35-4897-BE0E-A6263312D2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thod in which one problem is presented for analysi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ilar to case study but a much smaller scale</a:t>
            </a:r>
            <a:endParaRPr b="0" lang="en-US" sz="31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vantag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tress one topic or concep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o can be read during training session</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effect of differences in reading tim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can draw on their own experi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07E9-B531-40A1-84C3-0098B71FA5A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background material</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ith limited work experience</a:t>
            </a:r>
            <a:endParaRPr b="0" lang="en-US" sz="2800" spc="-1" strike="noStrike">
              <a:solidFill>
                <a:srgbClr val="000000"/>
              </a:solidFill>
              <a:latin typeface="Arial"/>
            </a:endParaRPr>
          </a:p>
          <a:p>
            <a:pPr lvl="1" marL="1087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learners into groups with a note taker  and spokesperson. After group discussion, each spokesperson presents answer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read/discuss as on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9AE1-0FB3-45D7-BDA3-77119749BB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observe a model and attempt to replicat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social cognitive theory and observational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learning skills and behaviours, not for factual inf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our learning principle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modelling)</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al (practice)</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re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28C5-EB82-4A62-AF1A-8B78D2349D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 </a:t>
            </a:r>
            <a:endParaRPr b="1" lang="en-US" sz="4000" spc="-1" strike="noStrike">
              <a:solidFill>
                <a:srgbClr val="ccffcc"/>
              </a:solidFill>
              <a:latin typeface="Arial"/>
            </a:endParaRPr>
          </a:p>
        </p:txBody>
      </p:sp>
      <p:sp>
        <p:nvSpPr>
          <p:cNvPr id="122"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hould be someone with whom trainee can identify, and perceive as credibl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down observed behaviour into steps, practiced one at a tim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inforcement and motivation to use training</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earning, and reinforcement on the job can ensure transfer of training</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2BCA-29F2-4108-A96D-3D421E4249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26"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practice new behaviours in a safe environmen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oing and experienc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acquiring interpersonal skills,  human relations skills, and changing attitud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hases: development, enactment, debrief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is most important phase and should take 2-3X longer than enactme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9AE1-8D9A-4A2E-B6FC-F9969B2355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ous methods to overcome possible resistanc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perly developed and objectives understoo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incorrect and correct behaviours during debrief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5C8A-22CD-44F4-9C58-4522FC02019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off-the-job instructional methods </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advantages and disadvantages of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and when to use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hysical and psychological fidelity</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factors to consider when choosing an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ptitude-treatment interaction and discuss its implications for training</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a blended delivery approach to training</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D688-7A13-4290-AE81-BCB8197F702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4"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characterized by structured competition that allow trainees to learn specific skill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focus on development of problem-solving, interpersonal skills, and decision-making skill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arning from experience, active practice and direct application to real problem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to complex, individual to team games</a:t>
            </a:r>
            <a:endParaRPr b="0" lang="en-US" sz="2800" spc="-1" strike="noStrike">
              <a:solidFill>
                <a:srgbClr val="000000"/>
              </a:solidFill>
              <a:latin typeface="Arial"/>
            </a:endParaRPr>
          </a:p>
          <a:p>
            <a:pPr lvl="1"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Picture 5" descr="6-19.jpg"/>
          <p:cNvPicPr/>
          <p:nvPr/>
        </p:nvPicPr>
        <p:blipFill>
          <a:blip r:embed="rId1"/>
          <a:stretch/>
        </p:blipFill>
        <p:spPr>
          <a:xfrm>
            <a:off x="0" y="368280"/>
            <a:ext cx="1903320" cy="12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679D-202A-4961-A972-AEF5D51946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utside of classroom, and computer based training applic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learning wrong th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lation to trai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fun of game or w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5" descr="6-21.jpg"/>
          <p:cNvPicPr/>
          <p:nvPr/>
        </p:nvPicPr>
        <p:blipFill>
          <a:blip r:embed="rId1"/>
          <a:stretch/>
        </p:blipFill>
        <p:spPr>
          <a:xfrm>
            <a:off x="6553080" y="2209680"/>
            <a:ext cx="20242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F694-66CD-49BE-AB07-3CC29B6A9D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4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earning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games are realistic</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ell prepared</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link to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debriefing session</a:t>
            </a:r>
            <a:endParaRPr b="0" lang="en-US" sz="2800" spc="-1" strike="noStrike">
              <a:solidFill>
                <a:srgbClr val="000000"/>
              </a:solidFill>
              <a:latin typeface="Arial"/>
            </a:endParaRPr>
          </a:p>
        </p:txBody>
      </p:sp>
      <p:pic>
        <p:nvPicPr>
          <p:cNvPr id="145" name="Picture 6" descr="6-22.jpg"/>
          <p:cNvPicPr/>
          <p:nvPr/>
        </p:nvPicPr>
        <p:blipFill>
          <a:blip r:embed="rId1"/>
          <a:stretch/>
        </p:blipFill>
        <p:spPr>
          <a:xfrm>
            <a:off x="6062760" y="1523880"/>
            <a:ext cx="3081240" cy="46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5650-4DC1-4AE0-97C0-913CAB115C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49"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operating models of physical/social events designed to represent reality</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create situations by simplifying them</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training in real world might involve danger, extreme costs, or is impractical</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simulators: mechanical devices similar to those o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EEAB-06C2-44B2-9941-A7C6D3158B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3" name="PlaceHolder 2"/>
          <p:cNvSpPr>
            <a:spLocks noGrp="1"/>
          </p:cNvSpPr>
          <p:nvPr>
            <p:ph/>
          </p:nvPr>
        </p:nvSpPr>
        <p:spPr>
          <a:xfrm>
            <a:off x="228240" y="1599840"/>
            <a:ext cx="8915400" cy="4800600"/>
          </a:xfrm>
          <a:prstGeom prst="rect">
            <a:avLst/>
          </a:prstGeom>
          <a:noFill/>
          <a:ln w="0">
            <a:noFill/>
          </a:ln>
        </p:spPr>
        <p:txBody>
          <a:bodyPr anchor="t">
            <a:normAutofit/>
          </a:bodyPr>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r>
              <a:rPr b="0" lang="en-US" sz="3200" spc="-1" strike="noStrike">
                <a:solidFill>
                  <a:srgbClr val="000000"/>
                </a:solidFill>
                <a:latin typeface="Arial"/>
              </a:rPr>
              <a:t> realistic and sometimes cost effectiv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r>
              <a:rPr b="0" lang="en-US" sz="3200" spc="-1" strike="noStrike">
                <a:solidFill>
                  <a:srgbClr val="000000"/>
                </a:solidFill>
                <a:latin typeface="Arial"/>
              </a:rPr>
              <a:t> some are expensive to develop and stage</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5" descr="6-24A.jpg"/>
          <p:cNvPicPr/>
          <p:nvPr/>
        </p:nvPicPr>
        <p:blipFill>
          <a:blip r:embed="rId1"/>
          <a:stretch/>
        </p:blipFill>
        <p:spPr>
          <a:xfrm>
            <a:off x="4648320" y="2133720"/>
            <a:ext cx="2111400" cy="1404720"/>
          </a:xfrm>
          <a:prstGeom prst="rect">
            <a:avLst/>
          </a:prstGeom>
          <a:ln w="0">
            <a:noFill/>
          </a:ln>
        </p:spPr>
      </p:pic>
      <p:pic>
        <p:nvPicPr>
          <p:cNvPr id="155" name="Picture 6" descr="6-24B.jpg"/>
          <p:cNvPicPr/>
          <p:nvPr/>
        </p:nvPicPr>
        <p:blipFill>
          <a:blip r:embed="rId2"/>
          <a:stretch/>
        </p:blipFill>
        <p:spPr>
          <a:xfrm>
            <a:off x="5257800" y="4114800"/>
            <a:ext cx="146376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28AB-23F8-4DB0-AC53-34994CFB2C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5345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ensure presence of</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delity:</a:t>
            </a:r>
            <a:r>
              <a:rPr b="0" lang="en-US" sz="2800" spc="-1" strike="noStrike">
                <a:solidFill>
                  <a:srgbClr val="000000"/>
                </a:solidFill>
                <a:latin typeface="Arial"/>
              </a:rPr>
              <a:t> similarity of physical aspects of the simulation to actual job</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fidelity:</a:t>
            </a:r>
            <a:r>
              <a:rPr b="0" lang="en-US" sz="2800" spc="-1" strike="noStrike">
                <a:solidFill>
                  <a:srgbClr val="000000"/>
                </a:solidFill>
                <a:latin typeface="Arial"/>
              </a:rPr>
              <a:t> similarity of psychological conditions of the simulation to actual work environment</a:t>
            </a:r>
            <a:endParaRPr b="0" lang="en-US" sz="2800" spc="-1" strike="noStrike">
              <a:solidFill>
                <a:srgbClr val="000000"/>
              </a:solidFill>
              <a:latin typeface="Arial"/>
            </a:endParaRPr>
          </a:p>
        </p:txBody>
      </p:sp>
      <p:pic>
        <p:nvPicPr>
          <p:cNvPr id="160" name="Picture 7" descr="6-25.jpg"/>
          <p:cNvPicPr/>
          <p:nvPr/>
        </p:nvPicPr>
        <p:blipFill>
          <a:blip r:embed="rId1"/>
          <a:stretch/>
        </p:blipFill>
        <p:spPr>
          <a:xfrm>
            <a:off x="4343400" y="4495680"/>
            <a:ext cx="2475000" cy="16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F7A0-F443-4EFA-A393-FC5DDA9C86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Experiential Learning</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 games, and simulations are also known as experiential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are immersed in the experience, actively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learning style would these methods appeal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elf-study as a learning method – is this passive or active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EBC8-2A42-44F5-A932-C367B0256B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6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er develops skills through responsible involvement in a real, complex, and stressful problem</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re to involve and challenge trainee</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identifying real problems, developing solutions, testing them in real world and evaluating consequenc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rainees from passive information receivers to problem solver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more adult learning principles than othe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A78C-B00D-46C9-B46A-F2A09C4795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72" name="PlaceHolder 2"/>
          <p:cNvSpPr>
            <a:spLocks noGrp="1"/>
          </p:cNvSpPr>
          <p:nvPr>
            <p:ph/>
          </p:nvPr>
        </p:nvSpPr>
        <p:spPr>
          <a:xfrm>
            <a:off x="380880" y="144756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be challenging and involve real organizational concer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group skills may be necess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some release from normal work</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s (4-7)</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groups, trainees accountable for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88A9-BFBF-42A5-AE43-9E60FDE219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76" name="PlaceHolder 2"/>
          <p:cNvSpPr>
            <a:spLocks noGrp="1"/>
          </p:cNvSpPr>
          <p:nvPr>
            <p:ph/>
          </p:nvPr>
        </p:nvSpPr>
        <p:spPr>
          <a:xfrm>
            <a:off x="228240" y="1600200"/>
            <a:ext cx="5638680" cy="45720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highly involved the trainee in the learning process and the more the training situation resembles the job, the more likely it is that transfer will occur</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 training method depends on its achievement of training objective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6" descr="6-29.jpg"/>
          <p:cNvPicPr/>
          <p:nvPr/>
        </p:nvPicPr>
        <p:blipFill>
          <a:blip r:embed="rId1"/>
          <a:stretch/>
        </p:blipFill>
        <p:spPr>
          <a:xfrm>
            <a:off x="5837400" y="2286000"/>
            <a:ext cx="330660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C31F-847A-4DDA-BC6C-34EC8501CE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59" name="PlaceHolder 2"/>
          <p:cNvSpPr>
            <a:spLocks noGrp="1"/>
          </p:cNvSpPr>
          <p:nvPr>
            <p:ph/>
          </p:nvPr>
        </p:nvSpPr>
        <p:spPr>
          <a:xfrm>
            <a:off x="22824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visual metho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in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6208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model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learning</a:t>
            </a:r>
            <a:endParaRPr b="0" lang="en-US" sz="2800" spc="-1" strike="noStrike">
              <a:solidFill>
                <a:srgbClr val="000000"/>
              </a:solidFill>
              <a:latin typeface="Arial"/>
            </a:endParaRPr>
          </a:p>
        </p:txBody>
      </p:sp>
      <p:sp>
        <p:nvSpPr>
          <p:cNvPr id="61" name="Text Box 7"/>
          <p:cNvSpPr/>
          <p:nvPr/>
        </p:nvSpPr>
        <p:spPr>
          <a:xfrm>
            <a:off x="3115080" y="5013360"/>
            <a:ext cx="2109960" cy="3373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able 6.1 in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9B2F-1A21-4410-8095-AEF20E1288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1" name="PlaceHolder 2"/>
          <p:cNvSpPr>
            <a:spLocks noGrp="1"/>
          </p:cNvSpPr>
          <p:nvPr>
            <p:ph/>
          </p:nvPr>
        </p:nvSpPr>
        <p:spPr>
          <a:xfrm>
            <a:off x="228240" y="1599840"/>
            <a:ext cx="83818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a:t>
            </a:r>
            <a:endParaRPr b="0" lang="en-US" sz="32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nd resource availability</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job application</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skill and preferenc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characteristics and preferences</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D7E5-1CF3-44AA-B958-63488A008B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5"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titude treatment interaction:</a:t>
            </a:r>
            <a:r>
              <a:rPr b="0" lang="en-US" sz="2400" spc="-1" strike="noStrike">
                <a:solidFill>
                  <a:srgbClr val="000000"/>
                </a:solidFill>
                <a:latin typeface="Arial"/>
              </a:rPr>
              <a:t> when a  training method has differential effects on trainees with                    different aptitu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inforces that training methods must be suited to trainee aptitu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3962520" y="1676520"/>
          <a:ext cx="5029200" cy="2836800"/>
        </p:xfrm>
        <a:graphic>
          <a:graphicData uri="http://schemas.openxmlformats.org/drawingml/2006/table">
            <a:tbl>
              <a:tblPr/>
              <a:tblGrid>
                <a:gridCol w="1395360"/>
                <a:gridCol w="1576440"/>
                <a:gridCol w="2057400"/>
              </a:tblGrid>
              <a:tr h="72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ility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i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05BE-C66A-4103-9D33-E9BA00E31C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9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 Blended Delivery Approac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mix and combine a variety of methods to  suit objectives, needs of learners, resources of organ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articipants to learn in ways that work for them (learning styles), allows multiple learning outcomes to be achieved, and increases likelihood of training being applied on the job (training transf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rs/Trainers must be skilled in a variety of methods to select and deliver them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A3FA-724A-4D64-ABE0-A2865F89E5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10 of the most common off-the-job instructional training methods and their advantages and disadva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elements to ensure effective use of each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how to choose from amongst the instructional training methods and main factors to consi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importance of combining methods and a blended delivery appro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1F3A-C565-4939-99F5-4E37489462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a:t>
            </a:r>
            <a:br>
              <a:rPr sz="3600"/>
            </a:br>
            <a:r>
              <a:rPr b="1" lang="en-US" sz="3600" spc="-1" strike="noStrike">
                <a:solidFill>
                  <a:srgbClr val="ccffcc"/>
                </a:solidFill>
                <a:latin typeface="Arial"/>
              </a:rPr>
              <a:t> Instructional Methods</a:t>
            </a:r>
            <a:endParaRPr b="1" lang="en-US" sz="3600" spc="-1" strike="noStrike">
              <a:solidFill>
                <a:srgbClr val="ccffcc"/>
              </a:solidFill>
              <a:latin typeface="Arial"/>
            </a:endParaRPr>
          </a:p>
        </p:txBody>
      </p:sp>
      <p:sp>
        <p:nvSpPr>
          <p:cNvPr id="65"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structional methods take place within classroom setting, outside of a classroom setting, and are even incorporated  into computer-based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structional methods are combined to create a “program” or “course”, which may also be referred to as a training session, workshop, symposium, or conference depending on the length and scope of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0174-FAD8-4C08-AB37-62A465595F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69"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vary in degree of trainee invol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least) to  Active Learning (mo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most widely used method of training in Canada and U.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of all training in Canada takes place in a classroom se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 descr="6-5.jpg"/>
          <p:cNvPicPr/>
          <p:nvPr/>
        </p:nvPicPr>
        <p:blipFill>
          <a:blip r:embed="rId1"/>
          <a:stretch/>
        </p:blipFill>
        <p:spPr>
          <a:xfrm>
            <a:off x="4618080" y="1752480"/>
            <a:ext cx="4525920" cy="30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2723-1515-4661-A1D7-A2F692DB47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4" name="PlaceHolder 2"/>
          <p:cNvSpPr>
            <a:spLocks noGrp="1"/>
          </p:cNvSpPr>
          <p:nvPr>
            <p:ph/>
          </p:nvPr>
        </p:nvSpPr>
        <p:spPr>
          <a:xfrm>
            <a:off x="228240" y="1523520"/>
            <a:ext cx="8915400" cy="4800600"/>
          </a:xfrm>
          <a:prstGeom prst="rect">
            <a:avLst/>
          </a:prstGeom>
          <a:noFill/>
          <a:ln w="0">
            <a:noFill/>
          </a:ln>
        </p:spPr>
        <p:txBody>
          <a:bodyPr anchor="t">
            <a:normAutofit/>
          </a:bodyPr>
          <a:p>
            <a:pPr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3200" spc="-1" strike="noStrike">
                <a:solidFill>
                  <a:srgbClr val="000000"/>
                </a:solidFill>
                <a:latin typeface="Arial"/>
              </a:rPr>
              <a:t>Trainer organizes content &amp; presents orally; little listener involvement</a:t>
            </a:r>
            <a:endParaRPr b="0" lang="en-US" sz="3200" spc="-1" strike="noStrike">
              <a:solidFill>
                <a:srgbClr val="000000"/>
              </a:solidFill>
              <a:latin typeface="Arial"/>
            </a:endParaRPr>
          </a:p>
          <a:p>
            <a:pPr indent="0">
              <a:spcBef>
                <a:spcPts val="2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2800" spc="-1" strike="noStrike">
                <a:solidFill>
                  <a:srgbClr val="000000"/>
                </a:solidFill>
                <a:latin typeface="Arial"/>
              </a:rPr>
              <a:t> </a:t>
            </a: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Transfer large amounts in short time. Minimal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Listeners all get same message</a:t>
            </a:r>
            <a:endParaRPr b="0" lang="en-US" sz="2600" spc="-1" strike="noStrike">
              <a:solidFill>
                <a:srgbClr val="000000"/>
              </a:solidFill>
              <a:latin typeface="Arial"/>
            </a:endParaRPr>
          </a:p>
          <a:p>
            <a:pPr lvl="1" marL="743040" indent="0">
              <a:spcBef>
                <a:spcPts val="20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0" lang="en-US" sz="2800" spc="-1" strike="noStrike">
                <a:solidFill>
                  <a:srgbClr val="000000"/>
                </a:solidFill>
                <a:latin typeface="Arial"/>
              </a:rPr>
              <a:t> </a:t>
            </a:r>
            <a:r>
              <a:rPr b="1"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Not effective for development of skills/change        of attitudes. Forced passive learning</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Does not accommodate differences in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C944-C5AB-45B0-A330-2CF08216A8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specific objectiv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arrange info in logical order</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be notes onto paper, etc.</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nto segments (approx. 15m)</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material/exercise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6-7.jpg"/>
          <p:cNvPicPr/>
          <p:nvPr/>
        </p:nvPicPr>
        <p:blipFill>
          <a:blip r:embed="rId1"/>
          <a:stretch/>
        </p:blipFill>
        <p:spPr>
          <a:xfrm>
            <a:off x="6629400" y="2286000"/>
            <a:ext cx="25146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1C6D-0FA6-4145-97E7-2D8CD5793F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3"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facilitates analysis of a problem or case</a:t>
            </a:r>
            <a:endParaRPr b="0" lang="en-US" sz="3200" spc="-1" strike="noStrike">
              <a:solidFill>
                <a:srgbClr val="000000"/>
              </a:solidFill>
              <a:latin typeface="Arial"/>
            </a:endParaRPr>
          </a:p>
          <a:p>
            <a:pPr marL="388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purposes:</a:t>
            </a:r>
            <a:endParaRPr b="0" lang="en-US" sz="2800" spc="-1" strike="noStrike">
              <a:solidFill>
                <a:srgbClr val="000000"/>
              </a:solidFill>
              <a:latin typeface="Arial"/>
            </a:endParaRPr>
          </a:p>
          <a:p>
            <a:pPr marL="388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members recognize what they do not know but should</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members to get answers to questio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members to get advice on concer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haring ideas and deriving a common wisdom</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 to learn about one another</a:t>
            </a:r>
            <a:endParaRPr b="0" lang="en-US" sz="2600" spc="-1" strike="noStrike">
              <a:solidFill>
                <a:srgbClr val="000000"/>
              </a:solidFill>
              <a:latin typeface="Arial"/>
            </a:endParaRPr>
          </a:p>
          <a:p>
            <a:pPr marL="38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8CA6-77C3-4048-B8B4-2BBF3FD542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7"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articipative cultur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questions back to group</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reluct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cus on topic</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omin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groups small (4-6)</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well-defined tasks, with time frames</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6" descr="6-9.jpg"/>
          <p:cNvPicPr/>
          <p:nvPr/>
        </p:nvPicPr>
        <p:blipFill>
          <a:blip r:embed="rId1"/>
          <a:stretch/>
        </p:blipFill>
        <p:spPr>
          <a:xfrm>
            <a:off x="5791320" y="2743200"/>
            <a:ext cx="31953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7T19:48:08Z</dcterms:modified>
  <cp:revision>248</cp:revision>
  <dc:subject/>
  <dc:title>Chapter 6</dc:title>
</cp:coreProperties>
</file>