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A9DD-E17E-48EA-BD7C-E54B54429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DE1B-34D4-4569-8C03-B9D2EC1A0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9574-DDBE-4A99-BE29-EBC8E8B94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30D96-C307-4867-BC04-CB4CE7DB4B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814CB-9C42-4942-BB68-5B71A39DDE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73064-B4BF-4C02-89E5-9C96D381CE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0F4D3-51BA-459C-8317-C66B4121CE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47F97-D17B-48F9-BB25-E3426BA9DA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94CC9-EB41-4C4E-870E-2D3F5FCE7D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0FF69-4479-4F09-A8FE-82C04647DC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DE221-F70B-4216-B554-CB2F94B4A4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6A83E-BA43-4ED0-8678-9EC78B179F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D4793-D167-40BB-80A0-7529EFFC5A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A8B6F-1A3F-4C01-B881-23450A8DCB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7A569-744C-4AA8-B6B6-879BE4421D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5126-ABE6-411D-9BCD-AD96F8947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32412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7A50-4C91-48EC-B26F-C325B6EB7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Seve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0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n-the-Job Training Metho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7-1.jpg"/>
          <p:cNvPicPr/>
          <p:nvPr/>
        </p:nvPicPr>
        <p:blipFill>
          <a:blip r:embed="rId1"/>
          <a:stretch/>
        </p:blipFill>
        <p:spPr>
          <a:xfrm>
            <a:off x="2714760" y="3429000"/>
            <a:ext cx="426564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F830-95CA-49E5-8E5E-51EF0C47C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Instruction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not be managed differently from other types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integrated with other training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wnership must be maint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rs must be properly chosen and t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E may need train-the-trainer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25FD-1358-45F6-909B-07546B4FE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Performance Aid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device that helps an employee perform his/her job (while on the jo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502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s/prom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502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uble shooting 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502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tool or ga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502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sh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502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s or check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7-11.jpg"/>
          <p:cNvPicPr/>
          <p:nvPr/>
        </p:nvPicPr>
        <p:blipFill>
          <a:blip r:embed="rId1"/>
          <a:stretch/>
        </p:blipFill>
        <p:spPr>
          <a:xfrm>
            <a:off x="5786280" y="2286000"/>
            <a:ext cx="263376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D554-7700-4DF2-930B-C87D0364F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Performance Aid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ize visual performance aid with concepts from graphic artists’ c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e of reading, colour, boldness, graphic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how performance aids might save time and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ize use of technology (electronic performance support system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E558-90D2-4A76-8534-EA467B260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Rot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Trainees are exposed to many jobs, functions and areas within an organiz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ften used as an ongoing career-development progra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 is to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learn a variety of skills required for current and future jobs or colleagues’ jobs as done in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ross train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0B49-3D2B-4D80-927D-A4FC94CD1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Rot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mproved knowledge and skill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ore opportunities for career advance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igher job satisfaction and salar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0BAD-CEB3-48E2-BCA0-3BBFFC9C4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Rot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ructure so that trainees receive sufficient exposure and experience on each assignment to make it worthwhi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ailor assignments to each individual’s training nee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ob rotation should be only one component of a training program and learning process and supplemented with classroom instruction, coaching or mentor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D1F7-A146-4279-9741-1191625C3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ining for skilled trades that combines OJT and classroom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98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s in Medieval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98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the-job component (80%) teaches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98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room component (20%) teaches theory done in community colleges or “labour hall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98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enticeship system covers over  65 regulated occupations in four occupational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4543-377B-4D45-B18A-6CAEB2EC2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8360" y="1700280"/>
          <a:ext cx="7978680" cy="4465440"/>
        </p:xfrm>
        <a:graphic>
          <a:graphicData uri="http://schemas.openxmlformats.org/drawingml/2006/table">
            <a:tbl>
              <a:tblPr/>
              <a:tblGrid>
                <a:gridCol w="1995480"/>
                <a:gridCol w="2179440"/>
                <a:gridCol w="1810080"/>
                <a:gridCol w="19936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tru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ive Pow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ustr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v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2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pen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 Vehic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chan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chan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craft Mechan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wr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k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ne Ma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hin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 &amp; D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irstyl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5446-9757-4997-AE9F-E05E2DC32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entice receives supervised training by a journeyperson; must pass a provincial exam to become qual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enticeship period lasts between 1 and 5 years depending on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enticeships are focused on collective training needs of specific occupations within broad industrial 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84BE-D578-4383-8015-BD0F8B5FF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s learned are transferable within an occupation across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 Seal program (developed in 1950’s) promotes this transferability in specific occup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ility is advantageous when regional supply and demand fluctu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018D-E91C-4673-B7A7-CDBAB41D4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-4046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on-the-job training method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ist the advantages and disadvantages of each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how and when to use each training metho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the coaching process and how to design a coaching progra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25D7-9C61-4206-BC6F-7CD2B1C98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50920" y="1557360"/>
          <a:ext cx="8713800" cy="5349960"/>
        </p:xfrm>
        <a:graphic>
          <a:graphicData uri="http://schemas.openxmlformats.org/drawingml/2006/table">
            <a:tbl>
              <a:tblPr/>
              <a:tblGrid>
                <a:gridCol w="2327040"/>
                <a:gridCol w="2127240"/>
                <a:gridCol w="2000520"/>
                <a:gridCol w="2259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de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ncial/ Territo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us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itates inter-provincial mobilit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tes &amp;  administers progr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nsors apprent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otes progr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s tuition for in- school train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s for school progr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s for OJT peri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s curricul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s income support during in-school peri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otes programs and develops curricul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s and pays costs of on-the-job tr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s tax credits to employers and apprent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s tax credits to employers and apprent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F809-3FDD-43A3-A330-EA9898231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 Programs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638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ROI on investment in apprentices for employ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nd for skilled tradespersons increasing as current labour force 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focus on program enhancement/ expansion to meet needs of current/future indu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7-21.jpg"/>
          <p:cNvPicPr/>
          <p:nvPr/>
        </p:nvPicPr>
        <p:blipFill>
          <a:blip r:embed="rId1"/>
          <a:stretch/>
        </p:blipFill>
        <p:spPr>
          <a:xfrm>
            <a:off x="5446800" y="2857680"/>
            <a:ext cx="369720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110F-C8CE-42C0-ABF2-A02E00A65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 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al values influencing youth and parents to select other occup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y to attract wider demographic into apprenticeship labour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r reluctance to offer apprenticeship programs and rely on existing labour market to meet their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of HR and Training professionals important in championing apprenticeships as effective recruitment and retention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1317-FAD3-4282-BB6A-10F493CC1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e-on-one individualized learning experience in which a more experienced and knowledgeable person is formally called upon to help another person develop their insights and techniques pertinent to the accomplishments of their jo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01B0-5975-4022-921A-97D390944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 elements in coach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ed opportunities in work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eed upon set of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strengths; weaknesses only if inhibiting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5740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discussion, sett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5740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identified, long-term plan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5740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e performs tasks, reports to c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1460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fitted into employee’s goals and organization’s long-term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5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A304-1202-47FB-A28A-2E0075792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aching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assig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cation re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aking engag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memb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3BFE-2D5B-4E76-A957-44D014B20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in enhancing interpersonal skills, communication skills, leadership skills, and self-management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vidu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proves working relationships, job attitudes, increases rate of advancement and salary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reases in productivity, quality, customer service, retention; decreases in customer complaints,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1D4E-30E3-4F8E-ADAE-C6F7E7DEB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557000"/>
            <a:ext cx="5711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trust and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going dialogue and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ch must be able to relate to employ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ching should be part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r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ness should b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7-27.jpg"/>
          <p:cNvPicPr/>
          <p:nvPr/>
        </p:nvPicPr>
        <p:blipFill>
          <a:blip r:embed="rId1"/>
          <a:stretch/>
        </p:blipFill>
        <p:spPr>
          <a:xfrm>
            <a:off x="5857920" y="2143080"/>
            <a:ext cx="31068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7204-2710-4393-A95A-D58555B78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entor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hod in which a senior member of an organization takes a personal interest in the career of a junior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es coaching and counseling to a junior employee (the protég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ized mentoring programs are emerging in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is narrower than coaching: career development of “junior” employe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ion is generally volun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189F-B73E-40CA-936B-609DE824B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entor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oles of a Ment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er sup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ching, sponsorship, exposure, visibility, protection, and provision of challenging assig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endship, listening, counselling, feedback, role model for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3E6D-C6E3-4555-97DD-9CEB74F3F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fine mentoring and describe how to develop a formal mentoring progra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the advantages/disadvantages of on-the-job and off-the-job training method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B0D7-7E1E-4938-BF43-BC5411CFC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entor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715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nef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e career progress of underrepresented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 culture and values to newer mana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 on accumulated wisdom of seasoned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7-30.jpg"/>
          <p:cNvPicPr/>
          <p:nvPr/>
        </p:nvPicPr>
        <p:blipFill>
          <a:blip r:embed="rId1"/>
          <a:stretch/>
        </p:blipFill>
        <p:spPr>
          <a:xfrm>
            <a:off x="6000840" y="1428840"/>
            <a:ext cx="296712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3B4F-D41A-49D4-9D52-F313B60E3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entor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clarity of roles and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mentors care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 mentors and protégé(s) with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 both mentors and protégé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the mentoring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support from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benefits for men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2BF8-FFFD-4330-8405-AD31DC38A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ff-the-Job versus On-the-Job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f-the-job 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963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use wide variety of training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963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control training enviro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963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 numbers of trainees can be trained at o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963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much more costly than on-the-job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963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cause training environment differs from workplace, there are challenges regarding transfer of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BB8A-4B34-4F3B-AEDD-65650AC94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ff-the-Job versus On-the-Job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927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-the-job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likelihood of application of training on-the-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7-33A.jpg"/>
          <p:cNvPicPr/>
          <p:nvPr/>
        </p:nvPicPr>
        <p:blipFill>
          <a:blip r:embed="rId1"/>
          <a:stretch/>
        </p:blipFill>
        <p:spPr>
          <a:xfrm>
            <a:off x="5929200" y="2214720"/>
            <a:ext cx="3214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4022-7A38-4342-A07D-2835A6617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ff-the-Job versus On-the-Job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-the-job training method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'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actions in work environment during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for damage when training on actual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ruption of service, or slow down of production, during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CF9B-5E92-4A69-9DBF-EB901C703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Which Method is Best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most important is mixing and combining methods (blended delivery approach) to best suit a particular training need, objective, or any organizational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7-33B.jpg"/>
          <p:cNvPicPr/>
          <p:nvPr/>
        </p:nvPicPr>
        <p:blipFill>
          <a:blip r:embed="rId1"/>
          <a:stretch/>
        </p:blipFill>
        <p:spPr>
          <a:xfrm>
            <a:off x="5572080" y="2928960"/>
            <a:ext cx="252900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F774-A03E-4A15-9AE8-C0DAF526F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d as most common yet also most misused and the need for planning and structure to achieve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specific methods, their advantages and disadvantages, and the considera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d importance of selecting most appropriate method to meet training need, and value of blended delivery approach with off-the-job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C0BB-BC3B-406B-967A-905408465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n-The-Job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inee receives instruction and training at work station from a supervisor or experienced cowork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common approach to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pecially useful for small busin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misused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ten not well planned or structu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ople assigned to train have no training to be train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tential transfer of undesirable habits/attitu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d approach most effec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7C7D-EAC2-4D76-8E99-B01E47434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Instruction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alized, structured, and systematic approach to OJ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4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s the principles of behaviour mod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 ste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58880" indent="-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58880" indent="-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58880" indent="-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58880" indent="-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7-5.jpg"/>
          <p:cNvPicPr/>
          <p:nvPr/>
        </p:nvPicPr>
        <p:blipFill>
          <a:blip r:embed="rId1"/>
          <a:stretch/>
        </p:blipFill>
        <p:spPr>
          <a:xfrm>
            <a:off x="4643280" y="3357720"/>
            <a:ext cx="4108680" cy="27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43CA-83C0-4BD0-A988-88E286701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Instruction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0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1: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0320" indent="-40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s down the job into small tasks, prepares equipment and supplies and allocates time to learn each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0320" indent="-40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communication strategy and what trainee already knows and nature of the tasks to be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0320" indent="-40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put trainee at 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guarantee th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build interest and show person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EB7A-F3A7-42A5-BF36-450277B85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Instruction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783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2: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ing, showing, explaining, and           demonstrating the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trainee how to perform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and explain key points in                   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trainee to see whole job                      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7-7.jpg"/>
          <p:cNvPicPr/>
          <p:nvPr/>
        </p:nvPicPr>
        <p:blipFill>
          <a:blip r:embed="rId1"/>
          <a:stretch/>
        </p:blipFill>
        <p:spPr>
          <a:xfrm>
            <a:off x="6100920" y="1428840"/>
            <a:ext cx="304308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6DF9-B70D-423A-8945-1D082905C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Instruction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999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3: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 performs task under guidance from instructor who provides feedback and reinfor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trainee to perform less difficult parts of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trainee to perform entire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7-8.jpg"/>
          <p:cNvPicPr/>
          <p:nvPr/>
        </p:nvPicPr>
        <p:blipFill>
          <a:blip r:embed="rId1"/>
          <a:stretch/>
        </p:blipFill>
        <p:spPr>
          <a:xfrm>
            <a:off x="6100920" y="1428840"/>
            <a:ext cx="304308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0A37-FF5B-40F4-8C8C-B7D9CFB73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Instruction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351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4: Follow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r monitors performance and provides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lly tapers off instruction as employee gains confidence and sk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7-9.jpg"/>
          <p:cNvPicPr/>
          <p:nvPr/>
        </p:nvPicPr>
        <p:blipFill>
          <a:blip r:embed="rId1"/>
          <a:stretch/>
        </p:blipFill>
        <p:spPr>
          <a:xfrm>
            <a:off x="5786280" y="1500120"/>
            <a:ext cx="314496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27T23:17:09Z</dcterms:modified>
  <cp:revision>299</cp:revision>
  <dc:subject/>
  <dc:title>Chapter 7</dc:title>
</cp:coreProperties>
</file>