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F85C-E80E-4466-8140-AD165F2A7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CF41-012C-4F66-ADA0-870B97CB4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55D0-C992-45C8-9F75-1E1612B37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5C3B-0436-4BBA-A9EC-D9354BF55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DE7B-0F49-4129-AD81-D46889078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386E-C1F1-4A8A-B3C3-EC491A361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41A5-3A54-49DA-A092-14F00BD80F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6A5A-F7FE-49B4-ACFE-E99AC67860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5DB5-1773-4F64-A3BE-05600C9E6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8CF2-2B92-438E-B92B-576378A2B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1072-21CD-4639-9274-8D894875E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02E9-147D-4AF7-AA6D-FDDE7F724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DDBC-878F-4B0C-8E5A-18A1F8A83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EF63-D7E1-4068-A275-C27346B57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0EA6-26B1-44AB-A8AB-87D65B78F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DABA-FC6D-4C21-BE86-3BEB2616F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3241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2CE8-924F-4170-BCF6-672E9BD3E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Sev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0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7-1.jpg"/>
          <p:cNvPicPr/>
          <p:nvPr/>
        </p:nvPicPr>
        <p:blipFill>
          <a:blip r:embed="rId1"/>
          <a:stretch/>
        </p:blipFill>
        <p:spPr>
          <a:xfrm>
            <a:off x="2714760" y="3429000"/>
            <a:ext cx="4265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25A2-97DF-46C1-BE08-CA52CAF5D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not be managed differently from other typ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integrated with other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hip must be main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s must be properly chosen and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E may need train-the-train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8CC4-2450-405E-8B50-6A3F28E86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erformance Ai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vice that helps an employee perform his/her job (while on the jo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s/pro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 shooting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tool or ga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s or check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7-11.jpg"/>
          <p:cNvPicPr/>
          <p:nvPr/>
        </p:nvPicPr>
        <p:blipFill>
          <a:blip r:embed="rId1"/>
          <a:stretch/>
        </p:blipFill>
        <p:spPr>
          <a:xfrm>
            <a:off x="5786280" y="2286000"/>
            <a:ext cx="26337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3BC3-055B-47BB-B671-D2DF4482E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erformance Ai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visual performance aid with concepts from graphic artists’ 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reading, colour, boldness, graphic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how performance aids might save time and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use of technology (electronic performance support system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8BB2-754E-46A6-B94E-DCC331C58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rainees are exposed to many jobs, functions and areas within an organiz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ten used as an ongoing career-development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is to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learn a variety of skills required for current and future jobs or colleagues’ jobs as done in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ross trai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8F66-E835-41C0-ADB2-D50856072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mproved knowledge and skil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ore opportunities for career advanc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igher job satisfaction and sala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ABAA-DC88-45AF-84EA-C5BC9F5C5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ucture so that trainees receive sufficient exposure and experience on each assignment to make it worthwh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ilor assignments to each individual’s training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b rotation should be only one component of a training program and learning process and supplemented with classroom instruction, coaching or men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2705-157A-41C0-8D94-0764A41D4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for skilled trades that combines OJT and classroom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s in Medieva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job component (80%) teaches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component (20%) teaches theory done in community colleges or “labour hal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 system covers over  65 regulated occupations in four occupational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5E96-5C44-41B3-9283-C75E8362B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700280"/>
          <a:ext cx="7978680" cy="4465440"/>
        </p:xfrm>
        <a:graphic>
          <a:graphicData uri="http://schemas.openxmlformats.org/drawingml/2006/table">
            <a:tbl>
              <a:tblPr/>
              <a:tblGrid>
                <a:gridCol w="1995480"/>
                <a:gridCol w="2179440"/>
                <a:gridCol w="1810080"/>
                <a:gridCol w="19936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ve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s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pe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Vehi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craft 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wr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ne M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 &amp; D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rstyl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AFE0-1C33-49CE-ACA3-6DCBE64F2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 receives supervised training by a journeyperson; must pass a provincial exam to become 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 period lasts between 1 and 5 years depending on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s are focused on collective training needs of specific occupations within broad industrial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EC6C-9396-4B89-858D-62D11D79B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 learned are transferable within an occupation across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Seal program (developed in 1950’s) promotes this transferability in specific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 is advantageous when regional supply and demand fluctu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8897-0E89-41C0-AEE2-2F4735602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on-the-job training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st the advantages and disadvantages of eac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how and when to use each training metho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coaching process and how to design a coaching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7DF8-ADBA-49CB-AD07-575FFA04D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557360"/>
          <a:ext cx="8713800" cy="5349960"/>
        </p:xfrm>
        <a:graphic>
          <a:graphicData uri="http://schemas.openxmlformats.org/drawingml/2006/table">
            <a:tbl>
              <a:tblPr/>
              <a:tblGrid>
                <a:gridCol w="2327040"/>
                <a:gridCol w="2127240"/>
                <a:gridCol w="2000520"/>
                <a:gridCol w="2259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d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ncial/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s inter-provincial mobilit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es &amp;  administers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tuition for in- school trai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school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OJT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s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income support during in-school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programs and develops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and pays costs of on-the-job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ax credits to employers and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ax credits to employers and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1252-08D8-43F4-A5C1-568B9008C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ROI on investment in apprentices for emplo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skilled tradespersons increasing as current labour force 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focus on program enhancement/ expansion to meet needs of current/future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7-21.jpg"/>
          <p:cNvPicPr/>
          <p:nvPr/>
        </p:nvPicPr>
        <p:blipFill>
          <a:blip r:embed="rId1"/>
          <a:stretch/>
        </p:blipFill>
        <p:spPr>
          <a:xfrm>
            <a:off x="5446800" y="2857680"/>
            <a:ext cx="369720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6658-B956-4F22-A9D2-A5D90E3F9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al values influencing youth and parents to select other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to attract wider demographic into apprenticeship labour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reluctance to offer apprenticeship programs and rely on existing labour market to meet their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HR and Training professionals important in championing apprenticeships as effective recruitment and reten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407B-4E7E-4D66-A6F7-FBD0FD828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-on-one individualized learning experience in which a more experienced and knowledgeable person is formally called upon to help another person develop their insights and techniques pertinent to the accomplishments of their j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3B03-1145-42FE-86BA-C4BE0004C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elements in coach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opportunities in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d upon set of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strengths; weaknesses only if inhibit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discussion, sett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identified, long-term pla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performs tasks, reports to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1460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itted into employee’s goals and organization’s long-term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36AE-1DCE-4BA9-8976-4C1279231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ching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ation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ing engag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80D3-D7C3-483B-98AD-D7C7FBC1F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in enhancing interpersonal skills, communication skills, leadership skills, and self-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roves working relationships, job attitudes, increases rate of advancement and salar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s in productivity, quality, customer service, retention; decreases in customer complaints,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DB09-CA64-4E61-B0F6-7C1707D7E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5711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rust and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dialogue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 must be able to relate to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 should be par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ness should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7-27.jpg"/>
          <p:cNvPicPr/>
          <p:nvPr/>
        </p:nvPicPr>
        <p:blipFill>
          <a:blip r:embed="rId1"/>
          <a:stretch/>
        </p:blipFill>
        <p:spPr>
          <a:xfrm>
            <a:off x="5857920" y="2143080"/>
            <a:ext cx="31068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AA12-9FFB-4BC3-9814-29F37E256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in which a senior member of an organization takes a personal interest in the career of a junior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coaching and counseling to a junior employee (the protég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ized mentoring programs are emerging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is narrower than coaching: career development of “junior” employe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is generally 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15E9-A056-4A0D-9FA4-DBA24C005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oles of a Men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er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, sponsorship, exposure, visibility, protection, and provision of challenging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hip, listening, counselling, feedback, role model fo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D336-692F-4623-B073-7FBF91F82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fine mentoring and describe how to develop a formal mentoring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advantages/disadvantages of on-the-job and off-the-job training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A7F5-D4E8-4378-B72C-0F5789181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career progress of underrepresent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culture and values to newer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on accumulated wisdom of seasoned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7-30.jpg"/>
          <p:cNvPicPr/>
          <p:nvPr/>
        </p:nvPicPr>
        <p:blipFill>
          <a:blip r:embed="rId1"/>
          <a:stretch/>
        </p:blipFill>
        <p:spPr>
          <a:xfrm>
            <a:off x="6000840" y="1428840"/>
            <a:ext cx="29671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42A0-A877-4BB2-B28A-5C898DBC0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clarity of roles and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mentors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mentors and protégé(s) wi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both mentors and protégé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the mentoring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upport fro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benefits for me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EB0D-0F13-4CDC-A138-919397E66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f-the-job 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wide variety of training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ntrol training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numbers of trainees can be trained at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much more costly than on-the-job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training environment differs from workplace, there are challenges regarding transfer of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EAC2-72D5-42A9-B2FB-F41B3FE90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2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ikelihood of application of training on-the-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7-33A.jpg"/>
          <p:cNvPicPr/>
          <p:nvPr/>
        </p:nvPicPr>
        <p:blipFill>
          <a:blip r:embed="rId1"/>
          <a:stretch/>
        </p:blipFill>
        <p:spPr>
          <a:xfrm>
            <a:off x="5929200" y="221472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368E-707D-4A28-9B31-8C837CA9B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ctions in work environment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for damage when training on actual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service, or slow down of production,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6D69-6DD9-4AD7-96FB-175FB201F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ich Method is Bes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ost important is mixing and combining methods (blended delivery approach) to best suit a particular training need, objective, or any organizational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7-33B.jpg"/>
          <p:cNvPicPr/>
          <p:nvPr/>
        </p:nvPicPr>
        <p:blipFill>
          <a:blip r:embed="rId1"/>
          <a:stretch/>
        </p:blipFill>
        <p:spPr>
          <a:xfrm>
            <a:off x="5572080" y="2928960"/>
            <a:ext cx="25290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7F25-DB6B-4EA0-92E4-7515CF364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as most common yet also most misused and the need for planning and structure to achiev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specific methods, their advantages and disadvantages, and the considera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importance of selecting most appropriate method to meet training need, and value of blended delivery approach with off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C61F-6721-4717-A6CF-954CE00E8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inee receives instruction and training at work station from a supervisor or experienced cowor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common approach to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ly useful for small busi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misuse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not well planned or 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assigned to train have no training to be trai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transfer of undesirable habits/attit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d approach most eff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BB0F-06D2-42F9-A250-004B9C22F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ized, structured, and systematic approach to O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s the principles of behaviour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7-5.jpg"/>
          <p:cNvPicPr/>
          <p:nvPr/>
        </p:nvPicPr>
        <p:blipFill>
          <a:blip r:embed="rId1"/>
          <a:stretch/>
        </p:blipFill>
        <p:spPr>
          <a:xfrm>
            <a:off x="4643280" y="3357720"/>
            <a:ext cx="410868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EEB4-76CB-4A8D-87D7-C18D51300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s down the job into small tasks, prepares equipment and supplies and allocates time to learn each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mmunication strategy and what trainee already knows and nature of the tasks to b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put trainee at 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guarantee th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build interest and show pers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D40C-5EBA-42E3-AFE1-6534F4D43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8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, showing, explaining, and           demonstrating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rainee how to perform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nd explain key points in                   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rainee to see whole job                      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7-7.jpg"/>
          <p:cNvPicPr/>
          <p:nvPr/>
        </p:nvPicPr>
        <p:blipFill>
          <a:blip r:embed="rId1"/>
          <a:stretch/>
        </p:blipFill>
        <p:spPr>
          <a:xfrm>
            <a:off x="6100920" y="1428840"/>
            <a:ext cx="3043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E910-ED70-4275-8D55-0AD3AB856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9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 performs task under guidance from instructor who provides feedback and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trainee to perform less difficult parts of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rainee to perform entir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7-8.jpg"/>
          <p:cNvPicPr/>
          <p:nvPr/>
        </p:nvPicPr>
        <p:blipFill>
          <a:blip r:embed="rId1"/>
          <a:stretch/>
        </p:blipFill>
        <p:spPr>
          <a:xfrm>
            <a:off x="6100920" y="1428840"/>
            <a:ext cx="3043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8897-B1B2-4268-9601-BB061E856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5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Foll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 monitors performance and provides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ly tapers off instruction as employee gains confidence and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7-9.jpg"/>
          <p:cNvPicPr/>
          <p:nvPr/>
        </p:nvPicPr>
        <p:blipFill>
          <a:blip r:embed="rId1"/>
          <a:stretch/>
        </p:blipFill>
        <p:spPr>
          <a:xfrm>
            <a:off x="5786280" y="1500120"/>
            <a:ext cx="31449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23:17:09Z</dcterms:modified>
  <cp:revision>299</cp:revision>
  <dc:subject/>
  <dc:title>Chapter 7</dc:title>
</cp:coreProperties>
</file>