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F331-99F7-4A23-9DC2-78526013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1C92-9B7D-4F63-B304-73C71682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6C13-6D0A-48AF-B652-36C344586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0822-ABF7-4280-9DD2-6DC26CB27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0A14-3FC6-4904-AC23-64B0CCDD0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EAD5-9ADF-460F-BB74-23C124A3B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9A27-3513-43D5-A782-05547AFE90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DF2D-5F9B-42A4-954E-B28BFFAA1F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8A43-E7E3-4240-A8EE-213FE719A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9B6-1260-4D31-9D7C-FD684248E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1DA1-7BD3-4541-9017-26A603F19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1284-34F2-4670-B682-DBB3892F4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60CC-A016-4AFD-A844-506498847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51AD-D6F9-45E9-9FE7-19739739C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24394-7077-4E6E-B298-E86A0191D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4629-68A9-49F0-B2C9-7EBA0E652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3FCB-9062-44AE-8AD4-C272DD583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S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0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7-1.jpg"/>
          <p:cNvPicPr/>
          <p:nvPr/>
        </p:nvPicPr>
        <p:blipFill>
          <a:blip r:embed="rId1"/>
          <a:stretch/>
        </p:blipFill>
        <p:spPr>
          <a:xfrm>
            <a:off x="2714760" y="3429000"/>
            <a:ext cx="4265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B408-C1A4-464C-B912-0EACECC22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not be managed differently from other typ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integrated with other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wnership must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must be properly chosen and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 may need train-the-trainer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43DF-86D4-4486-BE49-66CFFA512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vice that helps an employee perform his/her job (while on the jo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/prom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uble shoot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ool or ga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5029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s or check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7-11.jpg"/>
          <p:cNvPicPr/>
          <p:nvPr/>
        </p:nvPicPr>
        <p:blipFill>
          <a:blip r:embed="rId1"/>
          <a:stretch/>
        </p:blipFill>
        <p:spPr>
          <a:xfrm>
            <a:off x="5786280" y="2286000"/>
            <a:ext cx="26337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F26-6279-42D9-8BF8-D8420085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erformance Ai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visual performance aid with concepts from graphic artists’ 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reading, colour, boldness, graphic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performance aids might save time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ize use of technology (electronic performance support system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35D2-7764-4EE7-B9FE-6430F783D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rainees are exposed to many jobs, functions and areas within an organiz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ten used as an ongoing career-development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is to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learn a variety of skills required for current and future jobs or colleagues’ jobs as done in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ross trai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989C-A6D5-4760-8CE3-314FA3E5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mproved knowledge and skill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ore opportunities for career advanc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igher job satisfaction and sal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E65D-7C16-4092-977E-145075B93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Ro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ucture so that trainees receive sufficient exposure and experience on each assignment to make it worthwh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ilor assignments to each individual’s training nee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ob rotation should be only one component of a training program and learning process and supplemented with classroom instruction, coaching or mentor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8E7-4002-4FD5-A650-73FB1AA61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for skilled trades that combines OJT and classroom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 in Medieval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component (80%) teache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omponent (20%) teaches theory done in community colleges or “labour hall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98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system covers over  65 regulated occupations in four occupational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4700-A3E4-4C45-8B09-A8B97D947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1700280"/>
          <a:ext cx="7978680" cy="4465440"/>
        </p:xfrm>
        <a:graphic>
          <a:graphicData uri="http://schemas.openxmlformats.org/drawingml/2006/table">
            <a:tbl>
              <a:tblPr/>
              <a:tblGrid>
                <a:gridCol w="1995480"/>
                <a:gridCol w="2179440"/>
                <a:gridCol w="1810080"/>
                <a:gridCol w="19936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ve P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2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pen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Vehic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mb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craft Mech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wr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ne M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in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 &amp;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irstyl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5E45-F03B-4FA4-8579-0BBDDED7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 receives supervised training by a journeyperson; must pass a provincial exam to become 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 period lasts between 1 and 5 years depending on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enticeships are focused on collective training needs of specific occupations within broad industri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291A-0E34-471D-ADE7-325110EB9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 learned are transferable within an occupation across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Seal program (developed in 1950’s) promotes this transferability in specific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 is advantageous when regional supply and demand fluct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6652-EA0F-4EE3-92DC-372B34FD9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on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st the advantages and disadvantages of eac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how and when to use each training metho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coaching process and how to design a coach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4991-7F39-47DE-9725-8E32F7FCD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0920" y="1557360"/>
          <a:ext cx="8713800" cy="5349960"/>
        </p:xfrm>
        <a:graphic>
          <a:graphicData uri="http://schemas.openxmlformats.org/drawingml/2006/table">
            <a:tbl>
              <a:tblPr/>
              <a:tblGrid>
                <a:gridCol w="2327040"/>
                <a:gridCol w="2127240"/>
                <a:gridCol w="2000520"/>
                <a:gridCol w="2259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d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ial/ Terr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u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s inter-provincial mobilit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es &amp;  administer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tuition for in- school train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school progr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s for OJT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income support during in-school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s programs and develops curricul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and pays costs of on-the-job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s tax credits to employers and apprent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9C79-5049-47B5-A36E-AAC09A0BE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Program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ROI on investment in apprentices for employ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skilled tradespersons increasing as current labour force 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focus on program enhancement/ expansion to meet needs of current/futur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7-21.jpg"/>
          <p:cNvPicPr/>
          <p:nvPr/>
        </p:nvPicPr>
        <p:blipFill>
          <a:blip r:embed="rId1"/>
          <a:stretch/>
        </p:blipFill>
        <p:spPr>
          <a:xfrm>
            <a:off x="5446800" y="2857680"/>
            <a:ext cx="36972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53A-1B07-4BEF-90D7-6D2AFE5B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pprenticeship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al values influencing youth and parents to select other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attract wider demographic into apprenticeship labour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reluctance to offer apprenticeship programs and rely on existing labour market to meet their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HR and Training professionals important in championing apprenticeships as effective recruitment and reten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9706-80DA-4A2A-BA08-6A5D41507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-on-one individualized learning experience in which a more experienced and knowledgeable person is formally called upon to help another person develop their insights and techniques pertinent to the accomplishments of thei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C778-8D08-4801-9649-B9471282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y elements in coach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opportunities in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d upon set of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trengths; weaknesses only if inhibit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cussion, sett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identified, long-term pla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performs tasks, reports to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1460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fitted into employee’s goals and organization’s long-term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CD93-EE44-4DF8-A9C4-95E691400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ching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ation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engag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79D8-DF7F-4562-99E3-599391B7E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in enhancing interpersonal skills, communication skills, leadership skills, and self-management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working relationships, job attitudes, increases rate of advancement and salar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in productivity, quality, customer service, retention; decreases in customer complaints,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8AB-F868-4E9D-AEA4-CBB10295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5711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rust and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dialogue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 must be able to relate to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 should be par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ness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7-27.jpg"/>
          <p:cNvPicPr/>
          <p:nvPr/>
        </p:nvPicPr>
        <p:blipFill>
          <a:blip r:embed="rId1"/>
          <a:stretch/>
        </p:blipFill>
        <p:spPr>
          <a:xfrm>
            <a:off x="5857920" y="2143080"/>
            <a:ext cx="31068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0C25-3990-49B6-B891-DAC3A0EC8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n which a senior member of an organization takes a personal interest in the career of a junior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coaching and counseling to a junior employee (the protég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ized mentoring programs are emerging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is narrower than coaching: career development of “junior” employe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is generally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0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4FAF-3B69-4739-B527-93DDCF14C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roles of a Men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er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ing, sponsorship, exposure, visibility, protection, and provision of challenging assig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endship, listening, counselling, feedback, role model for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4D7-0248-41C8-BBBD-0B7CB7B8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fine mentoring and describe how to develop a formal mentoring progra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scribe the advantages/disadvantages of on-the-job and off-the-job training method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8F6D-F0D6-41C3-8100-C318472B1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 career progress of underrepresen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culture and values to newer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 on accumulated wisdom of seasoned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7-30.jpg"/>
          <p:cNvPicPr/>
          <p:nvPr/>
        </p:nvPicPr>
        <p:blipFill>
          <a:blip r:embed="rId1"/>
          <a:stretch/>
        </p:blipFill>
        <p:spPr>
          <a:xfrm>
            <a:off x="6000840" y="1428840"/>
            <a:ext cx="29671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C53-E78C-45E3-92BB-3370025A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entor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p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clarity of roles and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mentors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mentors and protégé(s) wi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both mentors and protégé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mentor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upport fro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benefits for men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68D4-BF02-4F35-92EB-41D4FA2C5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f-the-job 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use wide variety of training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trol training enviro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numbers of trainees can be trained at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much more costly than on-the-job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4560" indent="-3963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raining environment differs from workplace, there are challenges regarding transfer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3DC0-F48B-4B0B-B08D-B977D8A1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2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ikelihood of application of training on-the-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7-33A.jpg"/>
          <p:cNvPicPr/>
          <p:nvPr/>
        </p:nvPicPr>
        <p:blipFill>
          <a:blip r:embed="rId1"/>
          <a:stretch/>
        </p:blipFill>
        <p:spPr>
          <a:xfrm>
            <a:off x="5929200" y="2214720"/>
            <a:ext cx="3214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763-D999-4043-B20C-276B7F01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ff-the-Job versus 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training metho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ctions in work environment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damage when training on actua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ruption of service, or slow down of production,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186B-9B09-459E-8A74-F0AD82FE7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ich Method is Bes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most important is mixing and combining methods (blended delivery approach) to best suit a particular training need, objective, or any organiza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7-33B.jpg"/>
          <p:cNvPicPr/>
          <p:nvPr/>
        </p:nvPicPr>
        <p:blipFill>
          <a:blip r:embed="rId1"/>
          <a:stretch/>
        </p:blipFill>
        <p:spPr>
          <a:xfrm>
            <a:off x="5572080" y="2928960"/>
            <a:ext cx="25290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3C85-27AC-4AAE-9A2D-34CE1590F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as most common yet also most misused and the need for planning and structure to achiev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specific methods, their advantages and disadvantages, and the considera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mportance of selecting most appropriate method to meet training need, and value of blended delivery approach with off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2487-F472-4002-BBD2-87AA21B0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n-The-Job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inee receives instruction and training at work station from a supervisor or experienced cowo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ommon approach 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ly useful for small busi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isuse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not well planned or 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ssigned to train have no training to be trai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ential transfer of undesirable habits/attit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d approach most eff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372A-5AD6-475F-981D-A5DC765B6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ized, structured, and systematic approach to O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4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s the principles of behaviour mod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 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58880" indent="-399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7-5.jpg"/>
          <p:cNvPicPr/>
          <p:nvPr/>
        </p:nvPicPr>
        <p:blipFill>
          <a:blip r:embed="rId1"/>
          <a:stretch/>
        </p:blipFill>
        <p:spPr>
          <a:xfrm>
            <a:off x="4643280" y="3357720"/>
            <a:ext cx="410868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85E3-B1B6-4FEF-9656-46F26CCF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0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1: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s down the job into small tasks, prepares equipment and supplies and allocates time to learn each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mmunication strategy and what trainee already knows and nature of the tasks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0320" indent="-40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put trainee at 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guarantee th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build interest and show pers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FA9-B3EB-4114-824A-9D73BA27A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78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2: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ling, showing, explaining, and           demonstrating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nee how to perform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nd explain key points in                   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see whole job                      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7-7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0C7-C27F-48A9-9AE6-81C6091F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99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3: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performs task under guidance from instructor who provides feedback and reinfor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trainee to perform less difficult parts of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rainee to perform entir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7-8.jpg"/>
          <p:cNvPicPr/>
          <p:nvPr/>
        </p:nvPicPr>
        <p:blipFill>
          <a:blip r:embed="rId1"/>
          <a:stretch/>
        </p:blipFill>
        <p:spPr>
          <a:xfrm>
            <a:off x="6100920" y="1428840"/>
            <a:ext cx="304308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992F-0927-4EBB-A422-87627ECA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90920" y="6324480"/>
            <a:ext cx="449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Job Instruction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 4: 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 monitors performance and provid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lly tapers off instruction as employee gains confidence and s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7-9.jpg"/>
          <p:cNvPicPr/>
          <p:nvPr/>
        </p:nvPicPr>
        <p:blipFill>
          <a:blip r:embed="rId1"/>
          <a:stretch/>
        </p:blipFill>
        <p:spPr>
          <a:xfrm>
            <a:off x="5786280" y="1500120"/>
            <a:ext cx="31449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17:09Z</dcterms:modified>
  <cp:revision>299</cp:revision>
  <dc:subject/>
  <dc:title>Chapter 7</dc:title>
</cp:coreProperties>
</file>