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5B20-48EC-44C9-9527-E699B6962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86AE-08EF-40A5-AA31-4E382A38F76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74F3-74FF-4364-AB32-E13BDFB9A2B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F5CA8-C941-410D-B234-512FAD4EAE6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90CF-EC5A-453A-B42C-6441344A9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3C1C-1B2F-4824-8229-9D763834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5AA79-DDF7-4196-A587-2890C2F65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E1573-6352-4315-8C0A-C801B71DF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309D9-D35B-4A2E-BCFA-E96B99F998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BAF8D-BB4F-40DD-9687-47C28707A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85848-DA4A-46C0-AD3E-F5263A7B0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4642E-4178-4AB1-9767-FAE332664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1183B-32F2-428A-933D-B39B9AC22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E1EC8-B8D7-4115-9E8B-92FC64853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96517-7E0F-48F4-84BF-76E78DAF1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7F61-F9F2-477D-AD51-354BAC35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D88D9-B86A-43B1-8B64-65E554E3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28B58-4836-4B3F-8B5D-962F79226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C302-FEDC-4C68-9CAE-A7B83A551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85DFB-562A-4FDF-B75F-1682EF7AB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7EA14-ED01-44E2-966A-106DD989C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7FEEF3-7D59-4FF9-BD77-DD32FEEC18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B15D8-7924-4FB5-98CA-09B5093DD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FBE33B-071F-4FE6-898C-4CB73A3440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8FC14-382B-4DA7-ADC2-85F714165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829AA-8BDA-4A65-A449-36A83F8E2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C2DD8-F0B2-4394-A29D-A863C8321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6E7761-DA3F-44EC-828B-5A03406BA5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60E534-4841-4F8F-AC28-53A802672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99DB8-4602-467E-864F-371A90033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8A4B3F-2871-4321-B8A7-F50B6E9C0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C7D6AC-B6E5-456D-91C2-9C1A6CF613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B3A1A0-895B-4DCE-A5CB-F1EAA8C4F2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D5701F-7D82-4BB0-AD94-415C609B88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AC4237-5624-4307-A317-229C2677A1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58EA7-1A20-4A1F-B9C9-B516181BB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09ECF-817F-4BDC-823F-7BB7A8AFDF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B814B-43D1-4E11-B651-28FC2F0B7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7A82DA-33C6-446C-9D78-1F099F80B1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AE3138-E27C-43C2-B93B-D1AC33ABA2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22430-5C57-43B9-99B6-C1C8E7304C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698E3-C9D5-4808-8FC2-24327FF1E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C7393-57FD-42C6-BED5-083FB9306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1DE8A6-6899-4FD5-821C-B88BC46AC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86EA24-E4CC-431F-A621-06F264952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630D64-3A0B-408D-82EA-8C68B4726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CADA19-1DF4-4599-8AAD-B424A26D97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CCFD4-68A4-41C6-B333-F3D2421AC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01D7A-C7EA-4B66-AD99-4086D7AEA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EC33-4FC7-46A2-AF69-E626C912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7603-4E7B-4D2F-A940-4B1C32671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3EB4-5801-4C04-B658-021431024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B58A-6224-4EFB-AC1E-A55C94C2BE95}"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7BF0-12C7-4A6D-87CF-F2DAACF490A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9F5D-14E0-4A00-8C2D-0C8AE0A5CBF1}"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E892-346A-4B05-9655-9D30B6ED7C3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9F41-4C98-499D-8E60-1BEA141C8D65}"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2D26F-0CDE-4A5D-B792-4321B6ABF8D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0C3D-3C8D-4903-866D-3197560F1349}"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D2CD-991A-4006-BD6D-F0810C8EE92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EADF-D0F0-48D0-84A9-E6E91D4177BA}" type="datetime">
              <a:rPr b="0" lang="en-US" sz="1200" spc="-1" strike="noStrike">
                <a:solidFill>
                  <a:srgbClr val="d1eaee"/>
                </a:solidFill>
                <a:latin typeface="Verdana"/>
              </a:rPr>
              <a:t>07/28/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9DDF-C049-45D3-B9FC-563A9E051A8A}"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FB243-1989-4972-B20E-1BA7D48D950C}"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8F4C-8C1C-47C8-90EB-C9AADA20549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E3B0-75B8-4951-97E1-726F901583A0}"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B57E1-4B48-4C61-93F4-50BB5E0981D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F8D8-D3D5-4C54-9476-2B0E1C02D79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45AD-831E-4544-B456-A64AA7BC5F1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FD2F-62A4-4B52-9122-876D1C229F24}"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AC12-374A-46F8-B7DC-C69E61A898A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6701-A74C-422F-AECB-B1AF921D863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359F-38C4-4095-9265-537A1F716E7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8EA2-F018-4525-945C-EED0AEEDF94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654D-688A-46FB-B187-F6EC5C6898C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5EFC-FF05-4CB0-A567-39933D13823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7DD5-FCEB-41BC-B37A-B48BCF0E594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A2FB-B72D-45A2-9414-51398D3957C4}"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BB9F-75DC-43DC-82BE-AEA862F8CBA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AFB7-395C-43F1-A198-A0223DCB2BF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B407-4F37-4024-AD31-9CC46D066C3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8E66-0AA7-4A78-AFD5-B07D33F5315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76330-5712-416F-9D56-1E20DBDD574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0C80-D4AD-49DF-A49B-616419F1EDC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7DDA-0C05-411E-8406-F0A8A5300F1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BA91-CA58-4BB5-8C55-CEBBC80B9C38}"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1B7F-9752-4795-A85D-19694567CC4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43B1-5A83-4633-A603-41424C701E12}"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1D46-4967-46C2-89BC-1D759843F22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1ECE-C6B7-4CCC-9037-DFCE24BE710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1297-E0C8-46A2-87CA-4C8C0F58FB8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B2E0-FACF-4287-8512-9D7DCBD7A891}"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F927-33A5-4330-890A-8EC2204B3A7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93F4-BB40-41BA-AB4D-9189403CFF6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C6FE0-3DD1-4C6B-872F-74AD671EA39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14C4-9EA9-42D4-8422-E0B30FB9ACE7}"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C2BCF-FFD2-47EF-9AD7-1731A18A189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9180-9BFF-47E8-AAB3-F19F8D0198F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B382-223A-4667-8B44-DA503112951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383D-5B20-4A77-8817-1EFD70AA9D8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AD2C-8B99-4B93-8DF9-AC38F171771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3319-59F4-46E3-88AC-F0C130737CC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F5DF-5C30-4C4B-A8E8-D7AFDDAEE533}"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