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96D7-19D9-46FD-A8D5-A861A72CC9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C812-7320-4D63-8A85-B7EBED56E9E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2C6E-BCCF-47C7-8093-32E0F324D35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2A74-F271-4458-A9FE-30836C0577E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944FA-A37D-497B-9EA4-30EE7CF5A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3634-3C5D-48B2-A612-02CAF3F6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7E162-D05D-4AD0-9B86-5FE74E563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1E990-60C9-4A2E-B1F6-177569076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76AEB-15D4-4E1A-A65D-2FFD8EE5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317C9-BCE2-4F26-8360-9211B01E3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B3DC2-8965-426E-8899-BB1E2209F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15AB7-D1F1-4BF9-886C-A4AC193F8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FF11-F5C2-4F45-B7F1-FF0ECEF86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6E95-96F3-4528-80E2-4D27414BB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CC159-6ACD-447E-81E0-182A53BA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E128-D469-44D7-A547-CBD5E68B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0A339-984D-472B-BEA5-24E0CD30C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ED9C2-4DE6-4774-96E1-DADD07FD0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5DB9F-FB44-445A-BFDD-C6DECEF58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7EC53-2B96-4B56-AA00-EB4663CBC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A1955-F81B-4BF8-979A-88782BD25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7CB5AF-FE43-460E-B42A-1D0A6003E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6131D-B415-448B-9200-162B3E876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10BB8-2340-4C0B-82BF-990CD8104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B7A34-9D46-4B66-9627-196AF5567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1B4D6-E2F3-4B73-B969-1979CF78C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79B9-F5E4-46FC-9FED-AFC0B7D8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E1793-50F7-45B1-9327-2AE9A9141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ED47F-ABEF-48DA-A642-D8BC5D68A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6A392-8195-49DD-8F4B-82CC2CE98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1E6B7-AF57-4D41-A215-5FA0DEBDD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34786-76F0-4287-8E6F-8FC504D81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59E59F-D8FF-4555-A1DF-19FA093FC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F458BD-87F6-4FB0-9EA8-42E197EFDE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8AC13F-8166-48F6-A06A-D8ADC680A5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A77EA-46FF-4E3A-A454-318ED4DC0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16E4D-FB39-4D72-ACEE-A449B6EB1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495C-48A2-452C-8F1E-7EFAB594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96F51B-F715-4C4A-905A-71314EC20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EEDD0-9748-48BB-B65B-C8F0765A6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13FA2-C13A-4C26-AD13-19EDAD0F1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71022-F9D4-4D35-830F-15E8FC5E8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C6580-6BCC-499C-B0FC-CE92BABA9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AAF62-3064-49EE-8258-ED22E9F5F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CFFC6-09EA-4043-9269-95C0B7A25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44B1BA-5BA9-47A8-A21D-1AF4B37A01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56505-4F5D-472F-9F87-3487D81DD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1189-C8B2-457C-9DF2-C1F8B739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56C3-6CAB-499C-BFA4-BB9CE1E8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4E68-3155-48B3-9413-72260A25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E308-BBF3-4136-86F1-C0FD1A95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8F10-992A-43EE-A290-FCF93B89F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9135-53AD-4243-BD0E-89140C7AC7CD}"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AE01-9EDC-4FBA-BE47-336F5D8F4D8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DD24-45F1-4795-AC27-C8B4413581D9}"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3A2-4AFA-4C87-AA45-FFD772B24CD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9A59-67F7-443A-A673-4722F08BC336}"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62CF-101F-4B07-927D-B7F055DE62B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3869-DA87-45D1-BB37-4C9721AEEB3D}"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982D-7E40-4448-ABE3-E66D96B3AA7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3B65-8354-497C-9432-333E0D95E4F8}" type="datetime">
              <a:rPr b="0" lang="en-US" sz="1200" spc="-1" strike="noStrike">
                <a:solidFill>
                  <a:srgbClr val="d1eaee"/>
                </a:solidFill>
                <a:latin typeface="Verdana"/>
              </a:rPr>
              <a:t>07/30/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DE67-6B88-4017-AFA2-00470DAF5608}"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FCC1-208A-4B51-985E-1A043F911CE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E209-B619-44EF-A5C9-FBC40A78FE3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E2EC-BB90-4970-94F6-DE159D0A3BCF}"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A6F0-FD28-4070-9B29-670E35247CF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DA93-DCBB-4C43-92BD-C9F326E0450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A79E-70C0-4818-85E1-7DDBB727397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6C38-3428-4B8B-AF53-2AE3FF6036B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B7A8-9094-4DFB-8398-4A58B57D7C9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6626-1E99-4DA2-A586-D4253409380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647D-C911-440D-9C59-E60F96B5515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384E-66E1-46AA-BD39-1CD18F61ADE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CFC3-55F3-4C02-86B2-04CFE767D84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A673-9759-4A43-92B0-7A52A53649D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8A9F-2E00-4EC1-A4CC-EAB5DDE6449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600A-F9E8-472D-AB77-A4561D21FD0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B9CF-AE4A-4CC8-AF29-D9EAABF8425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C088-45B9-46A5-9737-1EB5811264B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4564-18FC-4FA2-B54E-F146B3F0DFE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4839-7573-40AC-8C15-2B00ED80704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8054-3C28-426B-9079-DADC56FADCB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A853-8964-45B1-B4FE-5A83D67A749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2C8D-7ACB-4F95-9AB5-E3C2CBE893E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B065-D86F-40C0-B67E-966BB23BC63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F214-2AEA-48C7-A25E-FF284D8EA9E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9B35-93EA-46F7-91BC-74F74C93D40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A5FF-942E-4168-A16E-E33562CF580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BBEE-E955-49AB-AE83-9FE47944100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55E9-930C-4106-B70A-993B27E2557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28CC-78B8-4720-B976-B9B725A2D02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E191-CA55-4FC5-B9A9-F556BE4A605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F68E-CA65-4770-9170-17C3319B085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A4CB-1547-47BB-BC83-C9CAAE47961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59FF-0C3D-4222-9439-6EA5EC96F2F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7107-DE3F-47E3-BF3C-52FE84CF0FE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7D09-CDA2-4685-8877-55442AA2894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B592-2C4A-4986-AEC7-326A90B80E4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D205-80BD-48DB-82AA-171A7ED48D6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821D-C68C-4474-BF75-5A48A0C5AA8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8EC9-DAB6-4136-AF89-F77C9023254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BE6A-9BEB-4702-A250-7FF5F17CCB5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