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55E3B-0396-4F10-A3CE-06CB0B41B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B846-D8C5-421D-8294-FBC0AB377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6D992-1494-470A-80D7-FE12FA0EB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7C063-9B53-4BF2-97A1-B4B58B11E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AADF-5F38-441E-BD5D-D1417510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45CE-8E9E-4DCF-8277-330939DD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633A-AFFA-4973-B26A-0C16E1B6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BE7F-FC74-43A6-BB13-C22EDF2B6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229D-3D3B-48E4-9C6C-AB1172511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01C0C-C253-42AE-9A86-4077C4AF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5844-F05E-4BEE-B9BE-3416E1E5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D5F4-E3C2-4BCA-80BD-09DF0F8B5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9CA5CD2C-238E-4C7E-B5A7-6C008946A82D}"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2C07093C-3B97-4D73-9847-A30C0B14F8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4FE88F-5E43-4EE4-B743-A9D9F91EF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9D197C56-8981-41E3-82AA-B163DC7EC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874A5C-0097-492D-BE02-3E9A7DA1EA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017F6D-348B-4E60-8588-EE315F9C2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E66A5950-E566-4BBD-B6C3-304E1242E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2EBFD7-A25A-43D1-8DC9-CAE8526CE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C9DC7D0F-1AFA-4602-AD20-4E32A6C021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0BCE37D-FED1-4201-9E05-49CADE120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BAD1753-C4B0-41D1-99E8-DAB1A0E2A9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8DB36E9C-0C17-422D-B23D-714886BAC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D46E9FC6-9DB4-4CD9-A7D9-9DB8292D8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CF57B78-FCFA-4C15-AACA-F0B964ACF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ABE726-3B26-4CBB-B02F-7BC97D8A7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655076-02D8-4561-B758-0B54E68390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med"/>
                  <a:tailEnd len="med" type="triangle" w="med"/>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med"/>
                  <a:tailEnd len="med" type="triangle" w="med"/>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4CE7D54-47AA-4086-9BBD-C1802C5A7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102529-0C7F-4F00-8A01-F620EE9DC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C8DB9B-3165-4DC8-8E7D-C23CAB06DE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4E9F0681-48B5-4D5F-92FB-16F5B5B78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23EE29-FD43-48E6-83EA-33C54875A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5591084E-84F1-4A8D-AFB3-3D163F431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801556-35B6-42AB-8707-B53AC61D23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909856BC-4B0A-4BAB-93FC-3C7EB3F98E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6B0294-9A1B-42CE-B651-54A5789903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8D6BBE-D27E-493F-8226-718072612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D4651427-7890-4A94-93A4-A14070DAC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6C575FC8-2237-41A8-840B-00F08B1031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EB84B7CA-BD85-446A-A7D4-7E068EE18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B491A3-7CC0-4E29-9BDF-74883B27C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