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45A54-083A-4AC0-A487-0CB5BAF11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B6CB7-461A-4DF9-8CDB-CC54539DA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72C02-7D0B-4042-A8B9-B3388EFA4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C6A83-30E4-45DA-9CBC-63A9F8A29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FCFA-D6C5-41A1-BD3D-05B170829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BCC6F-2BC4-4FED-BACE-6FB376E55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96556-1516-4476-BA74-6DCD604A1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78DBD-46B4-4FE2-BDAE-CF05B2E54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056B8-9749-436A-AC4D-3B012B66C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3321-5334-4DCE-9EBA-8412F197C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6749-FADF-44B5-8685-BD7232C85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78E6-4317-4924-AD66-F6D9F6344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3-</a:t>
            </a:r>
            <a:fld id="{D7B37A65-6B71-452F-B38C-85D6E7690B36}"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2514600"/>
            <a:ext cx="4038480" cy="23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Learning and Memor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3</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121932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Stimulus Generalization</a:t>
            </a:r>
            <a:endParaRPr b="0" lang="en-US" sz="4000" spc="-1" strike="noStrike">
              <a:solidFill>
                <a:srgbClr val="0479c8"/>
              </a:solidFill>
              <a:latin typeface="Arial"/>
            </a:endParaRPr>
          </a:p>
        </p:txBody>
      </p:sp>
      <p:sp>
        <p:nvSpPr>
          <p:cNvPr id="66" name="PlaceHolder 2"/>
          <p:cNvSpPr>
            <a:spLocks noGrp="1"/>
          </p:cNvSpPr>
          <p:nvPr>
            <p:ph/>
          </p:nvPr>
        </p:nvSpPr>
        <p:spPr>
          <a:xfrm>
            <a:off x="228600" y="152388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amily brand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Product line extension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icens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ook-a-like packaging</a:t>
            </a:r>
            <a:endParaRPr b="0" lang="en-US" sz="3000" spc="-1" strike="noStrike">
              <a:solidFill>
                <a:srgbClr val="a63055"/>
              </a:solidFill>
              <a:latin typeface="Arial"/>
            </a:endParaRPr>
          </a:p>
        </p:txBody>
      </p:sp>
      <p:pic>
        <p:nvPicPr>
          <p:cNvPr id="67" name="" descr=""/>
          <p:cNvPicPr/>
          <p:nvPr/>
        </p:nvPicPr>
        <p:blipFill>
          <a:blip r:embed="rId1"/>
          <a:stretch/>
        </p:blipFill>
        <p:spPr>
          <a:xfrm>
            <a:off x="4495680" y="2590920"/>
            <a:ext cx="4191120" cy="35193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CF0C76FF-E9DE-4F93-B174-3BF42B8E7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Instrumental Conditioning</a:t>
            </a:r>
            <a:endParaRPr b="0" lang="en-US" sz="4400" spc="-1" strike="noStrike">
              <a:solidFill>
                <a:srgbClr val="0479c8"/>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ehaviours = positive outcomes or negative outcom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berate behaviour to obtain a goal</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ositive reinforcement</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marketing, thank you letters, rebates, follow-up phone calls</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egative reinforce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unish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xtinction</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B3D0F8B-8118-492F-B1AB-DB9BCF6683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Instrumental Conditioning (Cont’d)</a:t>
            </a:r>
            <a:endParaRPr b="0" lang="en-US" sz="4000" spc="-1" strike="noStrike">
              <a:solidFill>
                <a:srgbClr val="0479c8"/>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inforcement schedules includ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interval (seasonal s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interval (secret shopp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ratio (frequent flyer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ratio (slot machin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F76C9DD-871D-481A-9F4E-8EB0988BB5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Four Types of Learning Outcomes</a:t>
            </a:r>
            <a:endParaRPr b="0" lang="en-US" sz="4000" spc="-1" strike="noStrike">
              <a:solidFill>
                <a:srgbClr val="0479c8"/>
              </a:solidFill>
              <a:latin typeface="Arial"/>
            </a:endParaRPr>
          </a:p>
        </p:txBody>
      </p:sp>
      <p:pic>
        <p:nvPicPr>
          <p:cNvPr id="73" name="" descr=""/>
          <p:cNvPicPr/>
          <p:nvPr/>
        </p:nvPicPr>
        <p:blipFill>
          <a:blip r:embed="rId1"/>
          <a:stretch/>
        </p:blipFill>
        <p:spPr>
          <a:xfrm>
            <a:off x="1219320" y="1371600"/>
            <a:ext cx="6819840" cy="4815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01253B1E-6FFF-4213-B889-C614F083E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Instrumental Conditioning Principles</a:t>
            </a:r>
            <a:endParaRPr b="0" lang="en-US" sz="4000" spc="-1" strike="noStrike">
              <a:solidFill>
                <a:srgbClr val="0479c8"/>
              </a:solidFill>
              <a:latin typeface="Arial"/>
            </a:endParaRPr>
          </a:p>
        </p:txBody>
      </p:sp>
      <p:sp>
        <p:nvSpPr>
          <p:cNvPr id="75" name="PlaceHolder 2"/>
          <p:cNvSpPr>
            <a:spLocks noGrp="1"/>
          </p:cNvSpPr>
          <p:nvPr>
            <p:ph/>
          </p:nvPr>
        </p:nvSpPr>
        <p:spPr>
          <a:xfrm>
            <a:off x="228240" y="1600200"/>
            <a:ext cx="426708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Reinforcement of consumption (thank you lett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requency marketing</a:t>
            </a:r>
            <a:endParaRPr b="0" lang="en-US" sz="3000" spc="-1" strike="noStrike">
              <a:solidFill>
                <a:srgbClr val="a63055"/>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ve Phillips (Pudding Gu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ell Full-Service Station</a:t>
            </a:r>
            <a:endParaRPr b="0" lang="en-US" sz="2500" spc="-1" strike="noStrike">
              <a:solidFill>
                <a:srgbClr val="000000"/>
              </a:solidFill>
              <a:latin typeface="Arial"/>
            </a:endParaRPr>
          </a:p>
        </p:txBody>
      </p:sp>
      <p:pic>
        <p:nvPicPr>
          <p:cNvPr id="76" name="" descr=""/>
          <p:cNvPicPr/>
          <p:nvPr/>
        </p:nvPicPr>
        <p:blipFill>
          <a:blip r:embed="rId1"/>
          <a:stretch/>
        </p:blipFill>
        <p:spPr>
          <a:xfrm>
            <a:off x="4343400" y="1676520"/>
            <a:ext cx="4419720" cy="43257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DF9F9E7-1E6C-4C06-B8F9-768E043ED1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gnitive Learning Theory</a:t>
            </a:r>
            <a:endParaRPr b="0" lang="en-US" sz="4400" spc="-1" strike="noStrike">
              <a:solidFill>
                <a:srgbClr val="0479c8"/>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nal mental process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 problem solv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e use of information to master environme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cious hypothe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F889DBB-92F3-4095-9703-1281130269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Cognitive Learning Principles</a:t>
            </a:r>
            <a:endParaRPr b="0" lang="en-US" sz="4000" spc="-1" strike="noStrike">
              <a:solidFill>
                <a:srgbClr val="0479c8"/>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fume ad where woman receives positive reinforcement for using the produc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elebrity image depends on their social attractive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ppea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ity to the evalu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491A4E2-18CF-457E-9ECA-79403F4A85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a:t>
            </a:r>
            <a:endParaRPr b="0" lang="en-US" sz="4400" spc="-1" strike="noStrike">
              <a:solidFill>
                <a:srgbClr val="0479c8"/>
              </a:solidFill>
              <a:latin typeface="Arial"/>
            </a:endParaRPr>
          </a:p>
        </p:txBody>
      </p:sp>
      <p:sp>
        <p:nvSpPr>
          <p:cNvPr id="8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watch others and note reinforcements they receive for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arious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ly desirable models/celebrities who use or do not use their produ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4599C8A-90B8-4A61-8EB0-6874421A47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 (Cont’d)</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deling: imitating others’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o doll experiment</a:t>
            </a:r>
            <a:endParaRPr b="0" lang="en-US" sz="2800" spc="-1" strike="noStrike">
              <a:solidFill>
                <a:srgbClr val="000000"/>
              </a:solidFill>
              <a:latin typeface="Arial"/>
            </a:endParaRPr>
          </a:p>
        </p:txBody>
      </p:sp>
      <p:pic>
        <p:nvPicPr>
          <p:cNvPr id="85" name="" descr=""/>
          <p:cNvPicPr/>
          <p:nvPr/>
        </p:nvPicPr>
        <p:blipFill>
          <a:blip r:embed="rId1"/>
          <a:stretch/>
        </p:blipFill>
        <p:spPr>
          <a:xfrm>
            <a:off x="1066680" y="3048120"/>
            <a:ext cx="7124760" cy="28209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5A0ED02-48A1-4DBB-8730-460E6E7D35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ole of Memory in Learning</a:t>
            </a:r>
            <a:endParaRPr b="0" lang="en-US" sz="4400" spc="-1" strike="noStrike">
              <a:solidFill>
                <a:srgbClr val="0479c8"/>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mory: acquiring information and storing it over time so that it will be available when needed</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processing approach</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d = computer and data = input/output</a:t>
            </a:r>
            <a:endParaRPr b="0" lang="en-US" sz="2800" spc="-1" strike="noStrike">
              <a:solidFill>
                <a:srgbClr val="000000"/>
              </a:solidFill>
              <a:latin typeface="Arial"/>
            </a:endParaRPr>
          </a:p>
        </p:txBody>
      </p:sp>
      <p:pic>
        <p:nvPicPr>
          <p:cNvPr id="88" name="" descr=""/>
          <p:cNvPicPr/>
          <p:nvPr/>
        </p:nvPicPr>
        <p:blipFill>
          <a:blip r:embed="rId1"/>
          <a:stretch/>
        </p:blipFill>
        <p:spPr>
          <a:xfrm>
            <a:off x="1066680" y="4495680"/>
            <a:ext cx="6972480" cy="1527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77904B6-9A20-46D2-A6FA-6BCDD8E528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Learning Process</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as reminders of life experienc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 memory = brand equity/loyal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a relatively permanent change in behaviour caused by experi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idental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76691D11-8BD5-468A-8D8E-6B7C34D5A0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ncoding</a:t>
            </a:r>
            <a:endParaRPr b="0" lang="en-US" sz="4400" spc="-1" strike="noStrike">
              <a:solidFill>
                <a:srgbClr val="0479c8"/>
              </a:solidFill>
              <a:latin typeface="Arial"/>
            </a:endParaRPr>
          </a:p>
        </p:txBody>
      </p:sp>
      <p:sp>
        <p:nvSpPr>
          <p:cNvPr id="90" name="PlaceHolder 2"/>
          <p:cNvSpPr>
            <a:spLocks noGrp="1"/>
          </p:cNvSpPr>
          <p:nvPr>
            <p:ph/>
          </p:nvPr>
        </p:nvSpPr>
        <p:spPr>
          <a:xfrm>
            <a:off x="456840" y="1371600"/>
            <a:ext cx="47242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way we encode information can help us retain it late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releva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sodic/flashbulb memo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nformation conveyed as a narrative</a:t>
            </a:r>
            <a:endParaRPr b="0" lang="en-US" sz="2400" spc="-1" strike="noStrike">
              <a:solidFill>
                <a:srgbClr val="000000"/>
              </a:solidFill>
              <a:latin typeface="Arial"/>
            </a:endParaRPr>
          </a:p>
        </p:txBody>
      </p:sp>
      <p:pic>
        <p:nvPicPr>
          <p:cNvPr id="91" name="" descr=""/>
          <p:cNvPicPr/>
          <p:nvPr/>
        </p:nvPicPr>
        <p:blipFill>
          <a:blip r:embed="rId1"/>
          <a:stretch/>
        </p:blipFill>
        <p:spPr>
          <a:xfrm>
            <a:off x="4724280" y="2514600"/>
            <a:ext cx="4038840" cy="2886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06A548A5-2BCD-486E-ACF2-CC316BE157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emory Systems</a:t>
            </a:r>
            <a:endParaRPr b="0" lang="en-US" sz="4400" spc="-1" strike="noStrike">
              <a:solidFill>
                <a:srgbClr val="0479c8"/>
              </a:solidFill>
              <a:latin typeface="Arial"/>
            </a:endParaRPr>
          </a:p>
        </p:txBody>
      </p:sp>
      <p:pic>
        <p:nvPicPr>
          <p:cNvPr id="93" name="" descr=""/>
          <p:cNvPicPr/>
          <p:nvPr/>
        </p:nvPicPr>
        <p:blipFill>
          <a:blip r:embed="rId1"/>
          <a:stretch/>
        </p:blipFill>
        <p:spPr>
          <a:xfrm>
            <a:off x="380880" y="1828800"/>
            <a:ext cx="8420400" cy="38736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F7E5CF36-9E25-4CD1-B487-5C78B8DE31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hunking</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al unit in short-term memory (STM)</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n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code of telephone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 for retrie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844D1F2-2802-4807-8141-B8D749FBBF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ation models of memor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ve network of related inform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structures of interconnected nod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processing mod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7598E4B2-6D68-48E0-A4C7-34308103D1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 (Cont’d)</a:t>
            </a:r>
            <a:endParaRPr b="0" lang="en-US" sz="4400" spc="-1" strike="noStrike">
              <a:solidFill>
                <a:srgbClr val="0479c8"/>
              </a:solidFill>
              <a:latin typeface="Arial"/>
            </a:endParaRPr>
          </a:p>
        </p:txBody>
      </p:sp>
      <p:pic>
        <p:nvPicPr>
          <p:cNvPr id="99" name="" descr=""/>
          <p:cNvPicPr/>
          <p:nvPr/>
        </p:nvPicPr>
        <p:blipFill>
          <a:blip r:embed="rId1"/>
          <a:stretch/>
        </p:blipFill>
        <p:spPr>
          <a:xfrm>
            <a:off x="609480" y="1604880"/>
            <a:ext cx="7963200" cy="4491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C24BD728-71D9-4944-A668-81237E7B7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preading Activation</a:t>
            </a:r>
            <a:endParaRPr b="0" lang="en-US" sz="4400" spc="-1" strike="noStrike">
              <a:solidFill>
                <a:srgbClr val="0479c8"/>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s one node is activated, other nodes associated with it also begin to be triggered</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aning types of associated nod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identif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categ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ve reac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AB9A37F8-8D41-484D-9FC2-EFCD78A78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Levels of Knowledge</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dividual nodes = </a:t>
            </a:r>
            <a:r>
              <a:rPr b="0" i="1" lang="en-US" sz="3200" spc="-1" strike="noStrike">
                <a:solidFill>
                  <a:srgbClr val="a63055"/>
                </a:solidFill>
                <a:latin typeface="Arial"/>
              </a:rPr>
              <a:t>meaning concept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connected nodes = </a:t>
            </a:r>
            <a:r>
              <a:rPr b="0" i="1" lang="en-US" sz="3200" spc="-1" strike="noStrike">
                <a:solidFill>
                  <a:srgbClr val="a63055"/>
                </a:solidFill>
                <a:latin typeface="Arial"/>
              </a:rPr>
              <a:t>proposition</a:t>
            </a:r>
            <a:r>
              <a:rPr b="0" lang="en-US" sz="3200" spc="-1" strike="noStrike">
                <a:solidFill>
                  <a:srgbClr val="a63055"/>
                </a:solidFill>
                <a:latin typeface="Arial"/>
              </a:rPr>
              <a:t> (complex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propositions = </a:t>
            </a:r>
            <a:r>
              <a:rPr b="0" i="1" lang="en-US" sz="3200" spc="-1" strike="noStrike">
                <a:solidFill>
                  <a:srgbClr val="a63055"/>
                </a:solidFill>
                <a:latin typeface="Arial"/>
              </a:rPr>
              <a:t>schema</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de info that is consistent with an existing schema more read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crip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A3572DED-896B-41FB-BE26-1D527AAF62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a:t>
            </a:r>
            <a:endParaRPr b="0" lang="en-US" sz="40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trieving information often requires appropriate factors and cu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 fa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fac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attention; pioneering brand; descriptive brand na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ing environment (continuous activity; commercial order in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t-experience advertising effe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A49BDB02-427F-4BEC-8BCF-2A71D11DF3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 (Cont’d)</a:t>
            </a:r>
            <a:endParaRPr b="0" lang="en-US" sz="4000" spc="-1" strike="noStrike">
              <a:solidFill>
                <a:srgbClr val="0479c8"/>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ppropriate factors/cues for retrieval (cont’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ependent retrieval/mood congruence eff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ience/von Restorff Effect (mystery a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memory vs. verbal memo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C8D90DEA-99E8-41A6-B341-727F91C59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fluencing Forgetting</a:t>
            </a:r>
            <a:endParaRPr b="0" lang="en-US" sz="4400" spc="-1" strike="noStrike">
              <a:solidFill>
                <a:srgbClr val="0479c8"/>
              </a:solidFill>
              <a:latin typeface="Arial"/>
            </a:endParaRPr>
          </a:p>
        </p:txBody>
      </p:sp>
      <p:sp>
        <p:nvSpPr>
          <p:cNvPr id="109" name="PlaceHolder 2"/>
          <p:cNvSpPr>
            <a:spLocks noGrp="1"/>
          </p:cNvSpPr>
          <p:nvPr>
            <p:ph/>
          </p:nvPr>
        </p:nvSpPr>
        <p:spPr>
          <a:xfrm>
            <a:off x="456840" y="1600200"/>
            <a:ext cx="7620120" cy="28195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eca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fer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active vs. proactiv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t-list cueing effect</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FF50B5E-17C5-416C-B7DF-880A7B9E4A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ehavioural Learning Theories</a:t>
            </a:r>
            <a:endParaRPr b="0" lang="en-US" sz="4400" spc="-1" strike="noStrike">
              <a:solidFill>
                <a:srgbClr val="0479c8"/>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 responses to external even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ack b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ble behaviour</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assical conditioning and instrumental conditioning</a:t>
            </a:r>
            <a:endParaRPr b="0" lang="en-US" sz="3200" spc="-1" strike="noStrike">
              <a:solidFill>
                <a:srgbClr val="a63055"/>
              </a:solidFill>
              <a:latin typeface="Arial"/>
            </a:endParaRPr>
          </a:p>
        </p:txBody>
      </p:sp>
      <p:pic>
        <p:nvPicPr>
          <p:cNvPr id="50" name="" descr=""/>
          <p:cNvPicPr/>
          <p:nvPr/>
        </p:nvPicPr>
        <p:blipFill>
          <a:blip r:embed="rId1"/>
          <a:stretch/>
        </p:blipFill>
        <p:spPr>
          <a:xfrm>
            <a:off x="914400" y="4419720"/>
            <a:ext cx="7162920" cy="180504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1B2B4AC5-D450-4194-9DE5-8CD8460613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roducts as Memory Markers</a:t>
            </a:r>
            <a:endParaRPr b="0" lang="en-US" sz="44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urniture, visual art, and photos call forth memories of the pa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utobiographical memor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ing power of nostalg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 br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talgia index</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7C97DF8-0FDF-4034-9A2D-18A42B58AC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easuring Memory for </a:t>
            </a:r>
            <a:br>
              <a:rPr sz="4000"/>
            </a:br>
            <a:r>
              <a:rPr b="0" lang="en-US" sz="4000" spc="-1" strike="noStrike">
                <a:solidFill>
                  <a:srgbClr val="0479c8"/>
                </a:solidFill>
                <a:latin typeface="Arial"/>
              </a:rPr>
              <a:t>Marketing Stimuli</a:t>
            </a:r>
            <a:endParaRPr b="0" lang="en-US" sz="4000" spc="-1" strike="noStrike">
              <a:solidFill>
                <a:srgbClr val="0479c8"/>
              </a:solidFill>
              <a:latin typeface="Arial"/>
            </a:endParaRPr>
          </a:p>
        </p:txBody>
      </p:sp>
      <p:sp>
        <p:nvSpPr>
          <p:cNvPr id="113"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cognition vs. recall</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arch Te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blems with memory measur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bi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lap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for facts vs. feeling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DBE909E-E00F-40B9-B6DC-ED1A8C4BA5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In his 2005 book </a:t>
            </a:r>
            <a:r>
              <a:rPr b="0" i="1" lang="en-US" sz="2800" spc="-1" strike="noStrike" u="sng">
                <a:solidFill>
                  <a:srgbClr val="a63055"/>
                </a:solidFill>
                <a:uFillTx/>
                <a:latin typeface="Arial"/>
              </a:rPr>
              <a:t>Blink: The Power of Thinking Without Thinking</a:t>
            </a:r>
            <a:r>
              <a:rPr b="0" i="1" lang="en-US" sz="2800" spc="-1" strike="noStrike">
                <a:solidFill>
                  <a:srgbClr val="a63055"/>
                </a:solidFill>
                <a:latin typeface="Arial"/>
              </a:rPr>
              <a:t>, author Malcolm Gladwell argues that hallowed marketing research techniques like focus groups aren’t effective because we usually react to products quickly and without much conscious thought so it’s better just to solicit consumers’ first impressions rather than getting them to think at length about why they buy.</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s your position on this iss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9BE5A5E-6BBA-4F0C-B112-09E542EFE00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410080" y="1447920"/>
            <a:ext cx="3353040" cy="4572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a:t>
            </a:r>
            <a:endParaRPr b="0" lang="en-US" sz="4400" spc="-1" strike="noStrike">
              <a:solidFill>
                <a:srgbClr val="0479c8"/>
              </a:solidFill>
              <a:latin typeface="Arial"/>
            </a:endParaRPr>
          </a:p>
        </p:txBody>
      </p:sp>
      <p:sp>
        <p:nvSpPr>
          <p:cNvPr id="53" name="PlaceHolder 2"/>
          <p:cNvSpPr>
            <a:spLocks noGrp="1"/>
          </p:cNvSpPr>
          <p:nvPr>
            <p:ph/>
          </p:nvPr>
        </p:nvSpPr>
        <p:spPr>
          <a:xfrm>
            <a:off x="457200" y="1371600"/>
            <a:ext cx="49528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van Pavlov</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 UCS = respons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ime: CS = respons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names as 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as C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usic, humour, imager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first, then UCS</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AAAFD05A-AACB-4033-A775-431A3EA8C9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5" name="PlaceHolder 2"/>
          <p:cNvSpPr>
            <a:spLocks noGrp="1"/>
          </p:cNvSpPr>
          <p:nvPr>
            <p:ph/>
          </p:nvPr>
        </p:nvSpPr>
        <p:spPr>
          <a:xfrm>
            <a:off x="456840" y="1371240"/>
            <a:ext cx="4724280" cy="51814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petition of expos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medium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dec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inc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od Lacoste crocodile on baby cloth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tising wearou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product encounter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5181480" y="1371600"/>
            <a:ext cx="3505320" cy="472428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2886289-751B-4D45-B3D1-53575538E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8"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Generaliz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o effe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iggybacking” strate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ked brand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branding, product line extensions, licensing, look-alike packag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F87C02A-EB58-4B02-AD51-69BAD7DC91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0"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Identify some important characteristics of a product with a well-known brand nam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sed on these attributes, generate a list of possible brand extension or licensing opportunities, as well as some others that would most likely not be accepted by consum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0065A29E-A66B-4C51-B821-119FA9998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Discrimin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position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attributes of bran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unterfeiting Coalition combats “knockoff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D91D423-65C8-4E6F-8D92-6A61422117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Applications of Classical Conditioning</a:t>
            </a:r>
            <a:endParaRPr b="0" lang="en-US" sz="40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ransferred meaning can be conditioned by fairly simple association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oal is to create brand equ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 (H&amp;R Blo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ssoci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Conditio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3F0CAB32-0C0F-457A-A613-3506F347BE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9:02Z</dcterms:modified>
  <cp:revision>858</cp:revision>
  <dc:subject/>
  <dc:title>Consumers Rule</dc:title>
</cp:coreProperties>
</file>