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35F-2114-43E9-A4EB-F52DEDE0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ABB-F20F-494D-AFCE-32A49111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6B1-9C04-437E-AA5A-486BC2AC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05B-C324-4E7F-AD2B-6077BB4B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CDD-80D1-4ECF-AB65-FABEA5AE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17F-E66B-4E98-A123-D12DA05B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B92-FA21-4FA6-BB4B-BA1EB474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E30-415C-49A5-A5A7-00DB6452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83F-083D-4E1F-BA39-77E46EE8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B92-1982-47E7-888E-55496177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687-E0B1-4638-AA0B-E686AAD8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9E9-27F1-49C6-86E7-1B119E8F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4-</a:t>
            </a:r>
            <a:fld id="{5A98DAA4-97B4-47E1-8E24-72DEBDDC82E1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ike.com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abiscoworld.com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514600"/>
            <a:ext cx="40384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Motivation and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467160" cy="460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assifying Consumer Need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486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urray’s 20 psychogenic need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atic Apperception Technique (T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pecific needs and buying behaviou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uniqu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5880" y="1523880"/>
            <a:ext cx="251784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E83-135A-46A8-9A02-02ECBA2025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79c8"/>
                </a:solidFill>
                <a:latin typeface="Arial"/>
              </a:rPr>
              <a:t>Levels of Needs in the Maslow Hierarchy</a:t>
            </a:r>
            <a:endParaRPr b="0" lang="en-US" sz="38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58280" cy="433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029-AAD0-4C09-B628-3F7C30161F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Devise separate promotional strategies for an article of clothing, each of which stresses one of the levels of Maslow’s hierarchy of needs.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69F-BF38-4199-B8E4-D06AA0B5E2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er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358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3055"/>
                </a:solidFill>
                <a:latin typeface="Arial"/>
              </a:rPr>
              <a:t>We can get pretty attached to products…</a:t>
            </a:r>
            <a:endParaRPr b="0" lang="en-US" sz="20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 One” tattoo on consumer’s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uc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gazine for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3055"/>
                </a:solidFill>
                <a:latin typeface="Arial"/>
              </a:rPr>
              <a:t>Involvement: perceived relevance of an object based on one’s needs, values, and interests</a:t>
            </a:r>
            <a:endParaRPr b="0" lang="en-US" sz="20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vation to proces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441972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CD0-BE02-4416-A76B-01A5A49B30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nertia and Flow Stat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ertia: consumption at the low end of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ake decisions out of habit (lack of motiv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low state: true involvement with a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fu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i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ion/focused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596-AE68-42FF-B4EA-4D010B6BC5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nertia and Flow State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low state (cont’d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enjoyment of activity for its own s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orted sense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between challenge at hand and one’s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34E-F42A-46B3-9D7E-7C7090A1CE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ult Produc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mmand fierce consumer loyalty, devotion, and worship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involvement in a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Apple computers, Harley-Davi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45C-BC6F-49C6-8447-65A9971970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ype of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153280" cy="28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50BF-5678-4C2B-812F-131CE397F4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roduct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’s level of interest in a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ny sales promotions attempt to increase product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ss customization enhances product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981080" y="4572000"/>
            <a:ext cx="4723560" cy="825480"/>
            <a:chOff x="1981080" y="4572000"/>
            <a:chExt cx="4723560" cy="825480"/>
          </a:xfrm>
        </p:grpSpPr>
        <p:pic>
          <p:nvPicPr>
            <p:cNvPr id="8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981080" y="457200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86" name=""/>
            <p:cNvSpPr/>
            <p:nvPr/>
          </p:nvSpPr>
          <p:spPr>
            <a:xfrm>
              <a:off x="2991240" y="4878360"/>
              <a:ext cx="371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USTOMIZE YOUR OWN NIKE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E23-88A2-44C8-B124-F1E093CFE7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Message-Respons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’s interest in processing marketing communications 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gilant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V = low involvement medium; print = high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ers experiment with novel ways to increase consumers’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62320" y="5486400"/>
            <a:ext cx="3763800" cy="825480"/>
            <a:chOff x="2362320" y="5486400"/>
            <a:chExt cx="3763800" cy="825480"/>
          </a:xfrm>
        </p:grpSpPr>
        <p:pic>
          <p:nvPicPr>
            <p:cNvPr id="9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362320" y="548640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3430800" y="579276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ABISCOWORLD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A01-4978-47A4-811E-6A8206091D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 and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forces that drive us to buy/use product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ually 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related to wide-spread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motional and create deep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ometimes not immediately recognizable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BBE-11ED-40AB-9332-E4F46B3E5F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urchase Situation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fferences that may occur when buying the same object for different contex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isk is a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 as symbol of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32E-659E-49C6-8BF0-DC3E0A5C34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Table 4-2: Scale to Measur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523880"/>
          <a:ext cx="8229600" cy="4713480"/>
        </p:xfrm>
        <a:graphic>
          <a:graphicData uri="http://schemas.openxmlformats.org/drawingml/2006/table">
            <a:tbl>
              <a:tblPr/>
              <a:tblGrid>
                <a:gridCol w="685800"/>
                <a:gridCol w="2057400"/>
                <a:gridCol w="3581280"/>
                <a:gridCol w="1905120"/>
              </a:tblGrid>
              <a:tr h="76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To Me (Object to Be Judged)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o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ter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relev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rrelev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xci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exci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eans no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eans a 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appe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appe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scin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und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worth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alu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vol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invol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not nee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nee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A18-1756-4D15-90C3-F6C5D1F7C3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mensions of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volvement profile componen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erest in product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of bad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ure value of product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value of product category (self-concept relev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120-1176-470D-AE5C-D41F63FB54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Dimensions of Involvement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 class involvement may vary across cul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volvement profile components as basis for market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860-E089-49B4-831B-9B14597652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Strategies to Increas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Appeal to hedonistic need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Use novel stimuli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Use prominent stimuli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Include celebrity endorsers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Build consumer bonds via ongoing consumer relationship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419360" cy="40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EC7-95C6-4BE4-9461-D4F3C35D5B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er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Value: a belief that some condition is preferable to its opposit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freedom is preferable to slavery; looking younger is preferable to looking 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s/services = help in attaining value-related go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e seek others that share our values/belief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we tend to be exposed to information that supports our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81F-B4D4-4695-98C8-518A29B10E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re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very culture has its own set of valu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ndividualism vs. colle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Value system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nculturation vs. acculturatio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ization agents: parents, friends,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as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Core values evolve over time. What do you think are the 3–5 core values that best describe Canadians today?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30A-FF4C-470A-867F-69873C82FE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okeach Value Surve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l values (e.g., comfortable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al values (e.g., ambit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researchers have not widely used this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ption microcultures within larger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810-2FE9-4E0D-8A10-E96473FCE8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ist of Values (LOV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ne consumer segments/endors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by consumer behavi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those who endorse sense of belonging rea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der’s Dig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V Gu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rink and entertain more, and prefer group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450-781F-4066-AFBC-861AA858D0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eans-End Chain Mod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pecific product attributes are linked at levels of increasing abstraction to termin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means to attain valued en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= means to an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dder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value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8CD-E2A7-446A-920E-6DBD2C6E88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Motivation Proces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tivation: the process that leads us to behave they way we do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reates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on creates drive to reduce/eliminate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end state = consumer’s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/services provide desired end state and reduce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684-3CF8-41AB-816E-806769A188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c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yndicated Survey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changes in values via large-scale surveys (e.g., Yankelovi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terialism vs. voluntary simplifie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od life”...“He Who Dies with the Most Toys,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with highly material values tend to be less 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ning M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4AC-9DE7-4363-A4DA-CB60601E57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ECCA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athered information used to develop an advertising strategy by identifying the following elements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ing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664-8BB3-479E-BA41-2086A06DEF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in the Aftermath of 9/11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 for balance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/11 and consume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edirecting focus from luxury goods to community/famil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 privacy vs. secur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4BC-F213-41C4-80C2-59B6C957EA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How do you think consumers have changed as a result of 9/11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these long-term changes or will we start to revert back to our pre-2001 minds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682-0A23-4005-8AC6-AD35CCCA01A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Motivation Proces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 = discrepancy between present state and ideal stat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pancy creates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: the larger the discrepancy, the more urgency f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476244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E9F-6A11-44ED-A285-0C243E1C44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Strength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gree of willingness to expend energy to reach a go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vs. learne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y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06E7-8ADB-44CF-ABA3-F571B43CB0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Direc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st goals can be reached by a number of route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ers: products/services provide best chance to attain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s vs. wan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: particular form of consumption used to satisfy a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A54-08AB-4416-90F4-8510CCE4AE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ypes of Need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ioge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sychoge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Utilitaria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edo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EBE-783C-49AA-AB51-4DF6B89774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Conflic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oal vale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ly valued goal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ly valued goal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odorant and mouth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ositive and negative motives often conflict with one anothe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BEB-0635-48EA-B789-4F129C92B6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Conflict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876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pproach-Approach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esirabl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pproach-Avoidanc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and negative aspects of desired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lt of desire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voidance-Avoidanc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ng a choice with two undesirabl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962160" cy="32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744-CFC9-4602-9DB3-A216E53D06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39:29Z</dcterms:modified>
  <cp:revision>1001</cp:revision>
  <dc:subject/>
  <dc:title>Consumers Rule</dc:title>
</cp:coreProperties>
</file>