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4FF-E9B5-4B5F-94F1-00F4E96C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5F2-C1A3-444C-B3F8-7DA0DE0E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ABA-A818-49DA-86DF-7FC8556A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E83-AAC3-4750-B92E-C4F2A027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365F-4DB8-46CC-A5A7-68BF8A2E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E8E-5C46-4F07-80BE-0E949E9A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D9B-1D1A-4951-9BAD-E40EB68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509-3068-4305-AA13-F9477C8C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F54-3782-491F-A3C5-809D1037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3AB-FC54-4CD3-A244-96DBA4A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AB8-E8A1-45DF-A831-6C340ACF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BC1-CBEF-4D27-94EC-A6BCA077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4-</a:t>
            </a:r>
            <a:fld id="{739453A0-0A58-40B1-A856-C934395FE266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ike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abiscoworld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assifying Consumer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486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urray’s 20 psychogenic need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Apperception Technique (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needs and buying behaviou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uniq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517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99B-1C07-459C-9B67-FF1FA01ACE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Levels of Needs in the Maslow Hierarchy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5828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40C-7900-4512-8729-A0C755CCD2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evise separate promotional strategies for an article of clothing, each of which stresses one of the levels of Maslow’s hierarchy of need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ABF-2CAF-4B15-80ED-F20A61E0E6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We can get pretty attached to products…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 One” tattoo on consumer’s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gazine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Involvement: perceived relevance of an object based on one’s needs, values, and interests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to proc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419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F20-C4D3-4BCF-83B6-F3D9EAAAF2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ertia: consumption at the low end of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decisions out of habit (lack of moti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: true involvement with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/focused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1D4-AA59-4E96-8B17-FCFAA85678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 (cont’d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enjoyment of activity for its own s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ed sense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between challenge at hand and one’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EFD-75D9-447D-8CDC-31AC08F03C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ult Produ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mmand fierce consumer loyalty, devotion, and worship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volvement in a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pple computers, Harley-Davi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2C9-FDC8-4F41-AA51-7C982C8944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28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3BE-8AAF-429C-B320-6C75554C04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duct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level of interest in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ales promotions attempt to increase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s customization enhances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1080" y="4572000"/>
            <a:ext cx="4723560" cy="825480"/>
            <a:chOff x="1981080" y="4572000"/>
            <a:chExt cx="4723560" cy="825480"/>
          </a:xfrm>
        </p:grpSpPr>
        <p:pic>
          <p:nvPicPr>
            <p:cNvPr id="8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81080" y="45720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86" name=""/>
            <p:cNvSpPr/>
            <p:nvPr/>
          </p:nvSpPr>
          <p:spPr>
            <a:xfrm>
              <a:off x="2991240" y="4878360"/>
              <a:ext cx="37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USTOMIZE YOUR OWN NIK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B29-5E1C-4182-861B-9E3B03F4BC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essage-Respon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interest in processing marketing communications 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gilant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V = low involvement medium; print = high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 experiment with novel ways to increase consumers’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5486400"/>
            <a:ext cx="3763800" cy="825480"/>
            <a:chOff x="2362320" y="5486400"/>
            <a:chExt cx="376380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62320" y="54864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430800" y="579276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BISCOWORLD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AA5-7358-4652-8399-E207742D10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forces that drive us to buy/use product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lated to wide-sprea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motional and create deep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ometimes not immediately recognizable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DFC-1CEB-4135-8B03-5EE4F0B85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urchase Situation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fferences that may occur when buying the same object for different contex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isk is a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as symbol of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C25-7AF9-4C9F-B505-DDF3766136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able 4-2: Scale to Measur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523880"/>
          <a:ext cx="8229600" cy="471348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3581280"/>
                <a:gridCol w="1905120"/>
              </a:tblGrid>
              <a:tr h="76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o Me (Object to Be Judged)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r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a 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scin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und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th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lu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ot 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117-06AD-47C3-8678-3F1C842091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mensions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rest in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bad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ure value of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value of product category (self-concept rele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DA3-AD49-461A-B3A6-E0493073DB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Dimensions of Involvement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 class involvement may vary across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 as basis for market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87F-DBBC-423F-9B84-AAA1C28D7E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Strategies to Increa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Appeal to hedonistic need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novel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prominent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 celebrity endorsers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uild consumer bonds via ongoing consumer relationship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1936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357-1BA3-43EA-811D-89C5EC0250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Value: a belief that some condition is preferable to its opposi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reedom is preferable to slavery; looking younger is preferable to looking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= help in attaining value-related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seek others that share our values/belief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tend to be exposed to information that supports ou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427-1329-4D84-86B2-0F86731EB8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re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very culture has its own set of valu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dividualism vs. colle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Value syste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nculturation vs. accultur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agents: parents, friends,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s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re values evolve over time. What do you think are the 3–5 core values that best describe Canadians today?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A0F-4520-455A-A04C-F86FFFB514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okeach Value Surv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values (e.g., comfortabl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values (e.g., ambit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researchers have not widely used this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microcultures within larger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E3B-35CC-424F-B5D9-380C9AA329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st of Values (LOV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 consumer segments/endors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by consumer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those who endorse sense of belonging re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er’s Di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V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rink and entertain more, and prefer grou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1AB-BD87-476C-AD3A-B8E219B8CE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eans-End Chain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pecific product attributes are linked at levels of increasing abstraction to termin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ans to attain valued e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= means to an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valu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E74-EE1E-4EDE-AA8F-9E6E89969B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: the process that leads us to behave they way we do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creates drive to reduce/eliminat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nd state = consumer’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services provide desired end state and reduc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9382-2C0A-4C41-8A2B-365190E67D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c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ndicated Survey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values via large-scale surveys (e.g., Yankelov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terialism vs. voluntary simplifi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od life”...“He Who Dies with the Most Toys,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highly material values tend to be less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 M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8B0-0A20-49FD-A19D-E2508B83E1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ECCA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athered information used to develop an advertising strategy by identifying the following elements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220-48CE-4098-A621-7F4F762160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in the Aftermath of 9/11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for balance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11 and consum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directing focus from luxury goods to community/fami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privacy vs. secur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BED6-844E-49B5-A4E0-7B6993FC0B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How do you think consumers have changed as a result of 9/11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these long-term changes or will we start to revert back to our pre-2001 mind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3F3-F645-48CC-9F96-3B93EE8E46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= discrepancy between present state and ideal sta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y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 the larger the discrepancy, the more urgency f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47624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6CC-5B45-4948-9E64-71C70FF360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Strengt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gree of willingness to expend energy to reach a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vs. learn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A40-0D0D-437B-9933-DA72046486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Direc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st goals can be reached by a number of rout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: products/services provide best chance to attai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s vs. wa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: particular form of consumption used to satisfy a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0AAA-B900-4004-8F80-9CC5D7EE49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s of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i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sych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tilitari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edo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889-2866-4E91-8C1B-C243E449B4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oal vale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odorant and mouth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sitive and negative motives often conflict with one anoth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8E8-9ADC-4DDC-95A3-D8F567B861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pproach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aspects of desi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 of desir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voidance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a choice with two un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96216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378-E689-452B-A3AD-5A85A885F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9:29Z</dcterms:modified>
  <cp:revision>1001</cp:revision>
  <dc:subject/>
  <dc:title>Consumers Rule</dc:title>
</cp:coreProperties>
</file>