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6AD-55C0-4040-BFEB-72A7676A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D00-8665-4C0C-89C6-C569FB55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3D9-3E49-44A2-8C85-3BE42A75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FD2-CB3D-4213-BF06-9DBBCC8B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6DB-DB77-44AE-8C38-115533C8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247F-A76A-42BF-828A-253B700A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7F9-6E57-4C9E-AF20-4802B3EC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9BA1-7ACF-435C-BD16-93AB2D90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015-0DD1-4854-9925-B0D5BF02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500-F2AA-46A7-B491-3F858A24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B6A-67A0-4C2F-92F6-34D7B9AD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252-E4D5-411F-857D-91168E3D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4-</a:t>
            </a:r>
            <a:fld id="{04D6F70F-5110-4326-BA2A-02C51C8A446B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ike.com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abiscoworld.com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514600"/>
            <a:ext cx="40384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Motivation and Val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467160" cy="460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assifying Consumer Need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486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urray’s 20 psychogenic need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atic Apperception Technique (T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pecific needs and buying behaviou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uniqu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5880" y="1523880"/>
            <a:ext cx="2517840" cy="464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DCF-036E-4D60-95A6-66A5BED53D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79c8"/>
                </a:solidFill>
                <a:latin typeface="Arial"/>
              </a:rPr>
              <a:t>Levels of Needs in the Maslow Hierarchy</a:t>
            </a:r>
            <a:endParaRPr b="0" lang="en-US" sz="38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58280" cy="433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89E-5C55-4C86-B559-0A686C4801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Devise separate promotional strategies for an article of clothing, each of which stresses one of the levels of Maslow’s hierarchy of needs.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507-4AA5-48D4-81F7-2F490B941B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er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358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3055"/>
                </a:solidFill>
                <a:latin typeface="Arial"/>
              </a:rPr>
              <a:t>We can get pretty attached to products…</a:t>
            </a:r>
            <a:endParaRPr b="0" lang="en-US" sz="20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 One” tattoo on consumer’s 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uc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gazine for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3055"/>
                </a:solidFill>
                <a:latin typeface="Arial"/>
              </a:rPr>
              <a:t>Involvement: perceived relevance of an object based on one’s needs, values, and interests</a:t>
            </a:r>
            <a:endParaRPr b="0" lang="en-US" sz="20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tivation to process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038480" y="1676520"/>
            <a:ext cx="4419720" cy="39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5AF-F13C-4950-9395-4B7DE2D116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nertia and Flow Stat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ertia: consumption at the low end of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make decisions out of habit (lack of motiv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low state: true involvement with a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fu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i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ion/focused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EF0-0C8A-453D-819B-5D7393B80A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nertia and Flow State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low state (cont’d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enjoyment of activity for its own s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orted sense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between challenge at hand and one’s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35C-D991-43F4-8714-C2F29BA901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ult Produc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mmand fierce consumer loyalty, devotion, and worship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involvement in a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Apple computers, Harley-Davi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2CCE-5E9F-4569-B5D8-B2B4BAFD33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ype of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153280" cy="28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6D1F-D07D-41FB-8DB2-9333695115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roduct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’s level of interest in a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ny sales promotions attempt to increase product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ss customization enhances product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981080" y="4572000"/>
            <a:ext cx="4723560" cy="825480"/>
            <a:chOff x="1981080" y="4572000"/>
            <a:chExt cx="4723560" cy="825480"/>
          </a:xfrm>
        </p:grpSpPr>
        <p:pic>
          <p:nvPicPr>
            <p:cNvPr id="8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981080" y="457200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86" name=""/>
            <p:cNvSpPr/>
            <p:nvPr/>
          </p:nvSpPr>
          <p:spPr>
            <a:xfrm>
              <a:off x="2991240" y="4878360"/>
              <a:ext cx="371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USTOMIZE YOUR OWN NIKE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AF9-E148-40BC-96DB-60C5A12103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Message-Respons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’s interest in processing marketing communications 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gilant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V = low involvement medium; print = high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ers experiment with novel ways to increase consumers’ involve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62320" y="5486400"/>
            <a:ext cx="3763800" cy="825480"/>
            <a:chOff x="2362320" y="5486400"/>
            <a:chExt cx="3763800" cy="825480"/>
          </a:xfrm>
        </p:grpSpPr>
        <p:pic>
          <p:nvPicPr>
            <p:cNvPr id="9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2362320" y="548640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3430800" y="5792760"/>
              <a:ext cx="269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ABISCOWORLD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6D91-0FF0-4A4C-8F16-6876DA6D74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 and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forces that drive us to buy/use product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ually 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related to wide-spread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motional and create deep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ometimes not immediately recognizable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232-8C54-470A-9442-7F5B68056F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urchase Situation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fferences that may occur when buying the same object for different contex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risk is a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 as symbol of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3FB2-0F18-4C80-A66B-E76A888500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Table 4-2: Scale to Measur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523880"/>
          <a:ext cx="8229600" cy="4713480"/>
        </p:xfrm>
        <a:graphic>
          <a:graphicData uri="http://schemas.openxmlformats.org/drawingml/2006/table">
            <a:tbl>
              <a:tblPr/>
              <a:tblGrid>
                <a:gridCol w="685800"/>
                <a:gridCol w="2057400"/>
                <a:gridCol w="3581280"/>
                <a:gridCol w="1905120"/>
              </a:tblGrid>
              <a:tr h="767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To Me (Object to Be Judged)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impor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o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ter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relev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rrelev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xci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exci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eans no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eans a 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appe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appea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scin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munda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worth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alu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vol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uninvolv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10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not nee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_:_:_:_:_:_: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nee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4D2-8A90-49E0-8EB9-BA8D2B53B9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mensions of Involvemen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volvement profile componen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erest in product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of bad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ure value of product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value of product category (self-concept relev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011-17DA-4E04-A03B-696EC2703F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Dimensions of Involvement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 class involvement may vary across cul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volvement profile components as basis for market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FDA-8C97-4446-82A9-341C7E3FE5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Strategies to Increase Involvement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Appeal to hedonistic need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Use novel stimuli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Use prominent stimuli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Include celebrity endorsers in commercial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Build consumer bonds via ongoing consumer relationship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419360" cy="40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EA3-9F83-4BF7-9DCD-FAE37F4243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er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Value: a belief that some condition is preferable to its opposit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freedom is preferable to slavery; looking younger is preferable to looking 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s/services = help in attaining value-related go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e seek others that share our values/belief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we tend to be exposed to information that supports our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51C-8283-4804-B97A-D9665D60E6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re Valu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very culture has its own set of valu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ndividualism vs. collectiv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Value system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nculturation vs. acculturatio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ization agents: parents, friends,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as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Core values evolve over time. What do you think are the 3–5 core values that best describe Canadians today?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C40-72D7-4CEF-AF72-91F7BDA941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okeach Value Surve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l values (e.g., comfortable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al values (e.g., ambitio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researchers have not widely used this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ption microcultures within larger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5186-931B-46C3-8ECB-8D09269E7B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ist of Values (LOV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ne consumer segments/endors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by consumer behavi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those who endorse sense of belonging rea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der’s Dig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V Gu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rink and entertain more, and prefer group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076-00EF-4B65-A519-E0258A298C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eans-End Chain Mod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pecific product attributes are linked at levels of increasing abstraction to termin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means to attain valued en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= means to an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dder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value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574-E76B-4FBD-8C32-05A0A8B5E8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Motivation Proces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tivation: the process that leads us to behave they way we do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creates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on creates drive to reduce/eliminate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end state = consumer’s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/services provide desired end state and reduce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52C-3A0E-4E91-932D-D9BB656B2F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Using Values to Explain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(Conc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yndicated Survey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k changes in values via large-scale surveys (e.g., Yankelovi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terialism vs. voluntary simplifie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od life”...“He Who Dies with the Most Toys,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with highly material values tend to be less 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ning Ma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CBD3-9282-4DA4-994E-05467C9B6B0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ECCA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athered information used to develop an advertising strategy by identifying the following elements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rag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ing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D57-0177-4D3D-B4B6-E4EB151C9B6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Consumer Behaviour in the Aftermath of 9/11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 for balance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/11 and consumer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edirecting focus from luxury goods to community/famil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 privacy vs. secur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B87-2455-4DB7-9411-2FCA146A4D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How do you think consumers have changed as a result of 9/11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these long-term changes or will we start to revert back to our pre-2001 minds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091-DDE1-4A79-8707-2333EFA9FA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Motivation Proces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 = discrepancy between present state and ideal stat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pancy creates 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: the larger the discrepancy, the more urgency f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476244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044-2270-44D3-9586-2E9BC90ABD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Strength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gree of willingness to expend energy to reach a go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vs. learned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y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264-13FD-464C-B948-1B96371C06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Direc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st goals can be reached by a number of route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ers: products/services provide best chance to attain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eds vs. want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: particular form of consumption used to satisfy a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D58-43C7-4EA7-914F-E4849B8519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ypes of Need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ioge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sychoge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Utilitaria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edon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C46-54BD-4876-9150-621848A15E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Conflic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oal vale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ly valued goal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ly valued goal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odorant and mouth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ositive and negative motives often conflict with one anothe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86C-B89C-411E-A199-B0F15E774F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Conflict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876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pproach-Approach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esirabl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diss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pproach-Avoidanc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and negative aspects of desired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lt of desire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voidance-Avoidanc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ng a choice with two undesirabl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962160" cy="322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110-CA5C-4951-B463-E5202E73F8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39:29Z</dcterms:modified>
  <cp:revision>1001</cp:revision>
  <dc:subject/>
  <dc:title>Consumers Rule</dc:title>
</cp:coreProperties>
</file>