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2C89-071E-4EFB-AA5D-A521CB679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9B8B-A3CE-4BD0-ADCA-A4C3A6B7A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2F03-552A-4832-AB39-A1A1631B2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0D2D-8DF2-49A6-A3E2-B40C06275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7B34-3474-4407-B8A6-256BE8018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1DB5-607C-4ECF-967A-28191E669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79A6-5E66-43FD-8A4D-2CFF29318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66C8-971C-4EED-A27C-3098107D1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F3E0-70CD-43F0-B3E7-62035B3CD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A4A2-E215-4A84-B997-ABDBD3D01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1378-68F5-4B72-8974-4BDC62864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5601-A55E-4C5D-A9FF-7B2FF6FF5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Copyright 2008 Pearson Education Cana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79c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479c8"/>
                </a:solidFill>
                <a:latin typeface="Arial"/>
              </a:rPr>
              <a:t>4-</a:t>
            </a:r>
            <a:fld id="{15C0E77E-B632-43C6-90A4-E489D37EB9C7}" type="slidenum">
              <a:rPr b="0" lang="en-US" sz="1400" spc="-1" strike="noStrike">
                <a:solidFill>
                  <a:srgbClr val="0479c8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152280"/>
            <a:ext cx="8839440" cy="6553440"/>
          </a:xfrm>
          <a:prstGeom prst="roundRect">
            <a:avLst>
              <a:gd name="adj" fmla="val 16667"/>
            </a:avLst>
          </a:prstGeom>
          <a:noFill/>
          <a:ln w="127080">
            <a:solidFill>
              <a:srgbClr val="a630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52280" y="152280"/>
            <a:ext cx="8839440" cy="6553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479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nike.com/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nabiscoworld.com/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2514600"/>
            <a:ext cx="4038480" cy="23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79c8"/>
                </a:solidFill>
                <a:latin typeface="Arial"/>
              </a:rPr>
              <a:t>Motivation and Val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3055"/>
                </a:solidFill>
                <a:latin typeface="Arial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724280" y="1143000"/>
            <a:ext cx="3467160" cy="46004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251160" y="6248520"/>
            <a:ext cx="2616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Copyright 2008 Pearson Education Cana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Classifying Consumer Needs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548640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Murray’s 20 psychogenic needs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matic Apperception Technique (TA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Specific needs and buying behaviour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for achie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for affil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for p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for unique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095880" y="1523880"/>
            <a:ext cx="2517840" cy="4648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1B42-7EFC-45A9-89EB-C8298BBF3B1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479c8"/>
                </a:solidFill>
                <a:latin typeface="Arial"/>
              </a:rPr>
              <a:t>Levels of Needs in the Maslow Hierarchy</a:t>
            </a:r>
            <a:endParaRPr b="0" lang="en-US" sz="3800" spc="-1" strike="noStrike">
              <a:solidFill>
                <a:srgbClr val="0479c8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658280" cy="4334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987F-2E86-45CF-A673-89EB28B765F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a63055"/>
                </a:solidFill>
                <a:latin typeface="Arial"/>
              </a:rPr>
              <a:t>Devise separate promotional strategies for an article of clothing, each of which stresses one of the levels of Maslow’s hierarchy of needs.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868F-65CE-4A40-A4C3-A30798FBA4C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Consumer Involvement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3581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63055"/>
                </a:solidFill>
                <a:latin typeface="Arial"/>
              </a:rPr>
              <a:t>We can get pretty attached to products…</a:t>
            </a:r>
            <a:endParaRPr b="0" lang="en-US" sz="20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in One” tattoo on consumer’s h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uck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agazine for wo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63055"/>
                </a:solidFill>
                <a:latin typeface="Arial"/>
              </a:rPr>
              <a:t>Involvement: perceived relevance of an object based on one’s needs, values, and interests</a:t>
            </a:r>
            <a:endParaRPr b="0" lang="en-US" sz="20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otivation to process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038480" y="1676520"/>
            <a:ext cx="4419720" cy="396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9AB2-28CC-41FC-8A13-5A2008E3329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Inertia and Flow State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Inertia: consumption at the low end of involvement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make decisions out of habit (lack of motiv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Flow state: true involvement with a product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yful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ing in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entration/focused atten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C195-70B2-4DAF-A31A-433DF4FCD5E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Inertia and Flow State (Cont’d)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Flow state (cont’d)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tal enjoyment of activity for its own s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orted sense of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ch between challenge at hand and one’s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B667-406E-41F4-BDCD-7770371AA2A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Cult Products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Command fierce consumer loyalty, devotion, and worship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involvement in a br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Apple computers, Harley-David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94C7-E42B-49CF-B100-CB2846563CD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Type of Involvement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533520" y="2209680"/>
            <a:ext cx="8153280" cy="2820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B94C-7DED-47BA-B92C-7C447A60E50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Product Involvement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Consumer’s level of interest in a product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Many sales promotions attempt to increase product involvement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Mass customization enhances product involvement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1981080" y="4572000"/>
            <a:ext cx="4723560" cy="825480"/>
            <a:chOff x="1981080" y="4572000"/>
            <a:chExt cx="4723560" cy="825480"/>
          </a:xfrm>
        </p:grpSpPr>
        <p:pic>
          <p:nvPicPr>
            <p:cNvPr id="85" name="" descr="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1981080" y="4572000"/>
              <a:ext cx="952560" cy="82548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</p:pic>
        <p:sp>
          <p:nvSpPr>
            <p:cNvPr id="86" name=""/>
            <p:cNvSpPr/>
            <p:nvPr/>
          </p:nvSpPr>
          <p:spPr>
            <a:xfrm>
              <a:off x="2991240" y="4878360"/>
              <a:ext cx="371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CUSTOMIZE YOUR OWN NIKE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CCC5-EB63-46A4-A0F7-8E1B6730464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79c8"/>
                </a:solidFill>
                <a:latin typeface="Arial"/>
              </a:rPr>
              <a:t>Message-Response Involvement</a:t>
            </a:r>
            <a:endParaRPr b="0" lang="en-US" sz="40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Consumer’s interest in processing marketing communications 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gilante mark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TV = low involvement medium; print = high involvement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Marketers experiment with novel ways to increase consumers’ involvement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2362320" y="5486400"/>
            <a:ext cx="3763800" cy="825480"/>
            <a:chOff x="2362320" y="5486400"/>
            <a:chExt cx="3763800" cy="825480"/>
          </a:xfrm>
        </p:grpSpPr>
        <p:pic>
          <p:nvPicPr>
            <p:cNvPr id="90" name="" descr="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2362320" y="5486400"/>
              <a:ext cx="952560" cy="82548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</p:pic>
        <p:sp>
          <p:nvSpPr>
            <p:cNvPr id="91" name=""/>
            <p:cNvSpPr/>
            <p:nvPr/>
          </p:nvSpPr>
          <p:spPr>
            <a:xfrm>
              <a:off x="3430800" y="5792760"/>
              <a:ext cx="2695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NABISCOWORLD.CO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822E-ED1A-46B6-BC85-9F9B426DBA5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Motivation and Values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The forces that drive us to buy/use products…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usually 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related to wide-spread belie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emotional and create deep commi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sometimes not immediately recognizable to 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0AD1-FB99-4EAA-8291-6D4C01B75F8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Purchase Situation Involvement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486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Differences that may occur when buying the same object for different contexts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al risk is a consid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ft as symbol of invol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F7F5-3A4E-4C97-9940-7E8053D73B8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79c8"/>
                </a:solidFill>
                <a:latin typeface="Arial"/>
              </a:rPr>
              <a:t>Table 4-2: Scale to Measure Involvement</a:t>
            </a:r>
            <a:endParaRPr b="0" lang="en-US" sz="4000" spc="-1" strike="noStrike">
              <a:solidFill>
                <a:srgbClr val="0479c8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457200" y="1523880"/>
          <a:ext cx="8229600" cy="4713480"/>
        </p:xfrm>
        <a:graphic>
          <a:graphicData uri="http://schemas.openxmlformats.org/drawingml/2006/table">
            <a:tbl>
              <a:tblPr/>
              <a:tblGrid>
                <a:gridCol w="685800"/>
                <a:gridCol w="2057400"/>
                <a:gridCol w="3581280"/>
                <a:gridCol w="1905120"/>
              </a:tblGrid>
              <a:tr h="7671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 u="sng">
                          <a:solidFill>
                            <a:srgbClr val="a63055"/>
                          </a:solidFill>
                          <a:uFillTx/>
                          <a:latin typeface="Arial"/>
                        </a:rPr>
                        <a:t>To Me (Object to Be Judged) 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1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importa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_:_:_:_:_:_:_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unimporta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2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bor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_:_:_:_:_:_:_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interest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3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releva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_:_:_:_:_:_:_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irreleva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4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excit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_:_:_:_:_:_:_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unexcit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5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means noth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_:_:_:_:_:_:_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means a lo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6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appeal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_:_:_:_:_:_:_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unappeal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7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fascinat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_:_:_:_:_:_:_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munda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8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worthl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_:_:_:_:_:_:_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valu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9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involv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_:_:_:_:_:_:_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uninvolv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10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not need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_:_:_:_:_:_:_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need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6A85-FB6D-41F9-A99F-CE9500232F5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Dimensions of Involvement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Involvement profile components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al interest in product categ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sk impor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ability of bad purch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easure value of product categ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 value of product category (self-concept relevan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AA37-B9AC-455B-9D57-DFA449F72DD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79c8"/>
                </a:solidFill>
                <a:latin typeface="Arial"/>
              </a:rPr>
              <a:t>Dimensions of Involvement (Cont’d)</a:t>
            </a:r>
            <a:endParaRPr b="0" lang="en-US" sz="40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Product class involvement may vary across cultures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Involvement profile components as basis for market segmentation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E688-5E18-47A4-A730-482AD9D0976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79c8"/>
                </a:solidFill>
                <a:latin typeface="Arial"/>
              </a:rPr>
              <a:t>Strategies to Increase Involvement</a:t>
            </a:r>
            <a:endParaRPr b="0" lang="en-US" sz="40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4343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63055"/>
                </a:solidFill>
                <a:latin typeface="Arial"/>
              </a:rPr>
              <a:t>Appeal to hedonistic needs</a:t>
            </a:r>
            <a:endParaRPr b="0" lang="en-US" sz="2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63055"/>
                </a:solidFill>
                <a:latin typeface="Arial"/>
              </a:rPr>
              <a:t>Use novel stimuli in commercials</a:t>
            </a:r>
            <a:endParaRPr b="0" lang="en-US" sz="2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63055"/>
                </a:solidFill>
                <a:latin typeface="Arial"/>
              </a:rPr>
              <a:t>Use prominent stimuli in commercials</a:t>
            </a:r>
            <a:endParaRPr b="0" lang="en-US" sz="2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63055"/>
                </a:solidFill>
                <a:latin typeface="Arial"/>
              </a:rPr>
              <a:t>Include celebrity endorsers in commercials</a:t>
            </a:r>
            <a:endParaRPr b="0" lang="en-US" sz="2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63055"/>
                </a:solidFill>
                <a:latin typeface="Arial"/>
              </a:rPr>
              <a:t>Build consumer bonds via ongoing consumer relationships</a:t>
            </a:r>
            <a:endParaRPr b="0" lang="en-US" sz="2200" spc="-1" strike="noStrike">
              <a:solidFill>
                <a:srgbClr val="a63055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419720" y="1752480"/>
            <a:ext cx="4419360" cy="400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3320-DD5B-4765-B45C-5C6C659CC70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Consumer Values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077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Value: a belief that some condition is preferable to its opposite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freedom is preferable to slavery; looking younger is preferable to looking o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Products/services = help in attaining value-related goal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We seek others that share our values/beliefs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us, we tend to be exposed to information that supports our belie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321B-3620-47F5-8863-D8A82A7DAAB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Core Values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3055"/>
                </a:solidFill>
                <a:latin typeface="Arial"/>
              </a:rPr>
              <a:t>Every culture has its own set of values</a:t>
            </a:r>
            <a:endParaRPr b="0" lang="en-US" sz="28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, individualism vs. collectiv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3055"/>
                </a:solidFill>
                <a:latin typeface="Arial"/>
              </a:rPr>
              <a:t>Value system</a:t>
            </a:r>
            <a:endParaRPr b="0" lang="en-US" sz="28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3055"/>
                </a:solidFill>
                <a:latin typeface="Arial"/>
              </a:rPr>
              <a:t>Enculturation vs. acculturation</a:t>
            </a:r>
            <a:endParaRPr b="0" lang="en-US" sz="28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cialization agents: parents, friends, teac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a as ag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a63055"/>
                </a:solidFill>
                <a:latin typeface="Arial"/>
              </a:rPr>
              <a:t>Discussion: Core values evolve over time. What do you think are the 3–5 core values that best describe Canadians today?</a:t>
            </a:r>
            <a:endParaRPr b="0" lang="en-US" sz="28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BE96-1E63-4272-BEDF-A570BD4D8C1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79c8"/>
                </a:solidFill>
                <a:latin typeface="Arial"/>
              </a:rPr>
              <a:t>Using Values to Explain</a:t>
            </a:r>
            <a:br>
              <a:rPr sz="4000"/>
            </a:br>
            <a:r>
              <a:rPr b="0" lang="en-US" sz="4000" spc="-1" strike="noStrike">
                <a:solidFill>
                  <a:srgbClr val="0479c8"/>
                </a:solidFill>
                <a:latin typeface="Arial"/>
              </a:rPr>
              <a:t>Consumer Behaviour</a:t>
            </a:r>
            <a:endParaRPr b="0" lang="en-US" sz="40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Rokeach Value Survey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inal values (e.g., comfortable lif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mental values (e.g., ambitiou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keting researchers have not widely used this surv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umption microcultures within larger cul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A3B7-0D0C-412C-B6AE-8F407AF387F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79c8"/>
                </a:solidFill>
                <a:latin typeface="Arial"/>
              </a:rPr>
              <a:t>Using Values to Explain</a:t>
            </a:r>
            <a:br>
              <a:rPr sz="4000"/>
            </a:br>
            <a:r>
              <a:rPr b="0" lang="en-US" sz="4000" spc="-1" strike="noStrike">
                <a:solidFill>
                  <a:srgbClr val="0479c8"/>
                </a:solidFill>
                <a:latin typeface="Arial"/>
              </a:rPr>
              <a:t>Consumer Behaviour (Cont’d)</a:t>
            </a:r>
            <a:endParaRPr b="0" lang="en-US" sz="40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List of Values (LOV)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ne consumer segments/endorsed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ues by consumer behavio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those who endorse sense of belonging rea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ader’s Dige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V Gui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drink and entertain more, and prefer group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4D5E-7C9D-4A61-BF09-369E7DA0568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79c8"/>
                </a:solidFill>
                <a:latin typeface="Arial"/>
              </a:rPr>
              <a:t>Using Values to Explain</a:t>
            </a:r>
            <a:br>
              <a:rPr sz="4000"/>
            </a:br>
            <a:r>
              <a:rPr b="0" lang="en-US" sz="4000" spc="-1" strike="noStrike">
                <a:solidFill>
                  <a:srgbClr val="0479c8"/>
                </a:solidFill>
                <a:latin typeface="Arial"/>
              </a:rPr>
              <a:t>Consumer Behaviour (Cont’d)</a:t>
            </a:r>
            <a:endParaRPr b="0" lang="en-US" sz="40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Means-End Chain Model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y specific product attributes are linked at levels of increasing abstraction to terminal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ternative means to attain valued end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ts = means to an 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ddering techn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erarchical value m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6099-596E-4BDC-B899-DA96A98DFD9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The Motivation Process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01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Motivation: the process that leads us to behave they way we do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creates t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sion creates drive to reduce/eliminate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ired end state = consumer’s go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ts/services provide desired end state and reduce t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0BB4-67B5-45F7-888C-E01D73187D1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79c8"/>
                </a:solidFill>
                <a:latin typeface="Arial"/>
              </a:rPr>
              <a:t>Using Values to Explain</a:t>
            </a:r>
            <a:br>
              <a:rPr sz="4000"/>
            </a:br>
            <a:r>
              <a:rPr b="0" lang="en-US" sz="4000" spc="-1" strike="noStrike">
                <a:solidFill>
                  <a:srgbClr val="0479c8"/>
                </a:solidFill>
                <a:latin typeface="Arial"/>
              </a:rPr>
              <a:t>Consumer Behaviour (Conc’d)</a:t>
            </a:r>
            <a:endParaRPr b="0" lang="en-US" sz="40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Syndicated Surveys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ck changes in values via large-scale surveys (e.g., Yankelovich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onito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Materialism vs. voluntary simplifiers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od life”...“He Who Dies with the Most Toys, Win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ose with highly material values tend to be less happ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rning Man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D8BC-286D-4908-877F-BD3D5A3A99F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MECCAS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Gathered information used to develop an advertising strategy by identifying the following elements: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ssage e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umer belie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tional fra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verag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iving fo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75E6-6EC3-48F4-9507-CD85369690B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79c8"/>
                </a:solidFill>
                <a:latin typeface="Arial"/>
              </a:rPr>
              <a:t>Consumer Behaviour in the Aftermath of 9/11</a:t>
            </a:r>
            <a:endParaRPr b="0" lang="en-US" sz="40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9246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Need for balance…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/11 and consumer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Redirecting focus from luxury goods to community/family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Consumer privacy vs. security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316A-D747-49D2-9859-66DF0138FCF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a63055"/>
                </a:solidFill>
                <a:latin typeface="Arial"/>
              </a:rPr>
              <a:t>How do you think consumers have changed as a result of 9/11?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re these long-term changes or will we start to revert back to our pre-2001 mindse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4240-9895-4E59-9F73-53C555C897C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The Motivation Process (Cont’d)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792468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Need = discrepancy between present state and ideal state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repancy creates t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ive: the larger the discrepancy, the more urgency fe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657600" y="3809880"/>
            <a:ext cx="4762440" cy="2428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CB0B-433A-48AD-8F92-555B1CCA0CA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Motivational Strength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Degree of willingness to expend energy to reach a goal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logical vs. learned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ive The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ctancy The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CE01-D7D9-41E1-9873-E1B13AFA966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Motivational Direction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Most goals can be reached by a number of routes…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keters: products/services provide best chance to attain go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Needs vs. wants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nt: particular form of consumption used to satisfy a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CC9F-DD78-4790-BE3F-2E47C290B3A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Types of Needs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Biogenic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Psychogenic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Utilitarian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Hedonic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FCD1-4B9D-4F4E-BDD5-022BE989D1C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Motivational Conflicts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0010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Goal valence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itively valued goal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ppr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atively valued goal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vo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odorant and mouthwa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Positive and negative motives often conflict with one another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A329-E0C7-41A5-9DDA-63AD5A9AF43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Motivational Conflicts (Cont’d)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8769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3055"/>
                </a:solidFill>
                <a:latin typeface="Arial"/>
              </a:rPr>
              <a:t>Approach-Approach</a:t>
            </a:r>
            <a:endParaRPr b="0" lang="en-US" sz="28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desirable altern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gnitive disson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3055"/>
                </a:solidFill>
                <a:latin typeface="Arial"/>
              </a:rPr>
              <a:t>Approach-Avoidance</a:t>
            </a:r>
            <a:endParaRPr b="0" lang="en-US" sz="28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itive and negative aspects of desired pro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ilt of desire occ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3055"/>
                </a:solidFill>
                <a:latin typeface="Arial"/>
              </a:rPr>
              <a:t>Avoidance-Avoidance</a:t>
            </a:r>
            <a:endParaRPr b="0" lang="en-US" sz="28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ing a choice with two undesirable altern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876920" y="2438280"/>
            <a:ext cx="3962160" cy="3222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E46B-4410-4763-8B89-A6DEC9D5A90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8T00:53:29Z</dcterms:created>
  <dc:creator>mkcool</dc:creator>
  <dc:description/>
  <dc:language>en-US</dc:language>
  <cp:lastModifiedBy>Pearson Canada</cp:lastModifiedBy>
  <dcterms:modified xsi:type="dcterms:W3CDTF">2007-05-16T17:39:29Z</dcterms:modified>
  <cp:revision>1001</cp:revision>
  <dc:subject/>
  <dc:title>Consumers Rule</dc:title>
</cp:coreProperties>
</file>