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D426-B880-4937-B769-D3DDA6DBC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2370-BD3B-4E71-BD1E-DB7C7194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F7F9-AB3B-493C-BE4B-DE2EEAE6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426E-586B-4C49-8F36-C486F278D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9D05-46DC-4B4B-914F-ED0FC5FD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8C4A-2C89-46ED-85F9-412EC893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AABD-7850-4C61-99F1-6AB60553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D435-A7D1-46EB-9937-299B1539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1F2C-5D0E-487A-8559-4C9FA961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E859-375E-46C4-80B8-4E64ED80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A6A7-483C-4FBA-AD1C-AC6E7948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C6B4-EE92-409E-BB2E-451A1569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79c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79c8"/>
                </a:solidFill>
                <a:latin typeface="Arial"/>
              </a:rPr>
              <a:t>5-</a:t>
            </a:r>
            <a:fld id="{05BE3E27-D39B-44EA-82AE-6A689E3AC6E5}" type="slidenum">
              <a:rPr b="0" lang="en-US" sz="1400" spc="-1" strike="noStrike">
                <a:solidFill>
                  <a:srgbClr val="0479c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16667"/>
            </a:avLst>
          </a:prstGeom>
          <a:noFill/>
          <a:ln w="127080">
            <a:solidFill>
              <a:srgbClr val="a630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79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251160" y="6248520"/>
            <a:ext cx="26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Copyright 2008 Pearson Education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llmylifeforsale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urton.com/gear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07240" y="2514600"/>
            <a:ext cx="2070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The Sel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24280" y="990720"/>
            <a:ext cx="3467160" cy="4600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51160" y="6248520"/>
            <a:ext cx="26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Copyright 2008 Pearson Education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Looking-Glass Self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aking the role of the other”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an vary depending on…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se perspective we are t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ccurate our predictions are of their evaluations of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lf-fulfilling prophec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300C-C89D-44D9-B44C-E8C107E1E6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Self-Consciousnes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wareness of self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ublic self-consciousnes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lf-monitoring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vs. low self-mon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1D9E-3CDF-4579-A6F5-388BAB53D6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onsumption and Self-Concep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Identity marketing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ok,” baby boy Iuma, Harley Davidson tat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Product consumption as definition of the self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63055"/>
                </a:solidFill>
                <a:latin typeface="Arial"/>
              </a:rPr>
              <a:t>Discussion: Construct a “consumption biography” of a friend, family member, or classmate.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ke a list of his/her most favorite possessions, and see if you or others can describe this person’s personality just from the information provided by this catalog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4A0E-D22C-4B7E-B0B0-9D53826A69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You Are What You Consume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ocial identity as individual consumption behaviour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am I now?”…to some extent, your possessio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Inference of personality based on consumption pattern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ttachment to product as it maintains self-concep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ymbolic self-completion theor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0078-D9B2-42E6-9500-8ABF7B5952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Self/Product Congruence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lf-image congruence model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gnitive matching of products and 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l self relevance vs. actual self relev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Discussion: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people buy products because they are seen as similar to the self, or do they assume that these products must be similar because  they have bought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D691-CC91-4E07-9514-D52B28C119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he Extended Self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External objects that we consider a part of u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what you drive and wear (sho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panese business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Levels of extended self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34320" y="4724280"/>
            <a:ext cx="952560" cy="825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76" name=""/>
          <p:cNvSpPr/>
          <p:nvPr/>
        </p:nvSpPr>
        <p:spPr>
          <a:xfrm>
            <a:off x="3505320" y="5029200"/>
            <a:ext cx="31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MYLIFEFORSAL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52C2-605D-4B82-95CC-D13942879B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Sex Rol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xual identity is very important to the consumer’s self-concep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Gender differences in consumption situation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food preferences of men vs.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876F-F66A-4AEB-B6D7-71380FF3C1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Gender and Socializat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Advertising reinforces gender expectation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Gender roles vary by culture/nation…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 change/evolve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Agentic vs. communal goal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Mattel’s building toy called 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828800" y="3505320"/>
            <a:ext cx="5715000" cy="268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3E56-6CBC-4BCF-8A0B-29B4399065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Gender vs. Sexual Identit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Gender role identity: body and mind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Biological gender vs. sex-typed trait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Masculinity and femininity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Many products are sex-typed…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take on masculine and feminine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ess teleph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v’s colour- coded dia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4495680" cy="41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60FF-5DBE-4C49-842E-BAB6B45FF8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Androgyn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Possession of both masculine and feminine trait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rogynous people function well in social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Sex-role orientation and responses to marketing stimuli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ales more sensitive to pieces of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 consider overall t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Sex-typed people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Non-traditional male” (NTM) tendencie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6D40-24C2-4CE8-8DED-845A439625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Perspectives on the Self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We buy products to highlight/hide aspects of the self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Does the self exist?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ve self vs. independent/unique 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14E3-FBE5-4C0B-8975-88F9CDC339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Female Sex Rol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New managerial class of wome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forced marketers to reexamine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rting goods, car accessories, and electronics products for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01640" y="5181480"/>
            <a:ext cx="6005520" cy="825480"/>
            <a:chOff x="1601640" y="5181480"/>
            <a:chExt cx="6005520" cy="825480"/>
          </a:xfrm>
        </p:grpSpPr>
        <p:pic>
          <p:nvPicPr>
            <p:cNvPr id="90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654600" y="5181480"/>
              <a:ext cx="952560" cy="8254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91" name=""/>
            <p:cNvSpPr/>
            <p:nvPr/>
          </p:nvSpPr>
          <p:spPr>
            <a:xfrm>
              <a:off x="1601640" y="5500800"/>
              <a:ext cx="500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URTON SNOWBOARD GEAR FOR WOM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F1E5-8D4D-4ECC-955F-6302A91926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ale Sex Rol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sculinism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models of masculin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dwi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-of-action h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isandr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14CC-23D4-4CCA-8157-7B36CF3D55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ale Sex Roles (Cont’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Grooming products for me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osex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Beck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er Eye for the Straight G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umers/urban influent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994F-B527-4D2E-8513-572EA388B9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The “metrosexual” is a big buzzword in marketing, but is it real or just media hype?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Do you see men in your age group changing their ideas about acceptable interests for males (e.g., home design, cooking, etc.)?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038480" y="1752480"/>
            <a:ext cx="4762800" cy="339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B2F3-7BA4-4BC2-99B3-61B1647132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GLBT Consumer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3962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mons study: compared to heterosexual markets, readers of gay publications are more likely t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ld professional job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wn a vacation h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wn a notebook compu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038480" y="2362320"/>
            <a:ext cx="4724640" cy="359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D3CB-1BCC-4FC8-A839-3C998EEAA8F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Body Image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 consumer’s subjective evaluation of his/her physical self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Body Cathexi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0524-7573-4FED-B8F1-22F3A0016A0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Ideals of Beaut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Exemplar of appearanc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What is beautiful is good” stereotyp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avourable physical featur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ractive 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health and y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/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inine curves/hourglass body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” mal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F90F-AE47-4405-9B4E-7C9498D7CF9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he Western Ideal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kin colour and eye shape = status, sophistication, and social desirabilit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Less powerful cultures adopt standards of beauty in dominant cultur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609E-1B19-41BF-B1E5-C0A998C8D49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How prevalent is the Western ideal of beauty among your peers?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How do you see this ideal evolving now (if at all)?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A295-46EE-47FC-B30B-8CAE58CF137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Ideals of Beauty Over Time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pecific “looks”/ideals of beaut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1800s: delicate/”looking ill” appearance, 18-inch waistline (use of corse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90s: voluptuous, lusty wo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 economy: mature features vs. good economy: babyish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0s: “waif” 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n women: high heels, body waxing, eyelifts, lipos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6235-3A90-41EB-A47A-87411FE0922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Self-Concep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he beliefs a person holds about his/her own attributes, and how he/she evaluates these qualiti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complex structure of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 dimensions: content, positivity, intensity, stability over time, and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2F09-493E-487D-A1F0-79A732E5A1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Ideals of Beauty Over Time (Cont’d)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Media and marketing communicate standards of beauty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ss America Page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Plus-sized apparel market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Strongly masculine, muscled body for men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4267440" cy="319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4AA7-D851-4862-A95C-91705F1834D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Working on the Bod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roducts/services promise to alter physical self/self-concep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attism (worldwide)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orldwide obesity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63055"/>
                </a:solidFill>
                <a:latin typeface="Arial"/>
              </a:rPr>
              <a:t>Discussion: Should fast-food restaurants be liable if customers sue them for contributing to their obesity?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2ECE-0C51-4765-BAC0-F1C78E0A84A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Body Image Distortion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276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3055"/>
                </a:solidFill>
                <a:latin typeface="Arial"/>
              </a:rPr>
              <a:t>To some, body quality reflects self-worth (particularly among women)</a:t>
            </a:r>
            <a:endParaRPr b="0" lang="en-US" sz="24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3055"/>
                </a:solidFill>
                <a:latin typeface="Arial"/>
              </a:rPr>
              <a:t>Distorted body image is linked to eating disorders among females</a:t>
            </a:r>
            <a:endParaRPr b="0" lang="en-US" sz="2400" spc="-1" strike="noStrike">
              <a:solidFill>
                <a:srgbClr val="a63055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809880" y="1751040"/>
            <a:ext cx="4800600" cy="335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E02F-A5C7-4149-BFAF-EA2FFEFF2A1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osmetic Surger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hanging a poor body image or to enhance appearanc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 account for 20% of surg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Breast Augmentatio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ion that breast size = sex app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5915-3F6B-4490-8BE4-3FEF48E3174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Body Decoration and Mutilat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3055"/>
                </a:solidFill>
                <a:latin typeface="Arial"/>
              </a:rPr>
              <a:t>Decorating the self…</a:t>
            </a:r>
            <a:endParaRPr b="0" lang="en-US" sz="24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s group members from non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s the individual in the social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sense of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lace the person in a gender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nhance gender-role 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dicate desired social con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dicate high status or r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4267080" cy="307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7716-1C7A-4A09-A05A-8760094C0CC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479c8"/>
                </a:solidFill>
                <a:latin typeface="Arial"/>
              </a:rPr>
              <a:t>Body Decoration and Mutilation (Cont’d)</a:t>
            </a:r>
            <a:endParaRPr b="0" lang="en-US" sz="38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attoos and body piercing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associated with social outc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a fashion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0B1B-D54C-4BC3-A4CA-06F5E11831F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Self-Esteem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he positivity of a person’s self-concep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vs. high self-est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ance by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compa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ers: attractive models using their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1821-0DC9-4F4E-A1B6-8C943DD81B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63055"/>
                </a:solidFill>
                <a:latin typeface="Arial"/>
              </a:rPr>
              <a:t>Self-esteem advertising: products provide remedy to low self-esteem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ink about/locate examples of self-esteem adverti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valuate the probable effectiveness of these appeals. Is it true that “flattery gets you everywhere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4754-A8E3-4A21-B02B-5007CDB752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Real and Ideal Selv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Ideal self vs. actual self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 influences self-est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l self is molded by consumer’s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help us reach ideal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consistent with actual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7FD7-6070-4A36-9699-0EB616804C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Fantas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ny successful products appeal to consumers’ fantasies…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ing us to “try on” interesting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ersonal websites = projection of self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43DD-1FD3-44FD-8028-61365D3B03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ultiple Selv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Each of us has many selves/rol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-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id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ers pitch products needed to facilitate an active role 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859B-EF29-4A00-B04A-8073689259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Symbolic Interactionism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Relationships with others play a large part in forming the self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ic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mea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possessions define “who we ar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fulfilling prophe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ng the way we assume others expect of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3DBC-5443-4665-95B8-BC17A0A54F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00:53:29Z</dcterms:created>
  <dc:creator>mkcool</dc:creator>
  <dc:description/>
  <dc:language>en-US</dc:language>
  <cp:lastModifiedBy>Pearson Canada</cp:lastModifiedBy>
  <dcterms:modified xsi:type="dcterms:W3CDTF">2007-05-16T17:36:48Z</dcterms:modified>
  <cp:revision>1153</cp:revision>
  <dc:subject/>
  <dc:title>Consumers Rule</dc:title>
</cp:coreProperties>
</file>