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EB04-B36C-4CDE-B50D-9FC65F2A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8433-5BA4-4C24-88EE-76B98AC0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5F82-2702-48E3-BF75-36188051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49DA-F477-4B05-A013-AAB5853A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D2DA-DFCE-4645-B84E-EACED576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FCE-600C-4866-9A6A-9E25EBC6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6883-C472-49DC-9C5A-409EA73B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FA4-B2CD-40C1-8A06-BBDBEB7D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68D-0F87-4459-B5A4-E48A8A24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0A2-6320-4920-9921-B9B91D24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A88-0756-4B2D-987A-E220CB41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BD4-B631-49B9-9858-3D505B1A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79c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79c8"/>
                </a:solidFill>
                <a:latin typeface="Arial"/>
              </a:rPr>
              <a:t>5-</a:t>
            </a:r>
            <a:fld id="{1A34A265-0AB1-4C07-90FA-8BF07000735B}" type="slidenum">
              <a:rPr b="0" lang="en-US" sz="1400" spc="-1" strike="noStrike">
                <a:solidFill>
                  <a:srgbClr val="0479c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127080">
            <a:solidFill>
              <a:srgbClr val="a63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79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lmylifeforsale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urton.com/gear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07240" y="2514600"/>
            <a:ext cx="2070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The Sel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990720"/>
            <a:ext cx="3467160" cy="4600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Looking-Glass Self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aking the role of the other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an vary depending on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se perspective we are 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curate our predictions are of their evaluations of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fulfilling prophec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EFBA-1611-4B4E-B6FB-1DA6E98BF5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-Consciousnes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wareness of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ublic self-consciousnes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monitoring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vs. low self-mon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0C1A-07AC-4BE4-A58F-E916650CE3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nsumption and Self-Concep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Identity marketing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ok,” baby boy Iuma, Harley Davidson tat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roduct consumption as definition of the self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63055"/>
                </a:solidFill>
                <a:latin typeface="Arial"/>
              </a:rPr>
              <a:t>Discussion: Construct a “consumption biography” of a friend, family member, or classmate.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ke a list of his/her most favorite possessions, and see if you or others can describe this person’s personality just from the information provided by this catalog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A8E-C29E-4A90-A650-5894C73687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You Are What You Consum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ocial identity as individual consumption behaviou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am I now?”…to some extent, your possess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ference of personality based on consumption patter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ttachment to product as it maintains 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ymbolic self-completion theor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5C2-30EE-4B94-95A4-EFDCFD65F5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/Product Congruenc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image congruence model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 matching of products and 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self relevance vs. actual self rele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iscussion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people buy products because they are seen as similar to the self, or do they assume that these products must be similar because  they have bought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C057-1899-45DF-AEAA-67409DE7FA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Extended Self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External objects that we consider a part of u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what you drive and wear (sho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ese business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Levels of extended self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4724280"/>
            <a:ext cx="952560" cy="82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76" name=""/>
          <p:cNvSpPr/>
          <p:nvPr/>
        </p:nvSpPr>
        <p:spPr>
          <a:xfrm>
            <a:off x="3505320" y="5029200"/>
            <a:ext cx="31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MYLIFEFORSA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9093-49FE-4E19-9B7D-907D7990CE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x Ro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xual identity is very important to the consumer’s 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ender differences in consumption situatio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food preferences of men vs.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1FCB-A0FA-4612-BD3A-0BF7C48452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ender and Socializat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dvertising reinforces gender expectation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Gender roles vary by culture/nation…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 change/evolve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gentic vs. communal goal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Mattel’s building toy called 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3505320"/>
            <a:ext cx="5715000" cy="26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709F-F5CD-42DD-8ECA-EA8ABC390B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ender vs. Sexual Identi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Gender role identity: body and mind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Biological gender vs. sex-typed trait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Masculinity and femininity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Many products are sex-typed…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take on masculine and feminine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ess tele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v’s colour- coded di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495680" cy="41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11C5-7202-4875-9F4C-41A28E171F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Androgyn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ossession of both masculine and feminine trait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ogynous people function well in social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ex-role orientation and responses to marketing stimuli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s more sensitive to pieces of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 consider overall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ex-typed peopl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Non-traditional male” (NTM) tendencie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48B-6307-442B-95D5-8EA44A45F6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erspectives on the Self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We buy products to highlight/hide aspects of the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oes the self exist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self vs. independent/unique 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DE2-152F-46C9-B70B-AA004A5D60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emale Sex Ro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w managerial class of wome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forced marketers to reexamin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ing goods, car accessories, and electronics products for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01640" y="5181480"/>
            <a:ext cx="6005520" cy="825480"/>
            <a:chOff x="1601640" y="5181480"/>
            <a:chExt cx="6005520" cy="825480"/>
          </a:xfrm>
        </p:grpSpPr>
        <p:pic>
          <p:nvPicPr>
            <p:cNvPr id="9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654600" y="5181480"/>
              <a:ext cx="95256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91" name=""/>
            <p:cNvSpPr/>
            <p:nvPr/>
          </p:nvSpPr>
          <p:spPr>
            <a:xfrm>
              <a:off x="1601640" y="5500800"/>
              <a:ext cx="500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URTON SNOWBOARD GEAR FOR WOM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C5A9-5411-47B9-A87C-7CA17C5CE3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ale Sex Ro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sculinis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odels of masculin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dw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-of-action h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isandr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74D0-CA59-4A4B-B84B-58B9552985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ale Sex Role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rooming products for me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sex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Beck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er Eye for the Straight G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umers/urban influent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E93F-AC79-4FDF-997A-B17CEBC378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The “metrosexual” is a big buzzword in marketing, but is it real or just media hype?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Do you see men in your age group changing their ideas about acceptable interests for males (e.g., home design, cooking, etc.)?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4762800" cy="339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4249-5A37-43FE-8671-699EE51C98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LBT Consumer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396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mons study: compared to heterosexual markets, readers of gay publications are more likely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 professional j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wn a vacation h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wn a notebook compu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4724640" cy="359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CA0-79C5-4E75-A80C-F6AD17B718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ody Imag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 consumer’s subjective evaluation of his/her physical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ody Cathexi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6121-C1C5-4C0E-907B-4EC1817054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deals of Beau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xemplar of appearanc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What is beautiful is good” stereotyp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avourable physical featur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active 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health and y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/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inine curves/hourglass body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” mal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C38-9062-4D82-9ED9-1593F9FC45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Western Ideal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kin colour and eye shape = status, sophistication, and social desirabil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ess powerful cultures adopt standards of beauty in dominant cultur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562C-DF43-4CAA-BCB1-41CAC245FB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ow prevalent is the Western ideal of beauty among your peers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ow do you see this ideal evolving now (if at all)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18DE-48A7-4580-8973-0ABF5348B6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deals of Beauty Over Tim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pecific “looks”/ideals of beau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1800s: delicate/”looking ill” appearance, 18-inch waistline (use of corse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0s: voluptuous, lusty 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economy: mature features vs. good economy: babyish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0s: “waif” 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women: high heels, body waxing, eyelifts, lipos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286-2974-46F1-A21A-A9005B2BAF8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-Concep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e beliefs a person holds about his/her own attributes, and how he/she evaluates these qualiti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complex structure of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dimensions: content, positivity, intensity, stability over time, and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CA5D-B007-4839-9B32-49C9F81C74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Ideals of Beauty Over Time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Media and marketing communicate standards of beauty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s America Page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lus-sized apparel market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trongly masculine, muscled body for men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267440" cy="319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330-DAA2-4E7A-95F6-E8D2E537F68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Working on the Bod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s/services promise to alter physical self/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attism (worldwide)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orldwide obesity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Discussion: Should fast-food restaurants be liable if customers sue them for contributing to their obesity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F48-4728-415F-90A9-54E1DBF8830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ody Image Distortion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3055"/>
                </a:solidFill>
                <a:latin typeface="Arial"/>
              </a:rPr>
              <a:t>To some, body quality reflects self-worth (particularly among women)</a:t>
            </a: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3055"/>
                </a:solidFill>
                <a:latin typeface="Arial"/>
              </a:rPr>
              <a:t>Distorted body image is linked to eating disorders among females</a:t>
            </a: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9880" y="1751040"/>
            <a:ext cx="4800600" cy="335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C9D3-84EB-42A1-9796-F179E2672E6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smetic Surger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hanging a poor body image or to enhance appearanc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account for 20% of surg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reast Au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that breast size = sex app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63C0-4551-4269-83E8-61A76B33308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ody Decoration and Mutilat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3055"/>
                </a:solidFill>
                <a:latin typeface="Arial"/>
              </a:rPr>
              <a:t>Decorating the self…</a:t>
            </a: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s group members from non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s the individual in the social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sense of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lace the person in a gender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hance gender-role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dicate desired social con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dicate high status or r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267080" cy="30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F55-4637-436E-87D0-1925FA54C3D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79c8"/>
                </a:solidFill>
                <a:latin typeface="Arial"/>
              </a:rPr>
              <a:t>Body Decoration and Mutilation (Cont’d)</a:t>
            </a:r>
            <a:endParaRPr b="0" lang="en-US" sz="38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attoos and body piercing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associated with social out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 fashion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5460-32B8-4F21-A907-4BB8F4BE191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-Esteem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e positivity of a person’s 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vs. high self-e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ance by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ers: attractive models using their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F188-EC98-4748-B3AA-40E0B6855F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Self-esteem advertising: products provide remedy to low self-estee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nk about/locate examples of self-esteem adverti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aluate the probable effectiveness of these appeals. Is it true that “flattery gets you everywher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A531-04DE-43B8-95DA-280B818D11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Real and Ideal Selv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deal self vs. actual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influences self-e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self is molded by consumer’s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elp us reach ideal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consistent with actual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E0B-49EE-44A8-8FB5-1BF6419F9F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antas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ny successful products appeal to consumers’ fantasies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ing us to “try on” interesting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 websites = projection of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BBF6-5D71-41BD-AB67-CCEB68F8F4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ultiple Selv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ach of us has many selves/rol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-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id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ers pitch products needed to facilitate an active role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809-0A58-4B53-AF49-013BEB8A36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ymbolic Interactionism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elationships with others play a large part in forming the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ic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mea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ossessions define “who we a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fulfilling prophe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ng the way we assume others expect of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2C9-67EF-48E6-BE4F-270915E995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0:53:29Z</dcterms:created>
  <dc:creator>mkcool</dc:creator>
  <dc:description/>
  <dc:language>en-US</dc:language>
  <cp:lastModifiedBy>Pearson Canada</cp:lastModifiedBy>
  <dcterms:modified xsi:type="dcterms:W3CDTF">2007-05-16T17:36:48Z</dcterms:modified>
  <cp:revision>1153</cp:revision>
  <dc:subject/>
  <dc:title>Consumers Rule</dc:title>
</cp:coreProperties>
</file>