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511-1CBE-4BD8-B5B5-90618B5B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831D-1912-497E-B17E-4F1C17D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73F4-6957-4978-861D-1B8E7612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D74-EFB1-4841-BCBD-7F531D28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3E21-99D8-44D4-99DA-9349B40D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EE5-FA14-464D-B3CF-FB58F347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6C5-FE25-41ED-8262-662F749E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D84-1F36-4424-B024-9A98079E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17F-BD9F-4D92-824D-0D6C5F9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439-7362-4060-A147-653518E9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97A-498C-4FCB-AA42-7B35EBF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931-288B-4B05-9A2E-3809653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5-</a:t>
            </a:r>
            <a:fld id="{B1F2371C-FD33-4123-A8E4-E7A70B598C16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llmylifeforsale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urton.com/gear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07240" y="2514600"/>
            <a:ext cx="2070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The 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990720"/>
            <a:ext cx="3467160" cy="4600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ooking-Glass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king the role of the other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n vary depending on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se perspective we ar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curate our predictions are of their evaluations of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fulfilling prophec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1A5-ACB6-4BDD-9923-A0CADE4631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sciousnes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wareness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ublic self-conscious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monitor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vs. low self-mon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E40-ECF7-4156-8827-D33108DE33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nsumption and 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dentity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ok,” baby boy Iuma, Harley Davidson tat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oduct consumption as definition of the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Construct a “consumption biography” of a friend, family member, or classmate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ke a list of his/her most favorite possessions, and see if you or others can describe this person’s personality just from the information provided by this catalo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EFE6-5C83-4AED-A99E-EDD0C0F555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You Are What You Consu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ocial identity as individual consumption behaviou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m I now?”…to some extent, your possessio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ference of personality based on consumption patter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ttachment to product as it maintain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ymbolic self-completion theo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73B-F2B9-4384-AFE8-05667C7D00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/Product Congruenc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image congruence model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gnitive matching of products and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relevance vs. actual self relev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cussion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people buy products because they are seen as similar to the self, or do they assume that these products must be similar because  they have bought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0BB-1186-456A-BE36-65317A075B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Extended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External objects that we consider a part of u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what you drive and wear (sho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business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evels of extended self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4724280"/>
            <a:ext cx="952560" cy="82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3505320" y="50292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LMYLIFEFORSA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79D-F30D-4CEA-82A3-39008B9E6D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xual identity is very important to the consumer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der differences in consumption situ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food preferences of men vs.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152-052F-4843-B08D-898FC7B7BE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and Socializ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dvertising reinforces gender expectation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s vary by culture/nation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 change/evolv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gentic vs. communal goal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attel’s building toy called 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715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2C9-9C2C-48EF-A704-25FF2D5BBA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nder vs. Sexual Ident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Gender role identity: body and mind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Biological gender vs. sex-typed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sculinity and feminini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any products are sex-typed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ake on masculine and feminin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ess tele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v’s colour- coded di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4495680" cy="41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A6F-3C20-4D77-806E-4FC9DE3B8D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ndrogyn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ossession of both masculine and feminine trait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rogynous people function well in soci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role orientation and responses to marketing stimuli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s more sensitive to pieces of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consider overall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ex-typed peop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Non-traditional male” (NTM) tendenci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A89-A2C3-41A6-A41F-E1CF76CD1F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pectives on the Self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e buy products to highlight/hide aspects of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oes the self exist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self vs. independent/unique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F3A-DB6F-46CF-919F-022C8151D9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e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New managerial class of wo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orced marketers to reexamin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ing goods, car accessories, and electronics products for 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01640" y="5181480"/>
            <a:ext cx="6005520" cy="825480"/>
            <a:chOff x="1601640" y="5181480"/>
            <a:chExt cx="6005520" cy="825480"/>
          </a:xfrm>
        </p:grpSpPr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654600" y="5181480"/>
              <a:ext cx="95256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1601640" y="5500800"/>
              <a:ext cx="500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URTON SNOWBOARD GEAR FOR WO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9EB-265D-42E5-B8DE-109E078916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sculin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models of masculin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d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-of-action h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isandr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B8C-AD31-454F-ACAC-A3BE5547EE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ale Sex Role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oming products for me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sex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ck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er Eye for the Straight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umers/urban influ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44B-A104-458D-9F7E-19292338E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The “metrosexual” is a big buzzword in marketing, but is it real or just media hype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Do you see men in your age group changing their ideas about acceptable interests for males (e.g., home design, cooking, etc.)?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038480" y="1752480"/>
            <a:ext cx="4762800" cy="33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841-9641-4B48-B9B9-866E721A2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LBT Consumer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3962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mons study: compared to heterosexual markets, readers of gay publications are more likely t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 professional jo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vacatio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wn a notebook comp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038480" y="2362320"/>
            <a:ext cx="4724640" cy="359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CBB-0352-45C3-8B20-F3A06A43CC0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consumer’s subjective evaluation of his/her physic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ody Cathexi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16B-4B1E-4807-AD8D-27FD8BFB10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emplar of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What is beautiful is good” stereotyp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vourable physical fea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health and y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/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inine curves/hourglass body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” ma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F1FE-EE3D-4855-8E15-B84BDAB0CA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he Western Ideal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kin colour and eye shape = status, sophistication, and social desira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ess powerful cultures adopt standards of beauty in dominant cultur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37B-C805-48EB-94D1-04A7787652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prevalent is the Western ideal of beauty among your peers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ow do you see this ideal evolving now (if at all)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144-70E3-453E-ACE9-2E9A275823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Ideals of Beauty Over Time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pecific “looks”/ideals of beau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: delicate/”looking ill” appearance, 18-inch waistline (use of cors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0s: voluptuous, lusty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economy: mature features vs. good economy: babyish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s: “waif” 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 women: high heels, body waxing, eyelifts, lipos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289-C2B9-4653-901A-26C165D64D3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Concep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beliefs a person holds about his/her own attributes, and how he/she evaluates these qualiti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complex structure of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ibute dimensions: content, positivity, intensity, stability over time, and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086-7946-43E1-A77B-058D0AE3E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Ideals of Beauty Over Time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462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Media and marketing communicate standards of beaut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s America Page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lus-sized apparel marke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trongly masculine, muscled body for me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319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8BF-B4B6-4EE3-893D-48FDBB1B63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Working on the Bod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s/services promise to alter physical self/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attism (worldwide)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orldwide obesity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Discussion: Should fast-food restaurants be liable if customers sue them for contributing to their obesit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F026-93D9-4548-A049-E4363B65E8A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Image Distortion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To some, body quality reflects self-worth (particularly among women)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istorted body image is linked to eating disorders among females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809880" y="1751040"/>
            <a:ext cx="4800600" cy="335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291-47E0-4B4D-8331-CD49E07269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osmetic Surge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hanging a poor body image or to enhance appearanc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 account for 20% of surg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east Au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ception that breast size = sex app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2A-A112-432A-A08A-8CA69C2D95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ody Decoration and Mutilat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3055"/>
                </a:solidFill>
                <a:latin typeface="Arial"/>
              </a:rPr>
              <a:t>Decorating the self…</a:t>
            </a: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group members from non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the individual in the social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sense of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lace the person in a gen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hance gender-role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desired social con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dicate high status or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477-DB77-4E02-8562-C356A6D7C3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479c8"/>
                </a:solidFill>
                <a:latin typeface="Arial"/>
              </a:rPr>
              <a:t>Body Decoration and Mutilation (Cont’d)</a:t>
            </a:r>
            <a:endParaRPr b="0" lang="en-US" sz="38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ttoos and body piercing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ly associated with social out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a fashion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956-3FC1-4C01-87D8-913FB18763B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e positivity of a person’s self-concep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vs. high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nce by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: attractive models using their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0E19-38A8-44DE-A4C4-A3AA0E3E8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Self-esteem advertising: products provide remedy to low self-este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about/locate examples of self-esteem adverti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aluate the probable effectiveness of these appeals. Is it true that “flattery gets you everywher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68E-08CE-4CD9-9728-20CCEDCE3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Real and Ideal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eal self vs. actual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influences self-e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self is molded by consumer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us reach ide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consistent with actual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0BB-4067-4157-B211-C48E0ED722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ny successful products appeal to consumers’ fantasies…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ing us to “try on” interesting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 websites = projection of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CD4-E52C-4318-A0FA-AB045E2581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ultiple Selv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ch of us has many selves/ro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-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id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ers pitch products needed to facilitate an active role 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E6F-E88F-4FF9-B525-C578C22450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ymbolic Interactionism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elationships with others play a large part in forming the self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mea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ossessions define “who we a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fulfilling proph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ng the way we assume others expect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7B4-AC48-4600-82F4-7CA8C468A7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36:48Z</dcterms:modified>
  <cp:revision>1153</cp:revision>
  <dc:subject/>
  <dc:title>Consumers Rule</dc:title>
</cp:coreProperties>
</file>