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7E1-52C3-448E-BEB7-12324A37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6F5-10F7-4C45-A231-30B81BA1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628-F047-4255-AF95-CFB20B47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C7D-0AEB-4BAC-AD33-C16A5B3A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6B1-39AC-41A9-94C9-3F6E010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2DC-7F45-4402-9B20-D80F1F0D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E6B-89D4-4B7B-B3D0-2C32C36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EF7-353D-4390-91D1-9F19141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471-7B5B-4543-9654-17EF548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90D-70A6-4126-B6A8-93D1729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074-8CB6-4861-9F93-35EAEC2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06E-29B5-47C7-86C1-D32F29F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5-</a:t>
            </a:r>
            <a:fld id="{0A3EB56B-E202-460C-A57A-708A4EF9E6B3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lmylifeforsal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urton.com/gea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7240" y="2514600"/>
            <a:ext cx="207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he 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ooking-Glass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king the role of the other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n vary depending on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perspective we ar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curate our predictions are of their evaluations of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fulfilling prophec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E22-C1D1-4E78-9182-1241ABAED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sciousn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wareness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ublic self-conscious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monitor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s. low self-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ADB-B1E2-40D2-9690-881BFEEB4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ption and 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dentity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ok,” baby boy Iuma, Harley Davidson tat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oduct consumption as definition of the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nstruct a “consumption biography” of a friend, family member, or classmate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 a list of his/her most favorite possessions, and see if you or others can describe this person’s personality just from the information provided by this cat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8B1-EC3D-4B9B-9EEB-BE2C1521D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You Are What You Consu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ocial identity as individual consumption behaviou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m I now?”…to some extent, your posses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ference of personality based on consumption patter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ttachment to product as it maintain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mbolic self-completion theo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14E-A937-4400-A9C6-05B7D7C0C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/Product Congruenc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image congruence model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atching of products and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relevance vs. actual self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buy products because they are seen as similar to the self, or do they assume that these products must be similar because  they have bough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8FD-C9E2-4E10-B218-1BCB8F9E69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Extended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xternal objects that we consider a part of u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what you drive and wear (sh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usin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evels of extended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52560" cy="82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505320" y="50292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MYLIFEFORSA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491-8232-4CDB-86C3-9FFBD81082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xual identity is very important to the consumer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der differences in consumption situ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ood preferences of men vs.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89A-C707-4F8D-8C42-4CCD9B554C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and Socializ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dvertising reinforces gender expectation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s vary by culture/nation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change/evolv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gentic vs. communal goal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ttel’s building toy called 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9AD-88FD-46D0-BFCE-E9A21A586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vs. Sexual Ident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 identity: body and mind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Biological gender vs. sex-typed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sculinity and feminini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ny products are sex-typed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ake on masculine and feminin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ss tele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v’s colour- coded di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956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FE2-9E4E-4574-BFDF-5899D3839E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ndrogyn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ossession of both masculine and feminine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gynous people function well in soci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role orientation and responses to marketing stimuli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more sensitive to piece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consider overal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typed peop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Non-traditional male” (NTM) tendenci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92A-2EB0-49AB-BB9A-A5DFD1A07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pectives on the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buy products to highlight/hide aspects of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oes the self exist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self vs. independent/uniqu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589-7001-4FAC-8AD7-5CF7E9EC2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e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w managerial class of wo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orced marketers to reexamin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ing goods, car accessories, and electronics products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1640" y="5181480"/>
            <a:ext cx="6005520" cy="825480"/>
            <a:chOff x="1601640" y="5181480"/>
            <a:chExt cx="600552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654600" y="518148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601640" y="5500800"/>
              <a:ext cx="50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RTON SNOWBOARD GEAR FOR 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21F-7B7F-4144-81DF-A98879BD5E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culin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ls of mascu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-of-action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isand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B44-1A74-42FA-843F-C589316D36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oming products for 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r Eye for the Straight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mers/urban influ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C46-0C9D-4085-AA00-73E9F260C3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The “metrosexual” is a big buzzword in marketing, but is it real or just media hype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Do you see men in your age group changing their ideas about acceptable interests for males (e.g., home design, cooking, etc.)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762800" cy="33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3B7-C9E7-46D2-AED3-2E1C39439C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LBT Consumer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study: compared to heterosexual markets, readers of gay publications are more likely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 professional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vacatio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notebook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35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9AA-45B6-422F-A803-D2F2C02FAE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consumer’s subjective evaluation of his/her physic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ody Cathexi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E5F-9F4F-4478-A671-1E46EFCA4D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emplar of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hat is beautiful is good” stereotyp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vourable physical fea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health and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inine curves/hourglass bod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” ma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903-A04D-4BAB-A583-B5471BEFF8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Western Ideal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kin colour and eye shape = status, sophistication, and social desira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ess powerful cultures adopt standards of beauty in dominant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B17-777C-40D6-865B-5E29135A78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prevalent is the Western ideal of beauty among your peers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do you see this ideal evolving now (if at all)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18A-3150-49AB-89F5-034B6E478D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 Over Ti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“looks”/ideals of beau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: delicate/”looking ill” appearance, 18-inch waistline (use of cor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0s: voluptuous, lusty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conomy: mature features vs. good economy: babyis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: “waif”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women: high heels, body waxing, eyelifts, lipos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570-99CD-4DE6-A765-F585AD3DA5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beliefs a person holds about his/her own attributes, and how he/she evaluates these qualiti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structure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imensions: content, positivity, intensity, stability over time,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869-AE87-4858-B1D9-E16056FEF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Ideals of Beauty Over Time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edia and marketing communicate standards of beau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 America Page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lus-sized apparel marke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trongly masculine, muscled body for me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5BE-DFB4-46B8-814B-9DE48B498D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Working on the Bod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promise to alter physical self/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ttism (worldwide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orldwide obes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iscussion: Should fast-food restaurants be liable if customers sue them for contributing to their obesit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E9C-7ECB-44FA-B2A1-F5627317BE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 Distortion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To some, body quality reflects self-worth (particularly among women)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istorted body image is linked to eating disorders among females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751040"/>
            <a:ext cx="480060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4A2-1A24-49EB-913E-1D2F260C31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smetic Surge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hanging a poor body image or to enhance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ccount for 20% of surg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east Au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breast size = sex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5B0-30EA-4D50-A047-B11C3D5807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Decoration and Mutil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ecorating the self…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group members from non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the individual in the soci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nse of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lace the person in a gen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gender-ro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desired social 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high status or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C5C-E54E-4428-A63A-CA6EBE069E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Body Decoration and Mutilation (Cont’d)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ttoos and body pierc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associated with social out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ash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C6D-AF6B-4631-AFA9-A18415A582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positivity of a person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s. high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: attractive models using thei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6F5-CA7F-4FA5-9680-873B4A545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Self-esteem advertising: products provide remedy to low self-este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/locate examples of self-esteem adverti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 the probable effectiveness of these appeals. Is it true that “flattery gets you everyw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8CD-71C5-4FCD-B1FA-148221502D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Real and Ideal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eal self vs. actu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influe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is molded by consumer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us reach ide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stent with actu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042-B678-49B0-AED0-DF45EBCA9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uccessful products appeal to consumers’ fantasi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us to “try on” interesting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 websites = projection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DA6-D0E0-4C5D-9E22-C3C09406C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ultiple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ch of us has many selves/ro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 pitch products needed to facilitate an active rol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F12-FC80-4B18-8CBA-02C14A28B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ymbolic Interactionis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lationships with others play a large part in forming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ossessions define “who we 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the way we assume others expec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15E-40B6-42C5-8CFA-EA8DCE761F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6:48Z</dcterms:modified>
  <cp:revision>1153</cp:revision>
  <dc:subject/>
  <dc:title>Consumers Rule</dc:title>
</cp:coreProperties>
</file>