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2C0-66E9-450D-A7AC-82552F91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7F3-A6BC-4AA6-8271-A7A167D7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475-0F95-474A-BE72-E3231739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6C0-FD78-40AB-AC8C-94D23C0D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C3B-71B5-46EA-8D08-2E307818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7DB-DBF2-4E62-85F7-969DC4E0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43A-08D4-4DED-A812-5BE708F9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8BE-B5B3-475E-90D0-277BFAE0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E5EB-818A-4BCE-9B9D-984C3879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7F2-A60A-40DC-AEB5-91DABAA4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346-886D-41DC-BA2A-8FDCC397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212-3CD0-4881-A1F3-4E64B588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6-</a:t>
            </a:r>
            <a:fld id="{F69F9929-CB40-4929-964A-BC1FD5810B7F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kechers.com/default.jhtml;$sessionid$O3L4GAIAA4AS5LAWAQFCM4Q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skechers.com/default.jhtml;$sessionid$O3L4GAIAA4AS5LAWAQFCM4Q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ric-bi.com/VALS/presurvey.s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nd Life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19440" y="762120"/>
            <a:ext cx="3868920" cy="513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: identifiable characteristics that defin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raits relevant to consumer behaviour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0DC9-41C2-4402-9AF7-18FC14C7EE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re You an Innie or an Outie?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ner-directed vs. outer-direct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sense of self vs. pleasing others/fittin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wer of conformity and need for unique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BE6-2385-4E08-9068-5E87203934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re You an Innie or an Outie?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iocentrics vs. allocentric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aho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nd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B21A-FBD2-46FE-8AD4-AF0BF4DAD1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blems with 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ediction of product choices using traits of consumers is mixed at bes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not valid/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borrow scales used for the mentally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 test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instru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global measures to predict specific brand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gun approach” (no thought of scale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member: traits are only part of the “story”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7C8-17B4-43F9-88C9-0B83093349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t of traits people attribute to a product as if it wer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and equ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Outsourcing production to focus on bran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tensive consumer research goes into brand campaig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585-D8EA-4D4E-8AD0-EFC908B317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.2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5257800"/>
                <a:gridCol w="2971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Brand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rait In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is repositioned several times or changes slogan repeated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lighty, schizophr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uses continuing character in advert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iar, comfor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charges high prices and uses exclusive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nobbish, sophistic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frequently available on d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heap, uncult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offers many line exten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ersatile, adap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9D8-3FEF-4405-BFF4-45AA010BF2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tinctive brand personality = brand loyal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brand = spokespersons and love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anthropomorphized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/repositioning strategies describing brands a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st, envy, jealousy. The dangers of Volv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77D8-237C-43C4-9DFA-BA4E19D6C2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64824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atterns of consumption reflecting a person’s choices of how one spends time and mone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 are and what we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 perspectiv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F Magazine, 4 Wheel &amp; Off Road, Reader’s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3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E5A-9FBB-4FFF-B7A3-3F17CAC761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 as Group Identit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rms of expressive symbol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definition of group members = common symbol syst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clude lifestyle, taste public, consumer group, symbolic community, statu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provides a unique “twist” to be an “individ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stes/preferences evolve over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920-51AC-4D9E-860C-21862B2375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uilding Blocks of 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We often choose products that fit a lifesty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usage in desirable social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 of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brand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complementarity and consumption constellations (e.g., “yuppi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98A0-6AE0-4204-9C5F-72D4CA1DD4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person’s unique psychological makeup and how it consistently influences the way a person responds to his/her environ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vs. situation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: lifesty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isure activities, political outlook, aesthetic tas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F30-C22F-42B1-B222-A170604FFE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What consumption constellation might characterize you and your friends toda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029200" cy="41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7FF-52E8-4C8D-B190-8FA0509243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uilding Blocks of Lifestyles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nterior designers rely on consumption constellations when furnishing a roo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Decorating style integrates different products into a unified whole ‘look’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0384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DD5C-D006-4B8F-B042-35E6187792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se of psychological, sociological, and anthropological factors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arke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ir reasons for choosing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tune offerings to meet needs of differen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s can share the same demographics and still be very different!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0AF-60BF-4926-9C0B-0FCD31E6A9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est Buy Psychographic Segment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Jill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uzz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a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B4B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arr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095-B7F3-4CBC-97AB-A4152B908F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oup Psychographic Segmen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urveyed waitress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sked about differences between chicken noodle and tomato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fer to Table 6.3, Personality of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3FF-384B-40C8-BC1D-5986183BE2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 Roo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veloped in 1960s and 1970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al research and survey research were flaw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mographics tell us “who” buys, but psychographics tell us “why” they bu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olson Export’s “Fred and the boys”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CDD-5E54-421E-9305-EBBCDCCEFE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oing a Psychographic Analysi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festyle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 as descripto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eral lifestyle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679-252D-4730-A7A2-D11A877AC8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IO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uping consumers according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20/80 Rule: lifestyle segments that produce the bulk of custom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users and the benefits they derive from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C30-3EFF-4A1B-988F-17A849CE27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-4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Inter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Opin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Demograph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Themsel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bb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J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Poli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Occu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ntertai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cre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517-B154-49E9-87CB-DE21DCA974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Us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fine target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create new view of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position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better communicate product attribut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velop overall strate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market social/political issu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8155-08BC-4F9D-AA58-9CCC26E186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= conflict between gratification and responsi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: pleasur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ego: our con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: mediates between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3BE-36EC-4A34-B678-CE5E62E8D0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048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attery of question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consumers into distinct lifesty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s AIOs + perceptions of brands, celebrities, and media preference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51814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DC7-4266-4B3C-9CAF-9EACFD2EB0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5715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3808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79c8"/>
                </a:solidFill>
                <a:latin typeface="Arial"/>
              </a:rPr>
              <a:t>VALS2</a:t>
            </a:r>
            <a:r>
              <a:rPr b="1" lang="en-US" sz="2800" spc="-1" strike="noStrike" baseline="30000">
                <a:solidFill>
                  <a:srgbClr val="0479c8"/>
                </a:solidFill>
                <a:latin typeface="Arial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05760" y="5257800"/>
            <a:ext cx="3204720" cy="915480"/>
            <a:chOff x="5405760" y="5257800"/>
            <a:chExt cx="3204720" cy="915480"/>
          </a:xfrm>
        </p:grpSpPr>
        <p:pic>
          <p:nvPicPr>
            <p:cNvPr id="11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8280" y="5257800"/>
              <a:ext cx="95220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18" name=""/>
            <p:cNvSpPr/>
            <p:nvPr/>
          </p:nvSpPr>
          <p:spPr>
            <a:xfrm>
              <a:off x="5405760" y="5530680"/>
              <a:ext cx="225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ALS SURV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DB4-4569-4654-9CA2-8892B14C98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Construct separate advertising executions for a cosmetics product targeted to the Belonger, Achiever, Experiencer, and Maker VALS type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the basic appeal differ for each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9FC-782C-4B48-9F23-8DD1A91A157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Global Psychographic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lobal MOSA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egments across 19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IS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s/sociocultural change in 40+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population into 10 segments using 3 ax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ion/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/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measured “trends” (e.g., “spiritualit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720-6DB7-4759-939F-D015912E2B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Extreme sports. Day trading. Blogging. Vegetarianism. Can you predict what will be “hot” in the near future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y a lifestyle trend that is just surfacing in your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 this trend in detail and justify your pred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specific styles and/or products are part of this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B87F-4257-4DAF-9C81-8D90BB2A2F7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odemograph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onsumer expenditures/socioeconomic factors + geographic inform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s of a feature flock toge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ached more economically (e.g., 90277 zip code in Redondo Beach, 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Geodemographic techniques assume that people who live in the same neighbourhood have other things in common as well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do they make this assumption, and how accurate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876-6EF6-4E15-817C-98C6E1BECF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end Forecasti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4844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D0A-CC7E-4DAE-838F-4ABB502F2E4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ing Implic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cious motives underlying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sm in products to compromise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car as sexual gratification for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llic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66696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A73C-9074-4AF5-90E9-00E9237F89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reudian ideas unlock deeper product and advertisement meaning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depth interview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atent motives for purchas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chter’s motives (Table 6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ing, electric trains, power tool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cream, beauty product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0CB-1CAD-4430-9F0B-DBE11FFB06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riticism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or works to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sexually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ppe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pensive than large-scal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hook for promo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ly plausible findings (after the f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validity with other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1A9-146D-4593-81C8-7E4BC0EF73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Karen Horn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t vs. detached vs.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lfred Adl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to overcome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arry Stack Sulliv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 evolves to reduce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B1D-6EF6-41DE-AE54-655A79D3F5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: Ju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rl Jung: analytical psycholo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uncons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etypes in advertising (see Figure 6.1: old wise man, earth mothe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Ass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etyp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nd Health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909-4D5D-4D0E-AA78-47ADE3ECAF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randAsset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Archetypes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+ BAV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Brand Health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across cultures and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telegraph instant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trong evidence of achieving business objectives with this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rly warning” signal of brand troub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103A-F277-4282-830D-A612170B78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48:17Z</dcterms:modified>
  <cp:revision>1353</cp:revision>
  <dc:subject/>
  <dc:title>Consumers Rule</dc:title>
</cp:coreProperties>
</file>