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02CF-5777-4EB2-A122-9EC00CB7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7ED-1D13-447F-BB68-D6CF01A1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C45-827D-4FAD-9670-80078A3D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C00-95C7-43DA-8EFC-FA9B1F51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864-121F-4CDF-9C73-781767CA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C2B-6500-409B-816D-532F3549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B58-E60A-4DF9-9CAE-1BA2EB05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E0E-FB44-45E3-8DDE-A48103B0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5C4-ECC1-4CEC-B676-DEB2EE59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1BE-D69E-4DA9-B088-FA9165CA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DA8-F371-4D62-A48C-77FA893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898-B4EA-452D-A483-ED795A5A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79c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479c8"/>
                </a:solidFill>
                <a:latin typeface="Arial"/>
              </a:rPr>
              <a:t>6-</a:t>
            </a:r>
            <a:fld id="{99D83AD6-4022-47D6-9C70-3710039F99E8}" type="slidenum">
              <a:rPr b="0" lang="en-US" sz="1400" spc="-1" strike="noStrike">
                <a:solidFill>
                  <a:srgbClr val="0479c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127080">
            <a:solidFill>
              <a:srgbClr val="a63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152280"/>
            <a:ext cx="8839440" cy="6553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79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kechers.com/default.jhtml;$sessionid$O3L4GAIAA4AS5LAWAQFCM4Q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skechers.com/default.jhtml;$sessionid$O3L4GAIAA4AS5LAWAQFCM4Q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sric-bi.com/VALS/presurvey.s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403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nd 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19440" y="762120"/>
            <a:ext cx="3868920" cy="5133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51160" y="6248520"/>
            <a:ext cx="26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Copyright 2008 Pearson Educ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: identifiable characteristics that defin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raits relevant to consumer behaviour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291-A80E-4A66-96CB-30C0F0535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re You an Innie or an Outie?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nner-directed vs. outer-direct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sense of self vs. pleasing others/fitt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ower of conformity and need for uniquenes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99FA-A009-49C3-B22C-BEBB3BE6A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Are You an Innie or an Outie?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Idiocentrics vs. allocentric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ahol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 and enter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870-3048-4968-A885-77D79E3877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roblems with Trait Theor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rediction of product choices using traits of consumers is mixed at best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s not valid/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borrow scales used for the mentally 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ppropriate test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instrum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global measures to predict specific brand purc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tgun approach” (no thought of scale appl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member: traits are only part of the “story”…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F60C-8CA3-4733-A937-155D3EFA43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t of traits people attribute to a product as if it were a pers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rand equ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Outsourcing production to focus on bran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xtensive consumer research goes into brand campaig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4E9-A286-4397-93DE-0E41C3CB07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.2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525780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Brand 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Trait In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is repositioned several times or changes slogan repeated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lighty, schizophr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uses continuing character in adverti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iar, comfor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charges high prices and uses exclusive 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nobbish, sophistic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frequently available on d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heap, uncult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rand offers many line exten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ersatile, adap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F48-5787-4C73-9DAF-D003D6E55F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rand Personality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istinctive brand personality = brand loyal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: brand = spokespersons and loved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: anthropomorphized b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ing/repositioning strategies describing brands a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st, envy, jealousy. The dangers of Volv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6FEA-DEAF-4CFF-93EE-293C5542AA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648240" cy="4876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Patterns of consumption reflecting a person’s choices of how one spends time and money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we are and what we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 perspectiv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WF Magazine, 4 Wheel &amp; Off Road, Reader’s Di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3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F43-7A4E-4394-8EAF-D5B54C0533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Lifestyles as Group Identit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orms of expressive symbolis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elf-definition of group members = common symbol system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clude lifestyle, taste public, consumer group, symbolic community, statu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provides a unique “twist” to be an “individu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astes/preferences evolve over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7500-57C8-430A-998F-29FA1145CA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Building Blocks of Lifestyl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95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We often choose products that fit a lifestyle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Lifestyle marketing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usage in desirable social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ption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s of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complementarity and consumption constellations (e.g., “yuppie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350-4E57-4ED4-903B-08C3521C3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 person’s unique psychological makeup and how it consistently influences the way a person responds to his/her environmen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le vs. situation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ers: lifestyl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sure activities, political outlook, aesthetic tast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CAF-1067-4DD6-B7C1-155290CD86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What consumption constellation might characterize you and your friends today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29200" cy="41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E57-74A8-4506-A06C-4CF8814D32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uilding Blocks of Lifestyles (Cont’d)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Interior designers rely on consumption constellations when furnishing a room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Decorating style integrates different products into a unified whole ‘look’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0384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434-1E85-4E0D-BECB-BFF84F348F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Use of psychological, sociological, and anthropological factors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rk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ir reasons for choos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offerings to meet needs of differen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s can share the same demographics and still be very different!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03E0-F727-4A8C-875B-09AC8D2824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est Buy Psychographic Segment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Jill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uzz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a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B4B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Barry”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456-B607-469C-A188-C814DBB67F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Soup Psychographic Segmen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Surveyed waitresse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Asked about differences between chicken noodle and tomato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Refer to Table 6.3, Personality of Soup Users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EF20-EB86-403D-B1CB-BA5824FFC3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Psychographics Root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veloped in 1960s and 1970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otivational research and survey research were flawed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Demographics tell us “who” buys, but psychographics tell us “why” they bu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Molson Export’s “Fred and the boys” 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9DB3-24C9-4134-B16D-C1176BCBE0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oing a Psychographic Analysi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ifestyle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profi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traits as descripto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eneral lifestyle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roduct-specific segmentatio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6FB6-C0AF-4277-B44F-3370A887F4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AIO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rouping consumers according to: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20/80 Rule: lifestyle segments that produce the bulk of customer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users and the benefits they derive from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C287-B6BE-4FE8-814A-EE9CB23B84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able 6-4 (Abridge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2274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Intere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Opin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a63055"/>
                          </a:solidFill>
                          <a:uFillTx/>
                          <a:latin typeface="Arial"/>
                        </a:rPr>
                        <a:t>Demograph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bb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Iss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du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Social Ev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J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Poli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Va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Commu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Occu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ntertain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Recre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Econom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63055"/>
                          </a:solidFill>
                          <a:latin typeface="Arial"/>
                        </a:rPr>
                        <a:t>Family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AFB-E25A-4246-95CA-3DCFE18345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Us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fine target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create new view of marke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position product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better communicate product attribut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develop overall strate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To market social/political issu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C60-F618-4D9E-AB5F-DB0BA6C74F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Personality = conflict between gratification and responsibilit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: pleasure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ego: our con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o: mediates between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ty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DA8-311B-43F6-942E-535566A7F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Psychographic Segmentation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057040"/>
            <a:ext cx="3048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Battery of question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 consumers into distinct lifestyl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3055"/>
                </a:solidFill>
                <a:latin typeface="Arial"/>
              </a:rPr>
              <a:t>Includes AIOs + perceptions of brands, celebrities, and media preferences</a:t>
            </a:r>
            <a:endParaRPr b="0" lang="en-US" sz="2200" spc="-1" strike="noStrike">
              <a:solidFill>
                <a:srgbClr val="a6305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5181480" cy="320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A3AF-8B6D-436C-8F1E-E391E115FE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5715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79c8"/>
                </a:solidFill>
                <a:latin typeface="Arial"/>
              </a:rPr>
              <a:t>Figure 6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38088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79c8"/>
                </a:solidFill>
                <a:latin typeface="Arial"/>
              </a:rPr>
              <a:t>VALS2</a:t>
            </a:r>
            <a:r>
              <a:rPr b="1" lang="en-US" sz="2800" spc="-1" strike="noStrike" baseline="30000">
                <a:solidFill>
                  <a:srgbClr val="0479c8"/>
                </a:solidFill>
                <a:latin typeface="Arial"/>
              </a:rPr>
              <a:t>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05760" y="5257800"/>
            <a:ext cx="3204720" cy="915480"/>
            <a:chOff x="5405760" y="5257800"/>
            <a:chExt cx="3204720" cy="915480"/>
          </a:xfrm>
        </p:grpSpPr>
        <p:pic>
          <p:nvPicPr>
            <p:cNvPr id="117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8280" y="5257800"/>
              <a:ext cx="952200" cy="8254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</p:pic>
        <p:sp>
          <p:nvSpPr>
            <p:cNvPr id="118" name=""/>
            <p:cNvSpPr/>
            <p:nvPr/>
          </p:nvSpPr>
          <p:spPr>
            <a:xfrm>
              <a:off x="5405760" y="5530680"/>
              <a:ext cx="225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ALS SURVE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7C1-1906-47FC-97C7-A6BE88FE32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Construct separate advertising executions for a cosmetics product targeted to the Belonger, Achiever, Experiencer, and Maker VALS types.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would the basic appeal differ for each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DA9-24B9-4B19-AB63-7074AB2FEB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Global Psychographic Typologies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Global MOSAI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segments across 19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RISC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s/sociocultural change in 40+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population into 10 segments using 3 ax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ation/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/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/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 measured “trends” (e.g., “spirituality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26B-3A3C-4A82-8649-4174EB0451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63055"/>
                </a:solidFill>
                <a:latin typeface="Arial"/>
              </a:rPr>
              <a:t>Extreme sports. Day trading. Blogging. Vegetarianism. Can you predict what will be “hot” in the near future?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ntify a lifestyle trend that is just surfacing in your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scribe this trend in detail and justify your pred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specific styles and/or products are part of this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C02-1A69-4FD2-AB78-E32B48B846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Geodemography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3055"/>
                </a:solidFill>
                <a:latin typeface="Arial"/>
              </a:rPr>
              <a:t>Consumer expenditures/socioeconomic factors + geographic information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s of a feature flock toget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ached more economically (e.g., 90277 zip code in Redondo Beach, 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a63055"/>
                </a:solidFill>
                <a:latin typeface="Arial"/>
              </a:rPr>
              <a:t>Discussion: Geodemographic techniques assume that people who live in the same neighbourhood have other things in common as well.</a:t>
            </a:r>
            <a:endParaRPr b="0" lang="en-US" sz="28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do they make this assumption, and how accurate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1E8-A2D9-4DE9-9377-C85476A818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Trend Forecasti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48440" cy="48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AF1-2FD1-4391-9DD0-8ACFC3ABA4D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Freudian Systems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Marketing Implication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onscious motives underlying purc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ism in products to compromise id and super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rts car as sexual gratification for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llic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29200" y="1447920"/>
            <a:ext cx="3666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CB8C-6637-43B2-88DC-CE243FF7F9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Freudian ideas unlock deeper product and advertisement meaning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onsumer depth interview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Latent motives for purchase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chter’s motives (Table 6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ling, electric trains, power tool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cream, beauty products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 accep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B57-EF0A-4BE7-8265-5F98D4FDD8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Motivational Research (Cont’d)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or works to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sexuall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ppea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han large-scale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hook for promotional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ly plausible findings (after the f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validity with other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9FF-B451-4588-AB2B-573D64124C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Karen Horne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ant vs. detached vs. aggre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lfred Adler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to overcome infe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Harry Stack Sullivan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 evolves to redu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162-AF46-4F23-8AB4-36E5381B2B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79c8"/>
                </a:solidFill>
                <a:latin typeface="Arial"/>
              </a:rPr>
              <a:t>Neo-Freudian Theories: Jung</a:t>
            </a:r>
            <a:endParaRPr b="0" lang="en-US" sz="44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Carl Jung: analytical psycholog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unconsc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etypes in advertising (see Figure 6.1: old wise man, earth mothe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dAsse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etyp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nd Health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BBE-A7E9-47D2-B433-06C317F2D7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BrandAsset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Archetypes</a:t>
            </a:r>
            <a:br>
              <a:rPr sz="4000"/>
            </a:b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+ BAV</a:t>
            </a:r>
            <a:r>
              <a:rPr b="0" lang="en-US" sz="4000" spc="-1" strike="noStrike" baseline="30000">
                <a:solidFill>
                  <a:srgbClr val="0479c8"/>
                </a:solidFill>
                <a:latin typeface="Arial"/>
              </a:rPr>
              <a:t>®</a:t>
            </a:r>
            <a:r>
              <a:rPr b="0" lang="en-US" sz="4000" spc="-1" strike="noStrike">
                <a:solidFill>
                  <a:srgbClr val="0479c8"/>
                </a:solidFill>
                <a:latin typeface="Arial"/>
              </a:rPr>
              <a:t> Brand Health</a:t>
            </a:r>
            <a:endParaRPr b="0" lang="en-US" sz="4000" spc="-1" strike="noStrike">
              <a:solidFill>
                <a:srgbClr val="0479c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across cultures and tim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Archetypes telegraph instantly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Strong evidence of achieving business objectives with this model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630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a63055"/>
                </a:solidFill>
                <a:latin typeface="Arial"/>
              </a:rPr>
              <a:t>Early warning” signal of brand trouble</a:t>
            </a:r>
            <a:endParaRPr b="0" lang="en-US" sz="3200" spc="-1" strike="noStrike">
              <a:solidFill>
                <a:srgbClr val="a6305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521-BB81-458D-B713-876837DAC7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0:53:29Z</dcterms:created>
  <dc:creator>mkcool</dc:creator>
  <dc:description/>
  <dc:language>en-US</dc:language>
  <cp:lastModifiedBy>Pearson Canada</cp:lastModifiedBy>
  <dcterms:modified xsi:type="dcterms:W3CDTF">2007-05-16T17:48:17Z</dcterms:modified>
  <cp:revision>1353</cp:revision>
  <dc:subject/>
  <dc:title>Consumers Rule</dc:title>
</cp:coreProperties>
</file>