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14512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F9F37F4-FA2F-4800-8B11-734DE97F6A7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9386F6B-7B47-4397-81FA-672AFF351BCA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7146ED8-3642-4D9B-A9BE-2E407EFF87F9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E683288-9232-4DCD-A0ED-D00EE1360320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F2CFFC-AC5C-4877-A2BB-123D652F8DB9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14512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32120" y="51912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3DFC-01C3-4CA2-8CA6-886FEC145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191B-4DC0-44B1-8120-A1152EEC3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13DB-CFED-4806-B717-6A0486503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B3EB-F9E3-4E3D-A937-C4813735A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1A9C7-B8B5-4527-AD4C-0A5386C884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B91F3-EBBE-403B-8F2F-0722B7E137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5B914-1D9F-4511-AFEB-1650D26203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04DFC-52CC-46C4-A80B-588892019A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567CA-07BD-414B-BD55-61309E21A6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13DC5-A3FE-4AB4-945E-F5A995547B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C499F-52C0-4C40-BD15-950F4AE1D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AD9B-D42F-4505-B8B1-18D5B949D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941F3-D9B8-47D2-9347-D16D52B935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52702-FDB0-4116-96E5-366622275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4B239-FC87-4E5B-B94E-9A3C2794BA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35CDB-DEEA-4A00-9675-8981045743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5542C-340D-47D4-8ECB-D7CD7A3524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1281-D45F-488A-B862-6E5468A2B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9568-A73B-47D0-8078-49321B0EB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FE76-73AA-4930-B248-9F48C0B33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F625-3EEB-44A3-ABB8-E4F712483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6EEB-6DD6-4FE8-92DB-4890C8D59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AB9A-5F01-476B-9CAC-4ED85EE6F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42C9-1F32-4A4F-A2D9-6A1EBBC11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102BFDE-9C1C-41BD-9768-6E52CC96F3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2E0985A-3A78-4674-8843-B7615E3EC2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 System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D7FD414-42F6-4A8E-B276-74A35BF6683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equi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by Courts of Chancer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riginally on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to counter rigid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later merged, but bodies of law remained separ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D0665EE-A95A-4177-B5B6-A9AB70643C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created by legislative bod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” (i.e., legislation overrides common law and law of equity) 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summarize or modify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government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73FED83-7B29-4BB8-997A-9E468E972B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5BDBE17-B633-46B7-B00E-4FDEFFC45FD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678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creat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tish North America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867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nherited certain conventions or traditions from Britai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s established in the Magna Carta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32F89D5-F08D-4EF4-8297-07E112E5371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A Act now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867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s 91 and 92 divide powers between federal and provincial governm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nciple of paramountcy applies in cases of conflict between federal and provincial law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AF6EAE6-8C42-45BD-A54F-23B1651328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d ties with British Govern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d government enactments having constitutional statu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amending formula for constitutional chang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AFA89DC-9885-49F9-A19A-1FE9FB4A91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individuals from infringement on their rights by governments or their agen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limitations on Charter rights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1 – reasonable exceptions to Charter rights and freedoms allow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3 – legislatures can pass acts that infringe on rights “notwithstanding” the Chart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2 – Charter applies only to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24AC497-172D-4664-9D2B-78EE546458A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urts: Cour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94D5638-B339-4A9E-82C9-20A8F82343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782720"/>
            <a:ext cx="6400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Civil 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vil trial - action for compens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dings -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e char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docum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witness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into cour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action lawsui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57800" y="2666880"/>
          <a:ext cx="3048120" cy="3048120"/>
        </p:xfrm>
        <a:graphic>
          <a:graphicData uri="http://schemas.openxmlformats.org/drawingml/2006/table">
            <a:tbl>
              <a:tblPr/>
              <a:tblGrid>
                <a:gridCol w="1341360"/>
                <a:gridCol w="17067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tiff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ndant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 of Summons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eara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Defe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er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D3FEE2E-2A3A-44A5-BFFF-B7A1CC0C47E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roof rests with plaintiff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of probabilit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amination of witne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examination by defense lawy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DA30CB9-7584-4F31-8A90-1E4B4BB57A9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fine what law 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Identify the sources of Canadian laws and distinguish their compon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scribe the structure of the courts in Canada and illustrate the litigation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Outline the processes of trial and judgemen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7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EB376EE-0515-4051-A8CF-7E774C905E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ant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ings forward witnesses and evid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’s lawyer gets to cross-examin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ies to put enough doubt into the plaintiff’s case so plaintiff cannot prove his/her cas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66255F2-A38F-4B3D-9EF6-347877EF52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dge determines the law and instructs the ju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ry decides on the fac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f judge alone, he/she determines both facts and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989C792-3B5F-4057-A551-DA503060184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s (monetary compensation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– non-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– 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tive – to punish the wrongdo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051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F8C49E1-C7D4-49DF-8A46-DD5F5B28AB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where damages are not appropria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nction – stop ord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performance – fulfill the terms of an agree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ing – pay over profi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BF9CDFE-D45D-493E-A3EB-7721C54C818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must enforce judg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trial hearing to identify asse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zure of proper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ishment of w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mpt of court (related to order of specific conduct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EDFD05D-B1C0-4C04-98AA-0B8F2CE32E2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for resolving disputes outside of the cour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tho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960F34B-EE48-4558-9CB1-F71731FBB49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2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discuss the problem with each other in order to find a 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requires cooperation and compromi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conducted through representativ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ay enhance relationship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ment may not be legally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E30C0CC-F263-4F7D-B71A-C8BC33E32D8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 outsider helps parties settle the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facilitated by mediato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common grou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s concess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 does not make decis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required before court will hear ca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 may affirm mediated re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C7E5F97-F9E7-420F-B62F-009D81BE11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agree on an independent third party (or panel of three) to make a decision that will be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required in contract; mandated in collective bargain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ors are usually specialists in the matter under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cannot be appealed although procedure may be reviewed by the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5D53715-D689-46AD-9C89-5E605F4CB9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es maintain control of the 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utants determine and schedule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sts associated with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s remain priv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good wil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hieve a win-win re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CB9FB33-1FA3-4B3C-AD93-7DF5991991E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lain the function and use of alternative methods for resolving disput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e administrative law and explain when and how it is us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cribe the aspects of criminal law that should be of concern to a business pers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D7C41F1-77F5-4B95-BD56-3D3FED57CD2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have more power to extract inform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do not follow preced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may not be enforceabl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ppropriate when power imbalance exis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ublic record of dispute or decis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FF9C64B-1F51-4344-8D12-770E101AA7F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bodies make decisions with respect to statutes or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decisions must be within jurisdiction and comply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867)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rinciples of procedural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 may review decision process and decision to determine if appropri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81DBEB5-9CB7-4A28-9FD0-DED052E5B6A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itive clauses may protect tribunal decisions from judicial revie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antages of tribunals (compared to courts)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 experts in field under dispu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er, more cost-effective decision-making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5098012-B94C-4BE7-8B21-F91A0F51D18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 law – individual sues another for compensation (or other remedy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law – state prosecutes accused to punish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federal government has the power to make criminal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ncial governments have the power to create and enforce statutes (similar to criminal law in terms of penalties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EBBA3C1-1904-4C1C-B6D6-6FB57A481F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den of proof on prosecuto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prove beyond a reasonable doub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wrongful conduct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intention to commit the ac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liability offenc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only need to show offence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efence is due dilig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 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0C1239C-CBA0-4507-9E82-60B2614B83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to arrest held by police and private citize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al officials issue search warrants, arrest warrants, and summons to appea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 of crim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conviction - mino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table offence - more serious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9C7F758-3C35-4AF1-81A7-21B66BA4E7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– exchange of information and negoti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table offence – more involved and length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 bargaining – pleading to lesse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atter proceeds to trial: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cutor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then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judge or ju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 – fine/imprison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F5BA071-F88D-466D-B048-DE16E44AE79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is the body of rules that can be enforced by the courts or by other government agenc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does not define ethical behaviou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E1EF38C-7731-47D0-BAAD-02F56AF8CDB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v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determining behaviou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dura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w the legal process work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8454B19-8D9B-45DC-90F2-09417C86EA5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our relationship with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or Civi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personal, social, and business relationship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4CB8E72-0B3E-4744-AF58-54CE71452F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ed body of rul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ed with the Romans; later modified by Napole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most countr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bec’s legal system is based on the French Civil Cod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Code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FE050BF-1603-4FE1-89D1-41943D5E8A4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1069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 used in Great Britain and the Commonwealth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opted by Canada’s English-speaking provinces and the territories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-mad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in the cour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51570E4-153D-40CA-B1CB-9B5FD29D31D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follow precedent case if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higher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ame jurisdic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imilar fac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distinguish cases on the fac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1EF07BB-2136-4305-8BF0-4B847F0729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5:58:43Z</dcterms:modified>
  <cp:revision>191</cp:revision>
  <dc:subject/>
  <dc:title>Chapter One</dc:title>
</cp:coreProperties>
</file>