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90789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0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935520" cy="343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5145120" y="-360"/>
            <a:ext cx="3935520" cy="343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252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1400" y="3257640"/>
            <a:ext cx="6657840" cy="308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2FC5DE1-6E6F-4259-ABB4-B82A076AC77C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57CD9BF-E2DF-49A9-8658-254F3ADC11E5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825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11400" y="3257640"/>
            <a:ext cx="66578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EB27BA4-8500-48FC-9330-EF51389FD356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825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211400" y="3257640"/>
            <a:ext cx="66578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825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11400" y="3257640"/>
            <a:ext cx="66578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48167D6-0F8A-48A1-878D-3A82CA137D5A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F42DC86-E4D6-42CC-969E-FE492F067E99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5145120" y="0"/>
            <a:ext cx="3935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8</a:t>
            </a:r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0"/>
            <a:ext cx="3935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832120" y="519120"/>
            <a:ext cx="3416400" cy="25621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211400" y="3257640"/>
            <a:ext cx="66578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0B05C-B23F-4185-A5D9-90454AA26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B8671-05AD-4448-AE48-5F381DDD0A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48F9E-398E-4C90-81EA-678D78E29D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8B4D6-7277-4207-86CB-D6878902CF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B961C-EAF4-4952-ACDE-189D666561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623BF-F6FE-405D-8115-10C088AD96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47F2B-94B1-4B3F-8F79-CCBA6B9413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18228-22E2-40A4-BA08-3AF09947AF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60EF7-BBC0-473F-8024-E9E071EC4D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26C8C-CB74-4065-BFB1-FFA7452D8D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ECE21-FEDF-49F9-A3A1-96288F8096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B81A1-4EE1-4ADE-8F43-412FD8CEA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EC6E2-7110-4EF5-B825-1D4D985746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19BBD-DEBC-4607-B6E9-C3DF6446B9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BDD63-17E9-49CC-9F9C-270E09AD84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CE8A0-E26D-4A4B-BFB1-3C449123A5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23A30-33E1-449C-9B47-9EEDE43C0D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FCF91-631E-4484-A41A-9A70CD731A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481B9-6F7A-47EC-B056-73A18E3BB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0A0CD-C256-4C94-B2E6-0DBE66BED9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B034E-AA1E-4896-A8D1-851CFB4B98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75297-34FD-40BB-8A9E-3D3BE3FDE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970DA-7ED3-4B02-AAAB-1A4BA73EB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2663D-65C8-4E21-BC15-722E5D99F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310103B1-2328-4426-9E99-066B1B757F2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8656B30B-CA49-4051-AFC2-F2FCD72C181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4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adian 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gal System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97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  <p:sp>
        <p:nvSpPr>
          <p:cNvPr id="98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982B55D9-04CB-4004-9DCF-58E0F1F355C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of equity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s made by Courts of Chancery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riginally on fairn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to counter rigid common law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ts later merged, but bodies of law remained separat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Law - Sources of Law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BA10D75C-B8CF-472A-B57E-AF3F45059BD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ut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s created by legislative bodi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liamentary supremacy” (i.e., legislation overrides common law and law of equity) 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summarize or modify common law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government regulation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Law - Sources of La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67725586-1ED2-4AE9-B762-C0095F62394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Law - Sources of La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5E6704D6-FF47-4FD7-A8A9-EE345D41257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86780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ada created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ritish North America 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1867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ada inherited certain conventions or traditions from Britai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law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les established in the Magna Carta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liamentary supremacy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w in Can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0279EE62-51C2-4A63-ACAE-2AA7AACEBB1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A Act now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stitution 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867)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tions 91 and 92 divide powers between federal and provincial governmen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inciple of paramountcy applies in cases of conflict between federal and provincial law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w in Canada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EEAC9DBE-39A6-4A21-ADAB-02206849407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nstitution A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198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ed ties with British Governmen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ed government enactments having constitutional statu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ed amending formula for constitutional chang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arter of Rights and Freedom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nstitution A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1982)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6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D0743C24-A58F-4201-89B3-AD0F65F2C29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s individuals from infringement on their rights by governments or their agent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limitations on Charter rights: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Section 1 – reasonable exceptions to Charter rights and freedoms allowed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Section 33 – legislatures can pass acts that infringe on rights “notwithstanding” the Charter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Section 32 – Charter applies only to governmen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harter of Rights and Freed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F9BAB021-F1E6-4B1C-8F31-9A0C6EC71FF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urts: Court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E21A161F-12CC-4D79-9DAD-2084AA6F20B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371600" y="1782720"/>
            <a:ext cx="640080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 of Civil Li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ivil trial - action for compensatio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eadings -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e chart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very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ation of docum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ation of witnesse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ment into cour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tion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action lawsuit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257800" y="2666880"/>
          <a:ext cx="3048120" cy="3048120"/>
        </p:xfrm>
        <a:graphic>
          <a:graphicData uri="http://schemas.openxmlformats.org/drawingml/2006/table">
            <a:tbl>
              <a:tblPr/>
              <a:tblGrid>
                <a:gridCol w="1341360"/>
                <a:gridCol w="1706760"/>
              </a:tblGrid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intiff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endant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 of Summons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earance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ement of Claim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ement of Defence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erclaim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A1431032-BDFB-4A50-A67A-9CF9FF27BF4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intiff presents cas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den of proof rests with plaintiff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e of probabiliti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examination of witness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-examination by defense lawyer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50FAEA95-52A4-4D5B-AD18-6C73A7F6ECF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Define what law i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Identify the sources of Canadian laws and distinguish their componen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Describe the structure of the courts in Canada and illustrate the litigation proc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Outline the processes of trial and judgement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CA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endParaRPr b="0" lang="en-US" sz="7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2CA4556E-BFA7-4EEA-A54A-0B8447D26B7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ial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ndant presents cas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rings forward witnesses and eviden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laintiff’s lawyer gets to cross-examin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ies to put enough doubt into the plaintiff’s case so plaintiff cannot prove his/her cas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l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96DEF697-FA61-46FD-8D17-161CB03D7B8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ial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Judge determines the law and instructs the jury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Jury decides on the fact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00"/>
                </a:solidFill>
                <a:latin typeface="Times New Roman"/>
              </a:rPr>
              <a:t>If judge alone, he/she determines both facts and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l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445A0519-423E-423F-82C7-DE43A45AE74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mages (monetary compensation)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– non-quantifiable loss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– quantifiable loss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itive – to punish the wrongdo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9051840" y="476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dies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80AA7690-64AB-4BFB-A525-E7A9269D572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medi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quitable remedies where damages are not appropriat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junction – stop order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 performance – fulfill the terms of an agreemen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unting – pay over profi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di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CD157A12-0FCA-4BE6-B40B-5F8B35F226D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intiff must enforce judgmen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-trial hearing to identify asset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izure of property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nishment of wag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mpt of court (related to order of specific conduct)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FA17C88C-0CB7-4A67-A6CE-A7417814FE4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for resolving disputes outside of the court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method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itra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1ADC34C6-17EA-4D30-9F74-47E6F3BB5BC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20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tiatio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es discuss the problem with each other in order to find a solu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requires cooperation and compromi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conducted through representative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may enhance relationship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ment may not be legally bind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330D05C1-18FF-4D70-8EDB-8DBCD8477F8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atio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tral outsider helps parties settle the disput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facilitated by mediator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3" marL="15681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common grou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3" marL="15681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urages concession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tor does not make decis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required before court will hear ca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t may affirm mediated resolu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685800" y="457200"/>
            <a:ext cx="7772400" cy="106668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2CBF27D1-7997-4869-989D-9F3D63B884E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bitratio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es agree on an independent third party (or panel of three) to make a decision that will be bind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required in contract; mandated in collective bargain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tors are usually specialists in the matter under disput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cannot be appealed although procedure may be reviewed by the cour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24AC2498-0DB2-43CC-8B85-2C968E835BC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es maintain control of the solu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utants determine and schedule proc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costs associated with proc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ters remain privat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rves good will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chieve a win-win resolu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4C87C528-E50A-4265-ABAA-09F32A290F9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plain the function and use of alternative methods for resolving disput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fine administrative law and explain when and how it is used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scribe the aspects of criminal law that should be of concern to a business pers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AA73D003-F12D-41BC-8430-5F1EE5FC0DE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ts have more power to extract informa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s do not follow preceden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ments may not be enforceabl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ppropriate when power imbalance exis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ublic record of dispute or decis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1717BE89-BBF0-4C05-A2A6-FE6CE4C7383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y bodies make decisions with respect to statutes or regulation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 decisions must be within jurisdiction and comply with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titution A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867),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principles of procedural fairn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t may review decision process and decision to determine if appropriat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istrative Law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E0096E20-F703-44F1-99BD-EFEFE4F8D47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ivitive clauses may protect tribunal decisions from judicial revie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dvantages of tribunals (compared to courts):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efficien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involve experts in field under disput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er, more cost-effective decision-making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istrative Law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12A05F00-9198-4DCF-AB94-0213243B8AF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vil law – individual sues another for compensation (or other remedy)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minal law – state prosecutes accused to punish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the federal government has the power to make criminal law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ncial governments have the power to create and enforce statutes (similar to criminal law in terms of penalties)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minal Law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D1B1851A-9680-4FFF-B1AF-5F44C47D47F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den of proof on prosecutor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prove beyond a reasonable doub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show wrongful conduct took pla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show intention to commit the ac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 liability offenc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only need to show offence took pla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defence is due diligen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minal Process  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7BD03450-5620-411C-BD2C-75CBECA3124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 to arrest held by police and private citizen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dicial officials issue search warrants, arrest warrants, and summons to appear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ies of crim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 conviction - minor offen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table offence - more serious offen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minal Process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31A82F55-9AB9-4279-BDB2-CB31BD6A69A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dicial proc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– exchange of information and negoti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table offence – more involved and length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 bargaining – pleading to lesser offen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matter proceeds to trial: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ecutor presents witnesses and evidenc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se then presents witnesses and evidenc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made by judge or ju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 – fine/imprison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minal Proces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5F490704-58C8-44B0-BECF-F0A917DA126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is the body of rules that can be enforced by the courts or by other government agenci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does not define ethical behaviour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F4A026C1-61CF-4FCC-BB94-E5F8F1EF0F1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tegories of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bstantive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ules determining behaviour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cedural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ow the legal process work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85800" y="457200"/>
            <a:ext cx="7772400" cy="144792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egories of Law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5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6F4FC0EE-972A-4616-9377-5D609F340D6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8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48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es our relationship with governmen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8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or Civil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48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es personal, social, and business relationship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egories of Law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33642C46-32EF-4252-AE00-03F0CFF021A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fied body of rul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ted with the Romans; later modified by Napoleo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in most countri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bec’s legal system is based on the French Civil Cod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vil Code Lega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708A4E08-6F39-4484-A4E8-A4A4091E7CC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106992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Law Lega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law used in Great Britain and the Commonwealth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adopted by Canada’s English-speaking provinces and the territories 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dge-made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in the cour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precedent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re decisi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7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CD77B2DA-AE2C-41BC-8F65-370A6E387E2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law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precedent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re decisi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 to follow precedent case if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made by higher cour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same jurisdic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similar fac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distinguish cases on the fac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Law - Sources of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F9DDCA1E-78B6-4A4B-990D-03ACB6BA082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3:17:24Z</dcterms:created>
  <dc:creator>lori</dc:creator>
  <dc:description/>
  <dc:language>en-US</dc:language>
  <cp:lastModifiedBy>User</cp:lastModifiedBy>
  <dcterms:modified xsi:type="dcterms:W3CDTF">2012-04-24T15:58:43Z</dcterms:modified>
  <cp:revision>191</cp:revision>
  <dc:subject/>
  <dc:title>Chapter One</dc:title>
</cp:coreProperties>
</file>