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90789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07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935520" cy="3430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5145120" y="-360"/>
            <a:ext cx="3935520" cy="3430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282528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1211400" y="3257640"/>
            <a:ext cx="6657840" cy="308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0" y="6515280"/>
            <a:ext cx="3935520" cy="34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5145120" y="6515280"/>
            <a:ext cx="3935520" cy="34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10373EB3-241D-4E76-BD41-064EB210595D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5145120" y="6515280"/>
            <a:ext cx="3935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E86E0BDA-A378-4DB5-86A3-1A52F150987D}" type="slidenum">
              <a:rPr b="0" lang="en-CA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2825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1211400" y="3257640"/>
            <a:ext cx="665784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5145120" y="6515280"/>
            <a:ext cx="3935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E2B97B82-E3EE-41B9-A6E9-01DF7C599615}" type="slidenum">
              <a:rPr b="0" lang="en-CA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2825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211400" y="3257640"/>
            <a:ext cx="665784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2825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1211400" y="3257640"/>
            <a:ext cx="665784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5145120" y="6515280"/>
            <a:ext cx="3935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BD94B71A-0D33-4D5C-A6F0-E871DB36AE59}" type="slidenum">
              <a:rPr b="0" lang="en-CA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5145120" y="6515280"/>
            <a:ext cx="3935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D2AF1079-7DD9-4DEA-AE9B-CA6BCD4E1E0A}" type="slidenum">
              <a:rPr b="0" lang="en-CA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Rectangle 2"/>
          <p:cNvSpPr/>
          <p:nvPr/>
        </p:nvSpPr>
        <p:spPr>
          <a:xfrm>
            <a:off x="5145120" y="0"/>
            <a:ext cx="3935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5145120" y="6515280"/>
            <a:ext cx="3935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8</a:t>
            </a:r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0" y="6515280"/>
            <a:ext cx="3935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0"/>
            <a:ext cx="3935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2832120" y="519120"/>
            <a:ext cx="3416400" cy="256212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1211400" y="3257640"/>
            <a:ext cx="665784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83A65-2C55-4AF0-A32D-97ADA4DAD0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304EC-6204-4A78-9659-B071EB1115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A6B9D-0024-480B-A424-DB786CAFEC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37949-5FBB-4A79-BA02-2239C71924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021350-953E-4939-9F8C-9DF014C0E55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AC3CA2-3299-4FAB-8C13-2628C8906F5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E9793C-6226-4A72-893F-0C6B202E976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25EE6D-6ADC-4CFB-9299-3A6C1D11207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5C2FD9-CC16-40F2-9DE4-7F81B24B149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4946C6-3D5E-4F1F-9BF1-5B027D73FED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3B3C67-2998-4F9A-A1E2-07A0F717C2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15090-FD32-4F84-BE9C-35C6B90A42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31766B-FAEA-48BB-80AE-6E72B70504C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5260F4-8C13-4365-B383-FCEE7EF23D0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C1CA65-EC87-4588-9840-EED17BF405D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09A034-FDFE-460C-9889-ACDA1F0AE67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CFF2C4-8612-469F-8D7F-032E3A6DBD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F4F16-6295-4901-B31D-C631DC0C1C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96B02-3FC5-40D2-BF0B-3C577D7358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97D39-86A2-4A1F-A111-E1AA0D7DDE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465FC-4D74-4360-B137-78A696BE1E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0F31A-F774-4A25-A2EE-AF03138C45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B97AA-BA59-4D32-AFAB-737A1F9933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4C7C9-DD9E-4F48-8097-AD2B61D1C4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" name="Picture 7" descr="Pearson_WebBar_Top_Blue_RGB"/>
          <p:cNvPicPr/>
          <p:nvPr/>
        </p:nvPicPr>
        <p:blipFill>
          <a:blip r:embed="rId2"/>
          <a:stretch/>
        </p:blipFill>
        <p:spPr>
          <a:xfrm>
            <a:off x="0" y="0"/>
            <a:ext cx="9144000" cy="41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76320" y="6552720"/>
            <a:ext cx="266688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15292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BB0A29B2-CE17-487D-8CE9-54B3E3027E3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Pearson_WebBar_Top_Blue_RGB"/>
          <p:cNvPicPr/>
          <p:nvPr/>
        </p:nvPicPr>
        <p:blipFill>
          <a:blip r:embed="rId2"/>
          <a:stretch/>
        </p:blipFill>
        <p:spPr>
          <a:xfrm>
            <a:off x="0" y="0"/>
            <a:ext cx="9144000" cy="419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76320" y="6552720"/>
            <a:ext cx="266688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815292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E7D072D1-D9D1-485C-AC09-1ED346EB936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912600" y="2590560"/>
            <a:ext cx="3354120" cy="33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apter 1</a:t>
            </a:r>
            <a:endParaRPr b="0" lang="en-US" sz="4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adian 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gal System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801720" y="457200"/>
            <a:ext cx="7542360" cy="175248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799920" y="53316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gal Fundamental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r Canadian Business </a:t>
            </a:r>
            <a:br>
              <a:rPr sz="4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rd E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1371600" y="6172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1050840" y="606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1584360" y="5985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1508040" y="606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97" name="Picture 11" descr="yates_LegalFund_CRV.jpg"/>
          <p:cNvPicPr/>
          <p:nvPr/>
        </p:nvPicPr>
        <p:blipFill>
          <a:blip r:embed="rId1"/>
          <a:stretch/>
        </p:blipFill>
        <p:spPr>
          <a:xfrm>
            <a:off x="5029200" y="2362320"/>
            <a:ext cx="2895480" cy="3619440"/>
          </a:xfrm>
          <a:prstGeom prst="rect">
            <a:avLst/>
          </a:prstGeom>
          <a:ln w="0">
            <a:noFill/>
          </a:ln>
        </p:spPr>
      </p:pic>
      <p:sp>
        <p:nvSpPr>
          <p:cNvPr id="98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BB4604B1-3211-4B66-ABA4-A499AE60B76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w of equity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isions made by Courts of Chancery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originally on fairnes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ed to counter rigid common law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rts later merged, but bodies of law remained separate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on Law - Sources of Law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50985E47-4992-4DFD-8FCB-E57FE58E500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ute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ws created by legislative bodie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liamentary supremacy” (i.e., legislation overrides common law and law of equity)  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ten summarize or modify common law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 government regulation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on Law - Sources of Law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23E87189-BB11-46F2-8D29-63FEC767C97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on Law - Sources of Law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11C1C7B8-C6D5-42BB-A3BC-FDE5E25E68D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867800" cy="44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ada created b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ritish North America A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1867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ada inherited certain conventions or traditions from Britain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 of law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nciples established in the Magna Carta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liamentary supremacy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aw in Cana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B220C6FF-25CD-4DCF-9509-58A3116AE31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A Act now call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stitution A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1867)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tions 91 and 92 divide powers between federal and provincial government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rinciple of paramountcy applies in cases of conflict between federal and provincial law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aw in Canada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141D97FF-7671-4D1B-B57A-2D0BD5F10D4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onstitution Ac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(198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ded ties with British Government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ed government enactments having constitutional statu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ablished amending formula for constitutional change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harter of Rights and Freedom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onstitution Ac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(1982)</a:t>
            </a:r>
            <a:endParaRPr b="1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6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0C0E7E4E-E746-4D30-8A66-F326601A094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ects individuals from infringement on their rights by governments or their agent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 limitations on Charter rights: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Section 1 – reasonable exceptions to Charter rights and freedoms allowed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Section 33 – legislatures can pass acts that infringe on rights “notwithstanding” the Charter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Section 32 – Charter applies only to government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harter of Rights and Freedo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7C5CAB80-F75E-4CD6-BDAD-061B005DD11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urts: Court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46EBF102-B5D3-417A-AF9D-00BABD4540B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371600" y="1782720"/>
            <a:ext cx="6400800" cy="47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4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ss of Civil Liti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ivil trial - action for compensation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eadings - 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e chart 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overy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ination of docum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ination of witnesse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yment into court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novation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action lawsuit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5257800" y="2666880"/>
          <a:ext cx="3048120" cy="3048120"/>
        </p:xfrm>
        <a:graphic>
          <a:graphicData uri="http://schemas.openxmlformats.org/drawingml/2006/table">
            <a:tbl>
              <a:tblPr/>
              <a:tblGrid>
                <a:gridCol w="1341360"/>
                <a:gridCol w="1706760"/>
              </a:tblGrid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intiff</a:t>
                      </a:r>
                      <a:endParaRPr b="1" lang="en-US" sz="2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fendant</a:t>
                      </a:r>
                      <a:endParaRPr b="1" lang="en-US" sz="2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 of Summons</a:t>
                      </a:r>
                      <a:endParaRPr b="1" lang="en-US" sz="2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pearance</a:t>
                      </a:r>
                      <a:endParaRPr b="1" lang="en-US" sz="2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ement of Claim</a:t>
                      </a:r>
                      <a:endParaRPr b="1" lang="en-US" sz="2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ement of Defence</a:t>
                      </a:r>
                      <a:endParaRPr b="1" lang="en-US" sz="2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unterclaim</a:t>
                      </a:r>
                      <a:endParaRPr b="1" lang="en-US" sz="2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EF30D28C-FCD3-4364-B417-C43BFBE094A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intiff presents case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rden of proof rests with plaintiff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lance of probabilitie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examination of witnesse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oss-examination by defense lawyer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DC889D50-8483-488E-BC72-F7DC69F483B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Define what law i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Identify the sources of Canadian laws and distinguish their component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Describe the structure of the courts in Canada and illustrate the litigation proces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Outline the processes of trial and judgement 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CA" sz="7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</a:t>
            </a:r>
            <a:endParaRPr b="0" lang="en-US" sz="7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D0307EC8-86DA-41E6-B9A8-E6CBDA311A2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rial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endant presents case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rings forward witnesses and evidence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laintiff’s lawyer gets to cross-examine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ries to put enough doubt into the plaintiff’s case so plaintiff cannot prove his/her case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al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1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01CA4924-BE41-45C4-BEDF-48D5BECCA9E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rial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Judge determines the law and instructs the jury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Jury decides on the fact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00"/>
                </a:solidFill>
                <a:latin typeface="Times New Roman"/>
              </a:rPr>
              <a:t>If judge alone, he/she determines both facts and law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al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1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5BBDA7C3-3BDB-4A84-93A0-724E3BA6A55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mages (monetary compensation)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– non-quantifiable losse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al – quantifiable losse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nitive – to punish the wrongdo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9051840" y="4765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edies</a:t>
            </a:r>
            <a:endParaRPr b="1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8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FEE8A090-6B85-43E9-A333-A3FAA1F8D1C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Remedie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quitable remedies where damages are not appropriate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junction – stop order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 performance – fulfill the terms of an agreement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ounting – pay over profit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edie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1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7905DF38-D201-4085-B927-6295BFF547A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intiff must enforce judgment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-trial hearing to identify asset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izure of property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nishment of wage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mpt of court (related to order of specific conduct)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forc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8AE95D7D-C048-437E-B1F6-1937EC73CCD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s for resolving disputes outside of the court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method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gotiation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ation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bitration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ernative Dispute Re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6375E2E4-09A5-4571-9AF7-AA365AB1FCF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20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gotiation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2" marL="115092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es discuss the problem with each other in order to find a solu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2" marL="115092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 requires cooperation and compromi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2" marL="115092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be conducted through representative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2" marL="115092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 may enhance relationship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2" marL="115092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reement may not be legally bind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ernative Dispute Resolu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9B46C1D0-1D5F-4177-B27B-282F7B515A5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diation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utral outsider helps parties settle the disput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cation facilitated by mediator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3" marL="15681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s common grou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3" marL="15681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ourages concession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ator does not make decis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times required before court will hear ca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t may affirm mediated resolu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685800" y="457200"/>
            <a:ext cx="7772400" cy="106668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ernative Dispute Resolu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1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47FEAA3F-AD0B-497B-97B7-0E3CE7361D0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bitration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es agree on an independent third party (or panel of three) to make a decision that will be bind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required in contract; mandated in collective bargain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itrators are usually specialists in the matter under disput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 cannot be appealed although procedure may be reviewed by the cour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ernative Dispute Resolu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844AE361-BE8D-426A-9CE3-FF77A757478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es maintain control of the solution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utants determine and schedule proces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costs associated with proces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ters remain private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rves good will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chieve a win-win resolution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ernative Dispute Resolu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D72A265F-A694-40B5-9ADB-587BC073840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xplain the function and use of alternative methods for resolving dispute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efine administrative law and explain when and how it is used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escribe the aspects of criminal law that should be of concern to a business person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Objective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38F1EC4B-622F-4091-8D02-5DF6F88D39B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dvantage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rts have more power to extract information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isions do not follow precedent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eements may not be enforceable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appropriate when power imbalance exist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public record of dispute or decision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ernative Dispute Resolu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5C36F0F6-C630-4A47-A225-2E0AE9D7A2C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ulatory bodies make decisions with respect to statutes or regulation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nistrative decisions must be within jurisdiction and comply with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stitution A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1867),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principles of procedural fairnes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rt may review decision process and decision to determine if appropriate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ministrative Law</a:t>
            </a:r>
            <a:endParaRPr b="1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AF7D5D19-2D47-4599-B315-80D7E1D24D4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rivitive clauses may protect tribunal decisions from judicial review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dvantages of tribunals (compared to courts):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re efficient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sually involve experts in field under dispute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er, more cost-effective decision-making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ministrative Law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1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9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A87A0F78-E56F-481A-93E1-71EFB8D3A16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vil law – individual sues another for compensation (or other remedy)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iminal law – state prosecutes accused to punish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the federal government has the power to make criminal law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ncial governments have the power to create and enforce statutes (similar to criminal law in terms of penalties)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minal Law</a:t>
            </a:r>
            <a:endParaRPr b="1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0C4A6E63-53CF-4CE2-BDAD-D8589CBA228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rden of proof on prosecutor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prove beyond a reasonable doubt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show wrongful conduct took place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show intention to commit the act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ct liability offence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only need to show offence took place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defence is due diligence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minal Process  </a:t>
            </a:r>
            <a:endParaRPr b="1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695999B5-0EAC-4331-B3C5-7630AC2CF36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 to arrest held by police and private citizen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dicial officials issue search warrants, arrest warrants, and summons to appear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tegories of crime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y conviction - minor offence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ctable offence - more serious offence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minal Process 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1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176EB28D-7B67-43F7-B70B-C23512286B3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dicial proces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y – exchange of information and negoti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ctable offence – more involved and length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ea bargaining – pleading to lesser offence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 matter proceeds to trial: 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ecutor presents witnesses and evidenc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ense then presents witnesses and evidenc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 made by judge or ju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 – fine/imprison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minal Proces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1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5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82B39BCA-6EE7-4564-A332-34B7ADFCF47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w is the body of rules that can be enforced by the courts or by other government agencie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w does not define ethical behaviour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 of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50CFB40A-B925-433A-8FC6-A73BC812E6A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ategories of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bstantive law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ules determining behaviour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rocedural law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How the legal process work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685800" y="457200"/>
            <a:ext cx="7772400" cy="144792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tegories of Law</a:t>
            </a:r>
            <a:endParaRPr b="1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5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ED6956F0-0EE5-4B02-966D-466AF138064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483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law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4835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ulates our relationship with government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483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vate or Civil law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4835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ulates personal, social, and business relationship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tegories of Law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977ED10B-D73D-4E5A-8BA5-C5748F50058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fied body of rule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iginated with the Romans; later modified by Napoleon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in most countrie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bec’s legal system is based on the French Civil Code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ivil Code Legal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F018E32B-BE4E-4EEC-B6C4-C8EFD36C9CC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106992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on Law Legal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law used in Great Britain and the Commonwealth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 adopted by Canada’s English-speaking provinces and the territories 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dge-made law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ed in the court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on precedent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are decisi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7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FD316F52-CD04-4CB6-A802-CD1B4E14408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law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ing precedent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are decisi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und to follow precedent case if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 made by higher cour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same jurisdic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similar fac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distinguish cases on the fact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on Law - Sources of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C0AC3F56-7DB2-463F-A2D8-8FB4FA89E06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23:17:24Z</dcterms:created>
  <dc:creator>lori</dc:creator>
  <dc:description/>
  <dc:language>en-US</dc:language>
  <cp:lastModifiedBy>User</cp:lastModifiedBy>
  <dcterms:modified xsi:type="dcterms:W3CDTF">2012-04-24T15:58:43Z</dcterms:modified>
  <cp:revision>191</cp:revision>
  <dc:subject/>
  <dc:title>Chapter One</dc:title>
</cp:coreProperties>
</file>