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90789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07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35520" cy="343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5145120" y="-360"/>
            <a:ext cx="3935520" cy="343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252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6555A7D-C987-48F8-9AB8-4E9044BF370A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C4E720D-BCCA-4C37-981B-1ECC1EBD8B5C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825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6C6DAE8-7A02-434E-8AEC-722273431428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825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825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82425DE-8521-4A45-9EC1-6B52DD651C71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3D35CB5-E4B3-4CA9-989E-0FE3D4A3A503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5145120" y="0"/>
            <a:ext cx="3935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514512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8</a:t>
            </a:r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0" y="6515280"/>
            <a:ext cx="3935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0"/>
            <a:ext cx="3935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832120" y="519120"/>
            <a:ext cx="3416400" cy="25621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211400" y="3257640"/>
            <a:ext cx="665784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D3D53-280E-48E5-94FD-641C62ED8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F01B0-D437-47D2-A379-6179A2A83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9E06A-582E-4CD1-AEE2-85DB01BA8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1F485-7857-43B6-85BF-69673D268C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DCB73-6689-43B2-AF28-35BB052965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A9071-10E7-45C9-8972-ECDEF06E62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211B7-7F86-4551-81F8-F4D81D22AD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FDAC6-2D0A-43D5-84E3-D4DE6AE776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55AA3-EB98-4EF6-927B-28B51BC452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E76A7-52D7-475D-A2E6-3A87EF6E01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03E57-7B74-437C-92F5-AE85623FE5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AA1F7-7853-47C7-80EE-3638E9ED9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16409-3F82-4391-92B8-8669CD29C8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5F392-02A5-4718-A70B-9009A1F114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12988-28E7-4A19-8E37-F2C7DA412E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ABCD0-D6F2-4486-B368-7D91228520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1F844-DF0D-4EC1-B9AF-42F7FD3257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B9516-FB70-40E9-A84D-17CFFB58C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C5355-AF04-44D6-855D-BF9569C12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27583-3C88-486E-A5D1-66F507B03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08A24-E2B8-4759-8BB5-E00D77D57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332A6-3C85-43B2-AB3E-714289A6E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1D653-4EE0-458E-87AE-A45EDEC86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82F19-92A8-4AC5-9C43-63C621DDF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769A18B7-E85F-47C2-B718-69ACDCC4D25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88600AE6-B6D0-4C05-AE4C-5BCFD08920A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gal System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97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03B1D4F6-1EFF-4DD5-BE05-811EB073A32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of equity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s made by Courts of Chancery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riginally on fairn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to counter rigid common law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ts later merged, but bodies of law remained separat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- Sources of Law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0927142A-A9F4-4255-B4F3-0DD065D7DBB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ut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s created by legislative bodi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liamentary supremacy” (i.e., legislation overrides common law and law of equity) 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summarize or modify common law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government regulation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- Sources of La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BFA4B8E0-8CBE-49AE-82AD-E0F332452BF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- Sources of Law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FA5FACC3-E028-4BA1-85A3-0DC373E7464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86780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ada created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itish North America 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1867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ada inherited certain conventions or traditions from Britai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law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les established in the Magna Carta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liamentary supremacy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w in Can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389FC2E7-BD76-4899-BF8D-BF89C9FEF75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A Act now call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titution 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867)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tions 91 and 92 divide powers between federal and provincial governmen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inciple of paramountcy applies in cases of conflict between federal and provincial law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w in Canada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FBC397DA-C0EC-45C0-BC46-DB4A4A13ECF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nstitution A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198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ed ties with British Governmen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ed government enactments having constitutional statu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ed amending formula for constitutional chang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arter of Rights and Freedom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nstitution Ac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1982)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6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6C05AA02-32D2-43D3-B657-71ECA4AD20E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s individuals from infringement on their rights by governments or their agen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limitations on Charter rights: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ection 1 – reasonable exceptions to Charter rights and freedoms allowed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ection 33 – legislatures can pass acts that infringe on rights “notwithstanding” the Charter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Section 32 – Charter applies only to governm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harter of Rights and Freed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13A291E6-5E2B-4658-9894-58CCBFB2329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urts: Court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3AF83A01-8453-4059-8C82-9DBCAF1FD3B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71600" y="1782720"/>
            <a:ext cx="640080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 of Civil Li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ivil trial - action for compensati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adings -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e chart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very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ation of docum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ation of witnesse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ment into cour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tion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action lawsui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257800" y="2666880"/>
          <a:ext cx="3048120" cy="3048120"/>
        </p:xfrm>
        <a:graphic>
          <a:graphicData uri="http://schemas.openxmlformats.org/drawingml/2006/table">
            <a:tbl>
              <a:tblPr/>
              <a:tblGrid>
                <a:gridCol w="1341360"/>
                <a:gridCol w="170676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intiff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endant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1368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 of Summons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earance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ement of Claim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ement of Defence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erclaim</a:t>
                      </a:r>
                      <a:endParaRPr b="1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1368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13680">
                      <a:solidFill>
                        <a:srgbClr val="33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EB3436BA-B84E-4E03-94E0-978F241B132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tiff presents cas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den of proof rests with plaintiff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e of probabiliti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examination of witness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-examination by defense lawyer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27C796FA-B0F1-4EA2-A322-B75922AC215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Define what law i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Identify the sources of Canadian laws and distinguish their componen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Describe the structure of the courts in Canada and illustrate the litigation proc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Outline the processes of trial and judgement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CA" sz="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7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7EA50DC6-1543-4E75-A92A-81192BEA9ED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ial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ndant presents cas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rings forward witnesses and evid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laintiff’s lawyer gets to cross-examin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ies to put enough doubt into the plaintiff’s case so plaintiff cannot prove his/her cas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l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252023F8-8826-4478-AAE6-A76909F55D5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ial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Judge determines the law and instructs the jury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Times New Roman"/>
              </a:rPr>
              <a:t>Jury decides on the fac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If judge alone, he/she determines both facts and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l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AD005E4A-8128-48B5-A3EC-C2AB98AFD37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mages (monetary compensation)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– non-quantifiable loss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– quantifiable loss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itive – to punish the wrongdo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9051840" y="476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dies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56788C94-9876-488F-B0BB-624657D06EC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quitable remedies where damages are not appropriat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junction – stop order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 performance – fulfill the terms of an agreem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unting – pay over profi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di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DCBD7D2E-6356-4BC8-8EFA-C6F39710C57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tiff must enforce judgment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-trial hearing to identify asse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izure of property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nishment of wag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mpt of court (related to order of specific conduct)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991DF077-1731-4F64-ABC6-13783705FAF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for resolving disputes outside of the court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thod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itra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2441CC34-F503-43C8-9330-68AACCB7F05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20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tiati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es discuss the problem with each other in order to find a solu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requires cooperation and compromi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conducted through representative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may enhance relationship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5092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ment may not be legally bind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028F1A48-737F-4B2B-A300-A021F668FD6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ati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tral outsider helps parties settle the disput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facilitated by mediator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5681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common grou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5681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rages concession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tor does not make decis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required before court will hear ca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t may affirm mediated resolu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685800" y="457200"/>
            <a:ext cx="7772400" cy="106668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61DD3F63-D825-4A29-9AF5-39802B60AFE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bitrati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es agree on an independent third party (or panel of three) to make a decision that will be bind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required in contract; mandated in collective bargain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tors are usually specialists in the matter under disput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cannot be appealed although procedure may be reviewed by the cour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58966CD9-D722-4148-BEE6-5614B606A95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es maintain control of the solu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utants determine and schedule proc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costs associated with proc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ters remain privat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rves good will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chieve a win-win resolu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863EB20C-8A21-4283-B295-13F69126792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plain the function and use of alternative methods for resolving dispute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fine administrative law and explain when and how it is used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scribe the aspects of criminal law that should be of concern to a business pers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9C396238-9E2B-4223-9744-7F7EAAB4897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ts have more power to extract informat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s do not follow preced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ments may not be enforceabl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ppropriate when power imbalance exis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ublic record of dispute or decision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 Dispute Resolu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090A1285-2C4F-4E4D-8E0C-4A75661C9EC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bodies make decisions with respect to statutes or regulation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decisions must be within jurisdiction and comply with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titution 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1867),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principles of procedural fairn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t may review decision process and decision to determine if appropriat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ative Law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71A922E1-E966-4C67-B7F0-A11E453A7FA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ivitive clauses may protect tribunal decisions from judicial revie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dvantages of tribunals (compared to courts):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effici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involve experts in field under disput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er, more cost-effective decision-making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istrative Law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F85C2A89-4279-485A-B79C-C585D226C15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vil law – individual sues another for compensation (or other remedy)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minal law – state prosecutes accused to punish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the federal government has the power to make criminal law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ncial governments have the power to create and enforce statutes (similar to criminal law in terms of penalties)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minal Law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738B5CFB-C47C-4A97-8159-6B75930CCB7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den of proof on prosecutor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prove beyond a reasonable doub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show wrongful conduct took pla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show intention to commit the ac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 liability offenc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only need to show offence took pla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defence is due dilig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minal Process  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BE54C114-86F6-43F0-AE56-85551B36F09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 to arrest held by police and private citizen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dicial officials issue search warrants, arrest warrants, and summons to appear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ies of crim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 conviction - minor off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table offence - more serious off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minal Process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A1111FF0-EF6B-42BF-9B7B-758B6B310DE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dicial proces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– exchange of information and negoti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table offence – more involved and length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 bargaining – pleading to lesser offence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matter proceeds to trial: 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ecutor presents witnesses and evidenc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se then presents witnesses and evidenc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made by judge or ju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 – fine/imprison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minal Proces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1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D773D050-D345-4D44-9F72-300E40CD8BF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is the body of rules that can be enforced by the courts or by other government agenci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does not define ethical behaviour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FE58D368-0E63-4E10-9679-6F43AD06078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tegories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stantive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ules determining behaviour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cedural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ow the legal process work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85800" y="457200"/>
            <a:ext cx="7772400" cy="144792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egories of Law</a:t>
            </a:r>
            <a:endParaRPr b="1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5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3D6EF434-BFCC-4A2D-BC0A-D419292C310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48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48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s our relationship with government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83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or Civil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483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s personal, social, and business relationship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egories of Law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F9A1433D-5597-4052-8DA2-A7789F06163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fied body of rul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ated with the Romans; later modified by Napoleon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in most countries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bec’s legal system is based on the French Civil Code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vil Code Lega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EA7B1532-2EA6-40C2-B1EF-08333F8BE1E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772400" cy="106992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Lega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law used in Great Britain and the Commonwealth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adopted by Canada’s English-speaking provinces and the territories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dge-made law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in the cour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precedent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re decisi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7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6688F9ED-2823-42D7-8327-EFE9328AA86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law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precedent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re decisi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 to follow precedent case if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made by higher cour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same jurisdic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similar fac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distinguish cases on the facts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Law - Sources of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1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 - </a:t>
            </a:r>
            <a:fld id="{AB35A898-053B-4F34-9A2B-4366E4FC648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3:17:24Z</dcterms:created>
  <dc:creator>lori</dc:creator>
  <dc:description/>
  <dc:language>en-US</dc:language>
  <cp:lastModifiedBy>User</cp:lastModifiedBy>
  <dcterms:modified xsi:type="dcterms:W3CDTF">2012-04-24T15:58:43Z</dcterms:modified>
  <cp:revision>191</cp:revision>
  <dc:subject/>
  <dc:title>Chapter One</dc:title>
</cp:coreProperties>
</file>