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E6D0-3D4F-4495-A0B8-F0BD65B07AE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B058-1AC3-4870-AD61-DCC6CF2A5C1F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698E-0762-4BC8-AFBC-59B428A36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3F60-40AA-4FFB-8A80-9D8A15D24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BB69C-1019-496C-8F97-B76607391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6FD78-C53C-4E78-A131-633E9D6A9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70100-F8C3-459C-B418-50B91F249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644B-F2F4-47EC-B2FE-3F943C7CC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FA624-72C7-4382-93F8-BD83B3DBC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98C85-2E32-44DA-A2D0-F8520F179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695FA-A661-4788-9398-E1F836929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5B8E7-5D10-4E6E-93D5-C3C7F72A8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5B8C8-02BD-4FDA-B688-A698E9FDA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F2459-34A5-488E-82ED-B7B8A569C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700159F-57EE-4284-AE57-1C75784BAB7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6A60C7D2-0CAC-4D77-93C1-493DB0051F2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rts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fess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96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E7971BFF-15E2-486A-BB59-B556FF8164E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Assault and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informed con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uct must not exceed con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lf-de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use reasonable force in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in response to immediate th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3FE5FD22-164A-4E15-BDE4-C3588D38132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alse Impris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awful re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phys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simply compliance if victim thinks there is no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rrest by private citizen when no crime has take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0E51ECE3-6222-432D-A7B0-D6BE05F1EFA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esp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ing onto another’s property without permission or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istake as to property line is no def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permission revoked, must give person opportunity to 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f refusal, may eject using reasonable force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ed only intend the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A04F5241-86B8-4CAC-A361-B05C6619E72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espas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 not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to trespassers minimal, but greater if a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direct trespass – throwing something onto another’s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inuing trespass – building, fenc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defence for trespass:  Intruder had no control over where he/she w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DD8692A6-ABBF-44D2-BD98-6F6675790BB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uis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ivate nuis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ing your property so as to substantially interfere with your neighbour’s use of his/her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inappropriate use of your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ference must have been reasonably forese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medies: damages or an inj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86291386-16D7-423E-9A75-816E4A2036E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rogatory false statement to detriment of a person, company, or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bel – written 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includes broadcasted defa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lander – spoken 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involve innu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358F2AD9-1CC6-4EE2-B690-F8139B0F754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am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refer to the plain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publ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unicated to a third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istake is no de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bel may also be cri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communications now an important cause of defamation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A1440D69-F090-4171-BC12-3126591C183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Def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bstantially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endant must prove statement was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bsolute privi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ements made on floor of legislature or Parliament, in senior government committees, or while giving testimony in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0B5A5DCD-EB1C-49A4-8D57-39ACCDCF842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Defam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Qualified privi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statement made pursuant to a duty, person cannot be sued if it turns out to be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owed if person who made statement thought it was true, made statement without malice, and only communicated it to those with need to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D230D526-A1B7-4B11-A848-C698F1379B5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Defamation 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imes New Roman"/>
              </a:rPr>
              <a:t>Fair comment and Responsible Communic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ences used mostly by the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ir Comment is expression of opinion about public figures, work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based on true facts known to 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made without ma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ible Communication protects media if reasonable diligence used to verify facts even if facts turn out not to be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47ADC7D4-2120-495E-B89E-BE0D510A292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nd differentiate a tort from a 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several types of intentional t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he elements required to establish negligent con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 defences available to alleged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83A1F6DC-08B9-4310-9D89-A8450E4BA7C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05120" y="1797120"/>
            <a:ext cx="57150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8666C3DD-791E-435F-84D6-5C76090628C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lig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volves inadvertent or careless conduct causing injury or loss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care must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uct must fall below standard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jury or loss must result from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sonable perso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haviour that is higher than average, but less than per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13213DB0-2126-4E6E-8E44-C1229A493D8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uty of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sonable foreseeability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care owed to anyone we can reasonably foresee would be harmed by what we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Donoghu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v.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evenson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ed test to determine if duty of care is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se led to two-stage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 of proximity between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to allow court to modify nature of d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E6D4AD0B-BA00-4300-9648-B3A3524A2BF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tandard of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quired standard of care is determined by reasonable perso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vel of risk, cost, and potential loss are important factors to be consi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erts held to standard of a reasonable person in their pro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BE420820-4E6B-4193-B8E8-41B38255248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tandard of Car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ircumstantial evidence may lead to finding of neg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ecial standards may be set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ccupiers’ liability 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nkee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on 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ance to avoid risks of tort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FC7F2385-3EE2-40CF-956C-91EAE89F316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usation and Da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 complained of was cause of injury or 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753876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099EA2F4-264A-4B04-9DC5-73AB9B7A7DA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Neglig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ibutory neg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plaintiff contributed to own loss, he/she must bear some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st jurisdictions have a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ontributory Negligence Act,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allowing courts to assign proportional 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ADF84341-386D-4585-88AE-C57ACC22C4B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Negligenc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luntary assumption of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liberately putting oneself in harm’s way disqualifies one from suing for injury or loss tha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laintiff has assumed both physical risk of activity as well as legal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clear that plaintiff absolved the other party of responsibility; very difficult to 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8E5AE6C2-8C69-4B14-9F8F-3E3B3BAA03D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nces to Negligen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mot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Mustapha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determine whether a particular injury was reasonably forese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connection between the conduct and injury was too indirect or unexpected, no liability will be imp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legal causal connection is found, victims must be fully compensated, even if more vulnerable to loss than u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D9342B7-1E9A-4E19-8DA5-4CA9E63D56C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duct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show defendant failed to live up to standard of reasonable manufactu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use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rima faci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ase of negligence (circumstantial evid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 some jurisdictions, manufacturer has increased liability through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ider the significance of finding a duty of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ce the development of law related to product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pply tort principles to professional con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dentify a number of business-related t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B72DA3C5-7A2A-4CCC-B7B3-DA604EFBD0D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45810F16-1754-4DDD-A1E0-647B773AB30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of care to third parties who rely on  work of professionals and are caused loss as a 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ed to limit this to physical loss or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Haig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v.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Bamford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allowed recovery for pure economic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B205BA42-9348-4664-BEAA-FC7724720D1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Anns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se is test for new or unique situations where duty of care must be determ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gree of proximity between the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reason to allow court to modify (or not impose) the duty or limit the class to whom duty is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0D4146A-3F54-41A1-A83D-543093604EA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fessional expected to have degree of expertise of a reasonable professional in that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experience is no de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ndard practice of the profession may not be en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FE6D39B1-F1A1-44FE-B344-15C93EB61A4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uciary duty – duty to act in best interests of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loyalty and good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 funds are held in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ject to rules of professional assoc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ability insurance may reduce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gligence may also be cri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D7CCD1AC-A45E-4557-B032-E3525A12EC0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ther Business 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raud or dec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ly misleading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jurious falsehood or product 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reading false information about a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ducing breach of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 “stealing” an employee from a compe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3033DD1A-AA90-462B-83E2-E4EDB1EEAAF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ther Business Tor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ssing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isleading public by using similar name, log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espass to chatt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amaging or interfering with person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aking property of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ivacy vio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be regulatory or tort by sta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5B27C811-FC32-4C66-97FD-3721BCC00CF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or civil court action where the injured party sues wrongdoer for compensation for wrongful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riminal matters, society (through a crown prosecutor) brings the action to punish the off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ful conduct may be both a crime and a t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5DB215F8-BBF2-4FFB-B584-4CE78A218B6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or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actions are brought by a party because the agreement has been brea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s are vicariously liable for all torts committed by employees during the course of their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ile doing what employed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E6EF106A-5975-48FB-9807-1867311DEA9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ntional 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a deliberate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only intend the conduct, not th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conduct is accidental, it would be negligence, rather than an intentional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5370EEFB-AFC4-4F29-B7AC-3B66C428CD7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ault and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ntional t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tional physical interference with another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forms of assault and battery may also be criminal off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F37F18FE-8B9F-4D2E-8E98-233071EE97C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ault and Batter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reat to harm another (from victim’s percep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be im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be physically possible to carry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ed not be harmful, just unw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hysical contact not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0211BB53-6BF1-4D7F-8DC9-F5C84897304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ault and Batter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wa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volves physical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ven if contact is beneficial (such as medical treatment), if it is unwanted, it is still bat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17:24Z</dcterms:created>
  <dc:creator>lori</dc:creator>
  <dc:description/>
  <dc:language>en-US</dc:language>
  <cp:lastModifiedBy>User</cp:lastModifiedBy>
  <dcterms:modified xsi:type="dcterms:W3CDTF">2012-04-24T16:03:09Z</dcterms:modified>
  <cp:revision>134</cp:revision>
  <dc:subject/>
  <dc:title>Chapter One</dc:title>
</cp:coreProperties>
</file>