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092D-0361-47A9-81F3-97946AB7B2B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9D01-92CC-435F-8241-AA5AD5C167E0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C91E2-3997-46CD-B02A-BDC3B11BD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9C53-3686-4330-8E0C-D8DA882BAA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64E0-119E-4B29-8221-F63D18210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3143-1C83-4056-ACF5-E11F130C8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93C0-7A14-4912-B3CC-0A81DC66D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B4FA1-A50E-42B9-B3A8-30614809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2190A-8A81-464C-8D9F-EDE56A326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BDAD-14B7-4171-B1D1-ABEA333CA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A443-51A1-40EE-89DB-380D90558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0872-F03A-4616-9FB8-73A08A320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62E0-013A-431E-8D2E-19A969EEE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099DD-DA44-43D7-AD65-0E928E162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66C3624-BB57-480C-BE21-0840BB5BD0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697B7A9-15D8-4606-B0A6-D859D34B0A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E5D8601-0F4E-4A0B-81C7-FDFEF06D59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form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not exce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lf-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use reasonable force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 response to immediat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9F1559D-65E6-4FA0-8AA4-B4FDEA1E33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awful re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hys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simply compliance if victim thinks there is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rest by private citizen when no crime has tak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E2FDEB1-D799-4B79-9147-E2FEAE1C86D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ing onto another’s property without permission o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take as to property line is no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permission revoked, must give person opportunity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refusal, may eject using reasonable force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only intend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A6D1879-7A94-420F-896A-E246F75B8F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trespassers minimal, but greater if a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irect trespass – throwing something onto another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inuing trespass – building, fen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defence for trespass:  Intruder had no control over where he/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1766F97-5280-48A5-9149-99803793B9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ui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ate nu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ing your property so as to substantially interfere with your neighbour’s use of his/h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appropriate use of you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ference must have been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medies: damages or an 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F4AB4FF-3A02-470F-BA9B-33B39E24A5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rogatory false statement to detriment of a person, company, or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– writt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includes broadcasted def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lander – spok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involve innu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3E581B6-C126-459F-9B9E-929A7641FF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refer to the plain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unicated to a thir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tak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communications now an important cause of defam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7632555-6760-4A34-A810-89014D4215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dant must prove statement wa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solute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ments made on floor of legislature or Parliament, in senior government committees, or while giving testimony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ED6B2EE-EA52-4B33-B845-D4AFE0461D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statement made pursuant to a duty, person cannot be sued if it turns out to be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ed if person who made statement thought it was true, made statement without malice, and only communicated it to those with ne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062DCFC-3C12-43D9-8182-1A63A8C51E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imes New Roman"/>
              </a:rPr>
              <a:t>Fair comment and Responsible Commun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ces used mostly by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Comment is expression of opinion about public figures, wor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based on true facts known to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made without ma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ible Communication protects media if reasonable diligence used to verify facts even if facts turn out no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7C03DC2-BD4B-47A0-8B5E-768DC81B29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fferentiate a tort from a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veral types of intentional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elements required to establish negligent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defences available to alleged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080EF4A-F5A1-4CAC-A8DF-CF7065B60C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1797120"/>
            <a:ext cx="5715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DD470F8-6661-41C5-9915-1BDB769B59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ves inadvertent or careless conduct causing injury or loss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mus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fall below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ry or loss must result from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haviour that is higher than average, but less than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E6EDFBE3-1634-4279-8145-3D774A0AC9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ty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foreseeabil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owed to anyone we can reasonably foresee would be harmed by what w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onoghu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evenso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test to determine if duty of care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 led to two-stag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proximity between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to allow court to modify nature of 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6D254B5-0C6D-46F1-8263-A25D50FBB2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standard of care is determined by 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 of risk, cost, and potential loss are important factors to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ts held to standard of a reasonable person in their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6A29B7E-D5CC-4550-9D6A-7DC5BF89A6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rcumstantial evidence may lead to finding of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 standards may be set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ccupiers’ liability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on 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to avoid risks of tor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D976854-86F0-461A-ABF9-0C111F04F94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usation and Da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complained of was cause of injury or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538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25FDB2E-4C7B-4D7B-92AD-CAF2DD51862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ibutory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plaintiff contributed to own loss, he/she must bear some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jurisdictions have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ributory Negligence Act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ing courts to assign proportional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FAA6684-F973-4316-881F-1A59734642A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ntary assump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liberately putting oneself in harm’s way disqualifies one from suing for injury or loss tha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 has assumed both physical risk of activity as well as leg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lear that plaintiff absolved the other party of responsibility; very difficult to 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7FD0A55-9928-4322-903A-FF2C8B53E0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aph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ther a particular injury was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nection between the conduct and injury was too indirect or unexpected, no liability will be i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legal causal connection is found, victims must be fully compensated, even if more vulnerable to loss than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0DBD9DC-C760-4678-9486-06D9A3DDAD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duct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show defendant failed to live up to standard of reasonable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use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ase of negligence (circumstantial evi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jurisdictions, manufacturer has increased liability through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the significance of finding a duty of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ce the development of law related to produc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 tort principles to profession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fy a number of business-related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F02B310-27E0-43CC-9B8E-B5AF25DE87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B163287-0499-48C1-B2EC-DA5155F396D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care to third parties who rely on  work of professionals and are caused loss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limit this to physical loss or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aig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amford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ed recovery for pure economic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D656375-07FD-4C5F-BDF5-1C6BA4DE4F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nn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se is test for new or unique situations where duty of care must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gree of proximity between the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ason to allow court to modify (or not impose) the duty or limit the class to whom duty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2912B37-FBF9-4C1B-8ABD-0C81F3639F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fessional expected to have degree of expertise of a reasonable professional in tha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experienc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practice of the profession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84F0FBA-3C04-4DF8-AEE8-0A3F0AAE44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duty to act in best interests of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loyalty and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funds are held in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ject to rules of profession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ability insurance may redu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gligence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C6E92CC-3511-4E47-9603-B071073ED8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aud or de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misleading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rious falsehood or product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reading false information about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ucing breach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“stealing” an employee from a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F1D11B1-D2F3-4C71-BF59-639D8DDB08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ss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leading public by using similar name, lo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spass to chat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amaging or interfering with person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property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regulatory or tort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EA9414F-783E-46F2-9209-FAA88724D2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or civil court action where the injured party sues wrongdoer for compensation for wrongful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riminal matters, society (through a crown prosecutor) brings the action to punish the of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ful conduct may be both a crime and a 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54931F6-0900-427D-9EF5-D701997A18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actions are brought by a party because the agreement has been b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are vicariously liable for all torts committed by employees during the course of their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le doing what employ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9EA18A9-D674-4191-8748-8216948E26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al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a delibera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only intend the conduct, not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duct is accidental, it would be negligence, rather than an intentional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4A7A1C5-4C87-43FA-AD9D-4EF2161760A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ntional t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ional physical interference with anoth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assault and battery may also be criminal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21DAB64-A304-4A89-BCC0-04DE5078654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reat to harm another (from victim’s perce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physically possible to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not be harmful, just un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hysical contact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6A76311-0FCC-4504-8F66-AF33917323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volves physical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if contact is beneficial (such as medical treatment), if it is unwanted, it is still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6:03:09Z</dcterms:modified>
  <cp:revision>134</cp:revision>
  <dc:subject/>
  <dc:title>Chapter One</dc:title>
</cp:coreProperties>
</file>