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0D7D-55A3-4C27-A016-D2B2F55A322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CE6F-21EF-4A9A-B4CA-BAD6A8F31D8F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24A7-CFB8-4EEC-A0C2-C34202490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5EB43-44B1-470B-A927-5DD1E9A0F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4CC07-44E0-4B2C-9755-D6E5610D5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1FADE-C633-4B9B-97D7-DFFC2C248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3F19F-13B3-409B-84BF-F70C354C4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D7EE7-9539-49A5-A184-A550CD7E5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AC4B6-3419-44D8-8E9D-B54B1683F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5A9B-81DA-4406-8975-C44010E14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D6F73-B0D9-4FB7-9E51-1BCBFDED3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DC0CB-BE13-4BBD-A2B1-FF0342BD8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CA3A6-E1A8-42A0-B4C9-DA9F4BA7F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066DC-382D-4927-B89A-2614CE84D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980EAF8-7DCF-4B54-AD0B-D880CEF04B1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6E23E2C0-FC75-4182-9E51-E746DBDE53C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rts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fess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6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F86DE0A4-27DB-446C-B210-39F628E529E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Assault and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informed 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uct must not exceed 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lf-de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use reasonable force in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in response to immediate th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D56FD8AB-602B-4324-9C52-894DAC7C67B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alse Impris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awful re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phys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simply compliance if victim thinks there is no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rrest by private citizen when no crime has take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892819CB-0C7B-411A-9DFE-DD482658D90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esp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ing onto another’s property without permission or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istake as to property line is no def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permission revoked, must give person opportunity to 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f refusal, may eject using reasonable force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ed only intend the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E6E478B2-DDF4-4FFA-BDA6-F7777F14452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espas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 not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to trespassers minimal, but greater if a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direct trespass – throwing something onto another’s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inuing trespass – building, fenc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defence for trespass:  Intruder had no control over where he/she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E7C38A30-FA64-4BDF-B5CD-368C16603EE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uis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ivate nuis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ing your property so as to substantially interfere with your neighbour’s use of his/her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inappropriate use of your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ference must have been reasonably forese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medies: damages or an inj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4CC2BBEC-1221-481D-B640-4EBCA9861F2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rogatory false statement to detriment of a person, company, or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bel – written 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includes broadcasted defa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lander – spoken 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involve innu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27646A90-55FC-422A-A88C-A99729EA9FC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am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refer to the plain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publ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unicated to a third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istake is no de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bel may also be cri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communications now an important cause of defamation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787FC4C7-EC0C-4FB6-806A-CCC75DE0BB5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Def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bstantially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endant must prove statement was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bsolute privi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ements made on floor of legislature or Parliament, in senior government committees, or while giving testimony in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4C4B8401-207C-4C57-800A-0DDABD17EFD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Defam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Qualified privi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statement made pursuant to a duty, person cannot be sued if it turns out to be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owed if person who made statement thought it was true, made statement without malice, and only communicated it to those with need to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A8B549DA-D199-4262-946D-4A856ECC644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Defamation 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imes New Roman"/>
              </a:rPr>
              <a:t>Fair comment and Responsible Communic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ences used mostly by the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ir Comment is expression of opinion about public figures, work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based on true facts known to 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made without ma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ible Communication protects media if reasonable diligence used to verify facts even if facts turn out not to be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1C3C07B2-8097-4B5C-90A7-BCE9A8AED0C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nd differentiate a tort from a 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several types of intentional t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he elements required to establish negligent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 defences available to alleged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9837B221-0AD2-407A-A671-2578ECAF354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05120" y="1797120"/>
            <a:ext cx="57150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5E62E51C-2EA8-4BC6-9674-AA17A5CF702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lig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volves inadvertent or careless conduct causing injury or loss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care must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uct must fall below standard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jury or loss must result from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sonable perso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haviour that is higher than average, but less than per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A394CD92-A67F-4EAF-8AA1-02F4183EA2A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uty of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sonable foreseeability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care owed to anyone we can reasonably foresee would be harmed by what we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Donoghu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v.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evenson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ed test to determine if duty of care is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se led to two-stage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 of proximity between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to allow court to modify nature of d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84B7159D-5A0D-42F9-908A-A67D714FC40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tandard of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quired standard of care is determined by reasonable perso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vel of risk, cost, and potential loss are important factors to be consi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erts held to standard of a reasonable person in their pro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8E58B3EA-AF57-4037-83C2-E08A1C783FE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tandard of Car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ircumstantial evidence may lead to finding of neg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ecial standards may be set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ccupiers’ liability 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nkee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on 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ance to avoid risks of tort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3F942C8C-05C9-4D78-B873-8C8A5CA27F6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usation and Da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 complained of was cause of injury or 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753876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BF075211-A253-4621-AB4C-75C44065EA3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Neglig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ibutory neg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plaintiff contributed to own loss, he/she must bear some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st jurisdictions have a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ontributory Negligence Act,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allowing courts to assign proportional 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5515191F-89C1-4E2B-92E9-940F35E2EAB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Negligenc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luntary assumption of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liberately putting oneself in harm’s way disqualifies one from suing for injury or loss tha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laintiff has assumed both physical risk of activity as well as legal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clear that plaintiff absolved the other party of responsibility; very difficult to 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E0D83094-2076-47E6-91E3-26087D6A301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nces to Negligen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mot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Mustapha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determine whether a particular injury was reasonably forese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connection between the conduct and injury was too indirect or unexpected, no liability will be imp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legal causal connection is found, victims must be fully compensated, even if more vulnerable to loss than u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87D11993-059A-4429-BB43-92F93CD917F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duct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show defendant failed to live up to standard of reasonable manufactu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use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rima faci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ase of negligence (circumstantial evid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 some jurisdictions, manufacturer has increased liability through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ider the significance of finding a duty of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ce the development of law related to product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pply tort principles to professional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dentify a number of business-related t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0DFDA0FD-9F32-4E26-A54D-31B460CC46C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0C1423BE-FD64-45B9-A654-93B10A2704A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of care to third parties who rely on  work of professionals and are caused loss as a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d to limit this to physical loss or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Haig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v.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Bamford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allowed recovery for pure economic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E0898984-6688-4097-9667-1B64B776821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Anns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se is test for new or unique situations where duty of care must be determ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gree of proximity between the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reason to allow court to modify (or not impose) the duty or limit the class to whom duty is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3F9D87F2-C128-4C54-91F4-FF08015AD07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fessional expected to have degree of expertise of a reasonable professional in that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experience is no de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ndard practice of the profession may not be en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BB15C0A-9E34-4DED-8D2E-0AFB4F0F9C6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uciary duty – duty to act in best interests of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loyalty and good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 funds are held in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ject to rules of professional assoc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ability insurance may reduce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gligence may also be cri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516303A-6C81-40B7-8A3B-5B6F039CB71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ther Business 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raud or dec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ly misleading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jurious falsehood or product 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reading false information about a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ducing breach of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 “stealing” an employee from a compe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7DBCCA54-2C5D-4995-9A9A-73020FCAF2D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ther Business Tor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ssing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isleading public by using similar name, log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espass to chatt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amaging or interfering with person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aking property of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ivacy vio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be regulatory or tort by sta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5617AF7E-271F-4DFA-B45D-031CB0D107E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or civil court action where the injured party sues wrongdoer for compensation for wrongful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riminal matters, society (through a crown prosecutor) brings the action to punish the off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ful conduct may be both a crime and a t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70E56323-6783-461F-9CEF-CC9316B0320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or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actions are brought by a party because the agreement has been brea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s are vicariously liable for all torts committed by employees during the course of their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ile doing what employed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2AB0BCD6-12D6-4864-8820-B58A2C0CB87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ntional 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a deliberat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only intend the conduct, not th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conduct is accidental, it would be negligence, rather than an intentional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DCDB94EB-F16A-43A2-BEA8-05EB03EF8DA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ault and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ntional t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tional physical interference with another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forms of assault and battery may also be criminal of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195159B7-DA88-4C15-B371-0B5D9C0392F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ault and Batter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reat to harm another (from victim’s percep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be im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be physically possible to carry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ed not be harmful, just unw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hysical contact not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452CE6F9-7848-43BC-AD22-F7B607913C7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ault and Batter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wa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volves physical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ven if contact is beneficial (such as medical treatment), if it is unwanted, it is still bat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17:24Z</dcterms:created>
  <dc:creator>lori</dc:creator>
  <dc:description/>
  <dc:language>en-US</dc:language>
  <cp:lastModifiedBy>User</cp:lastModifiedBy>
  <dcterms:modified xsi:type="dcterms:W3CDTF">2012-04-24T16:03:09Z</dcterms:modified>
  <cp:revision>134</cp:revision>
  <dc:subject/>
  <dc:title>Chapter One</dc:title>
</cp:coreProperties>
</file>