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518112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-36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518112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98EC9-224E-41BE-995A-EE28242E2A18}" type="slidenum"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5231B-1897-433D-82BC-DD9B4DABF796}" type="slidenum">
              <a:rPr b="0" lang="en-CA" sz="12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AFD032-1F35-4F5C-8089-51D4C948D3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B990CD-7EA6-43F4-949F-C5E1BF706D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BC63F5-4DD3-48EF-B677-740A3FAF9B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8B5579-251A-44C4-86E8-4C1DF2CCA7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55DB6C-AF6C-4A18-8134-2FF1754009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C504C2-16C8-415D-A873-28D5E03D36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1686C0-71A4-4ABD-A422-4E459B5202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E3D5B0-C88D-44BB-959C-52A9C34158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44F336-33F2-4E82-8C6F-AF85CF472F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8191C5-8D8E-466B-8C33-444E066C9E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17434D-F28A-4685-8E72-9ED43E019D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5BB065-01DB-4127-BCA5-FD25132DBF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Picture 7" descr="Pearson_WebBar_Top_Blue_RGB"/>
          <p:cNvPicPr/>
          <p:nvPr/>
        </p:nvPicPr>
        <p:blipFill>
          <a:blip r:embed="rId2"/>
          <a:stretch/>
        </p:blipFill>
        <p:spPr>
          <a:xfrm>
            <a:off x="0" y="0"/>
            <a:ext cx="9144000" cy="41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76320" y="6552720"/>
            <a:ext cx="2666880" cy="1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3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(c) 2013 Pearson Canada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15292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2 - </a:t>
            </a:r>
            <a:fld id="{8A2507D7-936A-474B-A90C-795F4CE5D415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8" descr="Pearson_WebBar_Top_Blue_RGB"/>
          <p:cNvPicPr/>
          <p:nvPr/>
        </p:nvPicPr>
        <p:blipFill>
          <a:blip r:embed="rId2"/>
          <a:stretch/>
        </p:blipFill>
        <p:spPr>
          <a:xfrm>
            <a:off x="0" y="0"/>
            <a:ext cx="9144000" cy="4190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88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2 - </a:t>
            </a:r>
            <a:fld id="{185580DB-D129-4674-8D03-C244092C86B3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912600" y="2590560"/>
            <a:ext cx="3354120" cy="33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Chapter 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rts a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fessio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801720" y="457200"/>
            <a:ext cx="7542360" cy="1752480"/>
          </a:xfrm>
          <a:prstGeom prst="rect">
            <a:avLst/>
          </a:prstGeom>
          <a:noFill/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799920" y="533160"/>
            <a:ext cx="75438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Legal Fundamentals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or Canadian Business </a:t>
            </a:r>
            <a:br>
              <a:rPr sz="4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ird Ed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1371600" y="6172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93" name="Text Box 6"/>
          <p:cNvSpPr/>
          <p:nvPr/>
        </p:nvSpPr>
        <p:spPr>
          <a:xfrm>
            <a:off x="1050840" y="6060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94" name="Text Box 7"/>
          <p:cNvSpPr/>
          <p:nvPr/>
        </p:nvSpPr>
        <p:spPr>
          <a:xfrm>
            <a:off x="1584360" y="5985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95" name="Text Box 8"/>
          <p:cNvSpPr/>
          <p:nvPr/>
        </p:nvSpPr>
        <p:spPr>
          <a:xfrm>
            <a:off x="1508040" y="6060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96" name="Picture 11" descr="yates_LegalFund_CRV.jpg"/>
          <p:cNvPicPr/>
          <p:nvPr/>
        </p:nvPicPr>
        <p:blipFill>
          <a:blip r:embed="rId1"/>
          <a:stretch/>
        </p:blipFill>
        <p:spPr>
          <a:xfrm>
            <a:off x="5029200" y="2362320"/>
            <a:ext cx="289548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30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2 - </a:t>
            </a:r>
            <a:fld id="{1C6583B7-1AEB-4D6E-A7B2-115675F27303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Defences to Assault and Batte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ons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ust be informed cons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onduct must not exceed cons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elf-def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y use reasonable force in respon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ust be in response to immediate thre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34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2 - </a:t>
            </a:r>
            <a:fld id="{1CE69D3B-B743-4E82-AFEB-3536C1B7F15D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False Imprison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Unlawful restrai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y be physica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y be simply compliance if victim thinks there is no cho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Arrest by private citizen when no crime has taken pl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38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2 - </a:t>
            </a:r>
            <a:fld id="{6DA23CA2-85B7-4235-A6E8-7B0B12EC9903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Trespa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oming onto another’s property without permission or autho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Mistake as to property line is no def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If permission revoked, must give person opportunity to le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If refusal, may eject using reasonable force </a:t>
            </a:r>
            <a:r>
              <a:rPr b="0" lang="en-CA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tent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eed only intend the acti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42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2 - </a:t>
            </a:r>
            <a:fld id="{6ABA9155-09D8-481F-AC65-60C45BA920FC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Trespass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Damage not requir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Duty to trespassers minimal, but greater if a chi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Indirect trespass – throwing something onto another’s proper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ontinuing trespass – building, fence,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Only defence for trespass:  Intruder had no control over where he/she wa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46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2 - </a:t>
            </a:r>
            <a:fld id="{C985E823-DCDC-4A99-89BE-C4F79014831B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Nuisa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Private nuis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Using your property so as to substantially interfere with your neighbour’s use of his/her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ust be inappropriate use of your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terference must have been reasonably foresee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Remedies: damages or an inj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50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2 - </a:t>
            </a:r>
            <a:fld id="{F9FC2131-259E-4C79-8564-7BD7D4D4F9F8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Defam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Derogatory false statement to detriment of a person, company, or produ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Libel – written defa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lso includes broadcasted defa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lander – spoken defa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ay involve innuen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54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2 - </a:t>
            </a:r>
            <a:fld id="{1A762E97-6A9E-425F-B58D-7AB4A9ED0D1E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Defamation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ust refer to the plaintif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ust be publish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ommunicated to a third pa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istake is no def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Libel may also be crimi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Internet communications now an important cause of defamation a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58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2 - </a:t>
            </a:r>
            <a:fld id="{C8625C38-D625-40A7-88C4-29F10C9801F2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Defences to Defam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Justif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ubstantially tr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Defendant must prove statement was tr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Absolute privile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tatements made on floor of legislature or Parliament, in senior government committees, or while giving testimony in tr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2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2 - </a:t>
            </a:r>
            <a:fld id="{321D9E5D-1169-4ACA-B235-5CCEED47BDBD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Defences to Defamation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Qualified privile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f statement made pursuant to a duty, person cannot be sued if it turns out to be fal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llowed if person who made statement thought it was true, made statement without malice, and only communicated it to those with need to kn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6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2 - </a:t>
            </a:r>
            <a:fld id="{6A5B89F7-5E98-44D8-9473-838C05C7D5B7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Defences to Defamation 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900" spc="-1" strike="noStrike">
                <a:solidFill>
                  <a:srgbClr val="000000"/>
                </a:solidFill>
                <a:latin typeface="Times New Roman"/>
              </a:rPr>
              <a:t>Fair comment and Responsible Communication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Defences used mostly by the med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air Comment is expression of opinion about public figures, works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ust be based on true facts known to publ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ust be made without mal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Responsible Communication protects media if reasonable diligence used to verify facts even if facts turn out not to be tr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98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2 - </a:t>
            </a:r>
            <a:fld id="{B543B43F-5D9B-462A-ACD3-EC43E67A8D81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arning Objec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e and differentiate a tort from a cr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dentify several types of intentional to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st the elements required to establish negligent condu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utline defences available to alleged t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0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2 - </a:t>
            </a:r>
            <a:fld id="{FF4A6928-0E94-4B2E-9C39-BD8DAC65FA6D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1905120" y="1797120"/>
            <a:ext cx="5715000" cy="475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4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2 - </a:t>
            </a:r>
            <a:fld id="{A76369E4-6BC6-4149-A90B-4165D551E4A4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Neglig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Involves inadvertent or careless conduct causing injury or loss to anot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Duty of care must exi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onduct must fall below standard of c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jury or loss must result from condu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Reasonable person 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Behaviour that is higher than average, but less than perf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2 - </a:t>
            </a:r>
            <a:fld id="{67015624-7915-412A-830A-F38D4694A410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Duty of C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Reasonable foreseeability 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Duty of care owed to anyone we can reasonably foresee would be harmed by what we 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800" spc="-1" strike="noStrike">
                <a:solidFill>
                  <a:srgbClr val="000000"/>
                </a:solidFill>
                <a:latin typeface="Times New Roman"/>
              </a:rPr>
              <a:t>Donoghue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 v. </a:t>
            </a:r>
            <a:r>
              <a:rPr b="0" i="1" lang="en-CA" sz="2800" spc="-1" strike="noStrike">
                <a:solidFill>
                  <a:srgbClr val="000000"/>
                </a:solidFill>
                <a:latin typeface="Times New Roman"/>
              </a:rPr>
              <a:t>Stevenson 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established test to determine if duty of care is ow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nn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se led to two-stage t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gree of proximity between 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sons to allow court to modify nature of du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2 - </a:t>
            </a:r>
            <a:fld id="{D834C42A-592A-4A89-9D5A-82801F86B216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Standard of C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Required standard of care is determined by reasonable person 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Level of risk, cost, and potential loss are important factors to be consider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Experts held to standard of a reasonable person in their profes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2 - </a:t>
            </a:r>
            <a:fld id="{02C64B6E-BC68-4CFF-8D6B-102CC6E7EACE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Standard of Care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ircumstantial evidence may lead to finding of neglig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pecial standards may be set by sta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Occupiers’ liability a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nkee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ommon carri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Insurance to avoid risks of tort li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2 - </a:t>
            </a:r>
            <a:fld id="{22763AC3-22A6-4336-BC34-2E2E4A37C4EE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Causation and Dam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duct complained of was cause of injury or dam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990720" y="4038480"/>
            <a:ext cx="7538760" cy="9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2 - </a:t>
            </a:r>
            <a:fld id="{3528AF3B-3598-420C-BA95-C4C9E3427803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Defences to Neglig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ontributory neglig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f plaintiff contributed to own loss, he/she must bear some responsi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ost jurisdictions have a </a:t>
            </a:r>
            <a:r>
              <a:rPr b="0" i="1" lang="en-CA" sz="2800" spc="-1" strike="noStrike">
                <a:solidFill>
                  <a:srgbClr val="000000"/>
                </a:solidFill>
                <a:latin typeface="Times New Roman"/>
              </a:rPr>
              <a:t>Contributory Negligence Act,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 allowing courts to assign proportional li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2 - </a:t>
            </a:r>
            <a:fld id="{C2C65DBA-7B9B-4D48-A3A4-A9DD3CD0816D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Defences to Negligence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Voluntary assumption of ris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Deliberately putting oneself in harm’s way disqualifies one from suing for injury or loss that resul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Plaintiff has assumed both physical risk of activity as well as legal ris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ust be clear that plaintiff absolved the other party of responsibility; very difficult to pro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2 - </a:t>
            </a:r>
            <a:fld id="{68B79C24-A967-4394-85F4-E205E549CC40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fences to Negligence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Remoten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800" spc="-1" strike="noStrike">
                <a:solidFill>
                  <a:srgbClr val="000000"/>
                </a:solidFill>
                <a:latin typeface="Times New Roman"/>
              </a:rPr>
              <a:t>Mustapha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 c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ust determine whether a particular injury was reasonably foresee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f connection between the conduct and injury was too indirect or unexpected, no liability will be impo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f legal causal connection is found, victims must be fully compensated, even if more vulnerable to loss than usu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2 - </a:t>
            </a:r>
            <a:fld id="{DEC86544-D82A-4A64-BAE5-7871BC18B00F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Product Li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ust show defendant failed to live up to standard of reasonable manufactur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ay use </a:t>
            </a:r>
            <a:r>
              <a:rPr b="0" i="1" lang="en-CA" sz="3200" spc="-1" strike="noStrike">
                <a:solidFill>
                  <a:srgbClr val="000000"/>
                </a:solidFill>
                <a:latin typeface="Times New Roman"/>
              </a:rPr>
              <a:t>prima facie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 case of negligence (circumstantial evidenc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In some jurisdictions, manufacturer has increased liability through sta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arning Objectives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onsider the significance of finding a duty of c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race the development of law related to product li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Apply tort principles to professional condu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Identify a number of business-related to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4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2 - </a:t>
            </a:r>
            <a:fld id="{FF996487-F4D5-4712-8FB5-54EBFA775657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2 - </a:t>
            </a:r>
            <a:fld id="{5AC55C9E-4DAB-4BE0-AF79-2E421F6209D9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Professional Li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Duty of care to third parties who rely on  work of professionals and are caused loss as a resul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Used to limit this to physical loss or dam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3200" spc="-1" strike="noStrike">
                <a:solidFill>
                  <a:srgbClr val="000000"/>
                </a:solidFill>
                <a:latin typeface="Times New Roman"/>
              </a:rPr>
              <a:t>Haig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 v. </a:t>
            </a:r>
            <a:r>
              <a:rPr b="0" i="1" lang="en-CA" sz="3200" spc="-1" strike="noStrike">
                <a:solidFill>
                  <a:srgbClr val="000000"/>
                </a:solidFill>
                <a:latin typeface="Times New Roman"/>
              </a:rPr>
              <a:t>Bamford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 allowed recovery for pure economic lo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2 - </a:t>
            </a:r>
            <a:fld id="{4D9B85E1-C91F-422C-A00A-0521777C4A45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Professional Liability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3200" spc="-1" strike="noStrike">
                <a:solidFill>
                  <a:srgbClr val="000000"/>
                </a:solidFill>
                <a:latin typeface="Times New Roman"/>
              </a:rPr>
              <a:t>Anns 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ase is test for new or unique situations where duty of care must be determin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Degree of proximity between the par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ny reason to allow court to modify (or not impose) the duty or limit the class to whom duty is ow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2 - </a:t>
            </a:r>
            <a:fld id="{D1857BFD-FF1E-4C5A-94D9-59B5CDE15A68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Professional Liability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Professional expected to have degree of expertise of a reasonable professional in that fie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Inexperience is no def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tandard practice of the profession may not be enoug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2 - </a:t>
            </a:r>
            <a:fld id="{5BA1C842-9619-4145-8ABD-01D5CBC770EF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Professional Liability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Fiduciary duty – duty to act in best interests of cli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volves loyalty and good fai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ll funds are held in tru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ubject to rules of professional associ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Liability insurance may reduce ris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Negligence may also be crimi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2 - </a:t>
            </a:r>
            <a:fld id="{32556C8B-C745-41DA-A4D6-FD684326BAA6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Other Business Tor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Fraud or dece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tentionally misleading ano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Injurious falsehood or product defa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preading false information about a produ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Inducing breach of contra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Employer “stealing” an employee from a competi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2 - </a:t>
            </a:r>
            <a:fld id="{9CCE903C-965A-4820-9F72-9BA17C500DC0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Other Business Torts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Passing of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Misleading public by using similar name, logo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respass to chatt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Damaging or interfering with personal proper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onver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aking property of ano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Privacy viol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May be regulatory or tort by stat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6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2 - </a:t>
            </a:r>
            <a:fld id="{44786634-8C5C-4931-B051-C76573893137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Tor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vate or civil court action where the injured party sues wrongdoer for compensation for wrongful condu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criminal matters, society (through a crown prosecutor) brings the action to punish the offen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rongful conduct may be both a crime and a t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0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2 - </a:t>
            </a:r>
            <a:fld id="{B8610560-F348-4B9F-832B-041EACBC00C7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Tort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ontract actions are brought by a party because the agreement has been breach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Employers are vicariously liable for all torts committed by employees during the course of their employ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hile doing what employed to 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2 - </a:t>
            </a:r>
            <a:fld id="{670294F9-0685-4C5D-A5BC-20572592B4F9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Intentional Tor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ust be a deliberate a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Need only intend the conduct, not the resul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If conduct is accidental, it would be negligence, rather than an intentional t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Footer Placeholder 1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8" name="Slide Number Placeholder 2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2 - </a:t>
            </a:r>
            <a:fld id="{636C6287-C53A-40F3-8EDF-7E650CE4A950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sault and Batte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intentional tor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ntional physical interference with another per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 forms of assault and battery may also be criminal off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22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2 - </a:t>
            </a:r>
            <a:fld id="{C40D38E4-7A1A-43BA-B2A7-123F25382844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Assault and Battery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Assaul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reat to harm another (from victim’s percepti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Must be immedi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Must be physically possible to carry o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eed not be harmful, just unwan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tentiona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Physical contact not requi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26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2 - </a:t>
            </a:r>
            <a:fld id="{1FA5CDD3-8BB7-4586-86A6-4088BD7D3178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Assault and Battery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Batt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tent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Unwan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volves physical conta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Even if contact is beneficial (such as medical treatment), if it is unwanted, it is still batte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23:17:24Z</dcterms:created>
  <dc:creator>lori</dc:creator>
  <dc:description/>
  <dc:language>en-US</dc:language>
  <cp:lastModifiedBy>User</cp:lastModifiedBy>
  <dcterms:modified xsi:type="dcterms:W3CDTF">2012-04-24T16:03:09Z</dcterms:modified>
  <cp:revision>134</cp:revision>
  <dc:subject/>
  <dc:title>Chapter One</dc:title>
</cp:coreProperties>
</file>