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4F1D-D506-47C8-A1B3-CB134E5B8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D66A-8E2E-40AC-A7AB-599EA9764A05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F32C-FBFA-4780-9980-45C6041C1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53B0-E2C0-46DB-8F53-CD05A23E0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41A55-3A0B-456F-AE16-985DD2A5B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188D-81C8-48E4-9E69-9B2E6CB98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09B61-BE68-4E57-A2A6-25E054B522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29977-0063-4F0E-92FF-C1845081B7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7EC24-746E-4DDC-BD5E-D53F8F2D16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642F0-5952-453B-BA3D-B1CA1EC219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513A8-E990-4D4B-BD0E-7D7F18D11D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A6E63-FC19-40F6-ABBB-5124D6D789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37031-B2F2-4E0A-8A6E-4BE9AEC32E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322B-F569-4ACD-9FA1-D34FBB08E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E7BFB-5726-4F2C-BE0A-68F73C9924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B7143-ED06-444D-8B40-243F37D875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A5589-3098-4395-9B8C-B5DEEF6EF2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4B339-1021-4799-A743-CA037413EB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59242-7DD7-4290-A904-279DE37EA2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1FD2-55F4-4427-9ABF-F3F423716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6C18-8F07-4471-B027-C7E8AA4BB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42D2-BAC0-48FB-B9F6-D00DCF788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501E-C31A-4AA2-9067-EFE1D2CEE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78DEE-E18B-41B1-A7AC-89A8AD41F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1CB7-28DD-496D-AA8F-C71149138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10A3-2BA8-4182-AABC-C7DCA10D7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AE0149D4-EFC7-4752-BA08-84BB649E8F2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(#) - </a:t>
            </a:r>
            <a:fld id="{1C66C4B0-A53B-40E2-9B68-D89C96E8EC0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7B95F342-4D2F-4D96-B4D4-81E274185E3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ion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48194BCF-D982-4714-9708-6AC1CC521B2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specific form of acceptance required, must comply or acceptance inef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ilateral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ptance is performance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ample:  reward po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ilence is not usually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implied by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51BD27E8-B547-4F89-96DB-CCDC591174C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st-box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 to rule that acceptance 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re use of mail is a reasonable form of acceptance, acceptance is effective when and where p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applies to telegrams and possibly cou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es not apply to facsimile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ECE0E951-8ED7-4517-BC4C-D95A4C7C35D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 exchange of benefits i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money, services, goods, prom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e-sided promises (gratuitous promises) are not enforc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not be reasonable, but benefit must be speci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48715C3F-A612-41F3-BFB6-C5716EDBC04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possible, legal, and of som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 for services –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quantum merui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–must pay a reasonable amount for services requested and r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consideration has already been given, it cannot support a new contract (i.e. “past consideration is no consideration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F47C8253-3DFB-4E58-B6DD-33F24BB23C0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can change contract obligations, but all parties must receive “new”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atuitous promises not binding on promisor with some exce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aking less in full satisfaction of debt is binding by sta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Promissory Estoppel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– reliance on gratuitous promise may be used as a defenc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ith a seal, no need to establish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C7525F6B-63CA-44AE-A54B-3909A6AEE29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oid/Voidable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re never was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oth parties are free from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arty has the right to escape the contract; contract valid until this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6ACC02BC-6D68-4C9C-8E5C-DC35E69D703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oid/Voidable Contrac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721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DF7C7846-49AB-4A7D-9F2E-7F2247631E1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fants – voidabl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yone under the age of majo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ract is binding on the adult, but not on the inf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ceptions in many provinces for necessities and beneficial contracts of service (but not in B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infant ratifies contract (in writing or by implication) after becoming an adult, he/she is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fants liable for their own t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334932E1-25B5-4D60-A67F-19EEB0E1631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anity or intoxication - To escape a contract for non-necess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must show you were so insane/intoxicated that you did not understand transaction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party to contract knew or should have known of the insanity/intoxic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must repudiate contract as soon as possible when sanity/sobriety is reg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53ECA65-ED1C-4579-B129-EEAEE015233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utory bodies may have limited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Crown corporations, municipalities,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ign governments and represent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plomatic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us Indians under the curren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dia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pacity is limited to some extent to protect from explo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0CB80B4-5521-4FB0-8581-3888C695E3C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essential elements of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process by which consensus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valid offer and effective 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principle of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 requirements of capacity and leg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element of 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a written documen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514310DB-7664-4FC3-A4AB-EAEA6F28DAE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g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s that have unlawful objective or illegal consideration are 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ity may be set out in sta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contracts must be intended to cover a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states agreements that unduly limit competition are prohib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D691551C-A0F6-4F30-94C2-2A1BBB0A2FB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gal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ve covenants permissible only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sonable limit in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sonable limit i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ublic interest is not ha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s usually won’t enforce restrictive covenant against employees if it prevents earning a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DE8ED903-3862-499C-BE4D-27815CB64E6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must intend legal consequences to result from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uld a reasonable person have thought he/she was entering into binding contr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C71696AA-ADF9-4273-B023-79CF25FE9C9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mestic/Soci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intention to b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erci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ention to b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rebu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pply reasonable perso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0CF2688-0EB7-4EDA-A82E-ACD9C19BDC6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quirement of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ways good practice to put contract in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erbal contract often just as binding i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quirement of writing varies by jurisdiction (i.e., set by statu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st jurisdictions have electronic documents 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6B53ED59-109B-489B-9208-3585F9E7C00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quirement of Writing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atute of Fraud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requires certain transactions be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purchase of land, long-term leases, assuming responsibility for debt, contracts over one year, marriage contracts, sales of goods of certai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writing is required but absent, contract is unenforc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performance may satisfy requirement for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if consistent with existence of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2BB9596-CBCC-4CB0-94C1-7B53339171B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– a voluntary exchange of promises or commitments that are enforceable in our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law mostly developed in the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statutory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B37E53E5-01AA-4A01-9248-14EE2979277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en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cess of offer and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come to a common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rms must be clear and unamb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66294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AB8DED95-53BF-40D2-9BEE-22D6242296E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tative promise that contains the terms of the anticipated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itations to treat are not o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advertisements, catalogues, disp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fer must contain all important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es, property, and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terms may also b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1611D69E-6945-4ADF-A1EB-1F2DF311AFE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ffer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not be in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verbal or implied by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emption clauses 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communicated at the time of entering the contract, not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on receipt, sign, or any way that it is brought to the attention of the other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402E2276-C12F-4F15-ABB8-2ACD849FD49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O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 of specific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 of reasonab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ath or insanity of offe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vocation (if communic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nter-offer (acts as rej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tion agreement – keeps offer open for a specifie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860C2D73-E7A0-41D8-833E-7BD403246E1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Form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bargain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mbiguities interpreted in favour of the party forced to accept th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controll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EC91ADF4-308F-46C3-941A-6CF7F2707A6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ceptance – commitment by offeree to be bound by terms of 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complete and un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dition of any terms = counter-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effective when and where commun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40:54Z</dcterms:created>
  <dc:creator>Client Name</dc:creator>
  <dc:description/>
  <dc:language>en-US</dc:language>
  <cp:lastModifiedBy>User</cp:lastModifiedBy>
  <dcterms:modified xsi:type="dcterms:W3CDTF">2012-04-24T16:08:42Z</dcterms:modified>
  <cp:revision>91</cp:revision>
  <dc:subject/>
  <dc:title>Slide 1</dc:title>
</cp:coreProperties>
</file>