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8D00-B022-41DF-9AF2-4063FC73C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39DB-86C1-47E4-AF26-850677A855FA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FF9D-7582-4C07-8021-22EB29811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3513-C317-46F7-8846-7CC5A9D86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1F31-652D-45CD-94CB-A73383783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EB13-3AA3-4E9B-937A-6FD22CB10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1F47B-5CAB-4FA7-B952-CE3F090663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9686A-CA09-473B-9355-EF76AFA762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34E79-2AD3-45BA-A071-D3FC00F361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6703B-A42F-4EB1-B4B2-E7DB2D96C8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86B16-EA81-4C3F-A4E2-46CCA6F251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2562D-E70D-492F-B991-F835B7B1EF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F89B7-3B3A-4344-8C75-D047DDAE68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D989-4A22-4EFC-804C-E43F9E895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4FDED-AD9D-4D6F-9B39-497EA7450C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B0517-ACAC-4A36-ACEC-EB858AFC26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9E69A-8D6F-439F-8DA1-FDA0D1720E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AF752-B696-456F-B830-4A06854A8C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0649E-7D0A-4C73-BDF8-F5706A00F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7955E-E9CB-4C67-84D9-1422C25E4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BDC6-1305-432A-A3DB-5E8936FD5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A16E-E97C-4F06-9C61-003F39735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2F47-4864-42C4-90F7-6AD5E61BC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EC11-3193-4F8B-B741-D28537ABF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DBE3-E2E7-48CC-83DA-6AAEE5CD4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2C49-5CDC-47D1-BC6A-F7EAD0B9F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EBE4055-9CA8-4160-BED7-574E136D760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(#) - </a:t>
            </a:r>
            <a:fld id="{6F58A1BD-8963-4052-99D3-9B561ADCE8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EC9E89E-468D-4C4B-8533-6459A7B2317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on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FA5E4E59-5447-41F3-B0E0-2202D22D112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specific form of acceptance required, must comply or acceptance in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ilateral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ptance is performa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:  reward po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is not usually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7F648E7-8B4C-4EE7-89F9-AB85B02C335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t-box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to rule that acceptance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use of mail is a reasonable form of acceptance, acceptance is effective when and whe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applies to telegrams and possibly cou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es not apply to facsimile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616456D-FFC3-4C86-818E-BDB7E9DC16B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exchange of benefits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money, services, goods, pro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promises (gratuitous promises) are not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reasonable, but benefit must be 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E5CB87C-B8F0-4971-BB47-440A479E38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ossible, legal, and of som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for services –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must pay a reasonable amount for services requested and r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sideration has already been given, it cannot support a new contract (i.e. “past consideration is no consideration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69AF1E8-ECF8-4B18-A571-3DFE5E9ACF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an change contract obligations, but all parties must receive “new”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atuitous promises not binding on promisor with some exce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less in full satisfaction of debt is binding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romissory Estoppel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reliance on gratuitous promise may be used as a defenc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th a seal, no need to establish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75EC7BE-77EF-4706-8F56-699246F8F1B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re never was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are free from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arty has the right to escape the contract; contract valid until this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D9E9E79-0C4D-4A75-AB20-13856CB7AD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721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FB4E1E6-CC83-4FE2-8307-3ACC583688E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ants – voidabl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one under the age of maj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act is binding on the adult, but not on the inf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s in many provinces for necessities and beneficial contracts of service (but not in B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infant ratifies contract (in writing or by implication) after becoming an adult, he/she is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ants liable for their own t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30098504-1AA9-4CF4-9034-45138775B4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anity or intoxication - To escape a contract for non-necess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show you were so insane/intoxicated that you did not understand transaction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party to contract knew or should have known of the insanity/intoxic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repudiate contract as soon as possible when sanity/sobriety is reg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B3D2A19-21FC-4805-B87A-E1059842A6F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tory bodies may have limited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Crown corporations, municipalities,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governments and represent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plomatic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s Indians under the curren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ia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pacity is limited to some extent to protect from explo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C38C4AC-CD7F-4DD0-AAAB-2E757CFE18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ssential elements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process by which consensus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valid offer and effective 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rinciple of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 requirements of capacity and leg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lement of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a written documen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558231A-5668-4B10-9FEC-465630C0AA5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s that have unlawful objective or illegal consideration ar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may be set out in sta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ntracts must be intended to cover a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tates agreements that unduly limit competition are prohib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3ED64F2E-406C-42AE-8C6E-3E0CB202B66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ve covenants permissible only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blic interest is not ha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s usually won’t enforce restrictive covenant against employees if it prevents earning a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B5A3B81C-E282-4E3F-AD62-D39D4665D7B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must intend legal consequences to result from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uld a reasonable person have thought he/she was entering into binding contr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969C172-A6FF-47F0-A965-0D3BAE4BFF5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mestic/So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er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ly reasonable perso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44188B07-3AE0-47F7-AE11-B2E0FA14B4B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ways good practice to put contract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bal contract often just as binding i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ment of writing varies by jurisdiction (i.e., set by stat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jurisdictions have electronic documents 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9E32F1F-7DE4-43E0-9F47-06B29A085A8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certain transactions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purchase of land, long-term leases, assuming responsibility for debt, contracts over one year, marriage contracts, sales of goods of certai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writing is required but absent, contract is unenfor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performance may satisfy requirement for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consistent with existence of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8A9C53F3-C951-4A60-BFE1-29AA475D65A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– a voluntary exchange of promises or commitments that are enforceable in our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law mostly developed in the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3FB2B02-E38E-4FE4-8CF1-C1E7846470B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ss of offer and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ome to a common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rms must be clear and un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66294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A070671-F92C-49F5-A9CC-4EEB5B61029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tative promise that contains the terms of the anticipated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itations to treat are not o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advertisements, catalogues,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must contain all important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, property, an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terms may also b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5215F94-46F1-483A-8DBD-6FEA9849389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verbal or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ommunicated at the time of entering the contract, not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on receipt, sign, or any way that it is brought to the attention of the other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9F7CF33-122E-4C91-8CE3-0527CE46B3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specific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ath or insanity of offe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vocation (if communic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nter-offer (acts as re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tion agreement – keeps offer open for a specifi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F648AA47-77C9-4681-8CE5-13323B14553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Form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bargain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mbiguities interpreted in favour of the party forced to accept th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ontroll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CD30E0B-10DE-4991-B855-1EA850FF2F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eptance – commitment by offeree to be bound by terms of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plete and un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dition of any terms = counter-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effective when and where commun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0:54Z</dcterms:created>
  <dc:creator>Client Name</dc:creator>
  <dc:description/>
  <dc:language>en-US</dc:language>
  <cp:lastModifiedBy>User</cp:lastModifiedBy>
  <dcterms:modified xsi:type="dcterms:W3CDTF">2012-04-24T16:08:42Z</dcterms:modified>
  <cp:revision>91</cp:revision>
  <dc:subject/>
  <dc:title>Slide 1</dc:title>
</cp:coreProperties>
</file>