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5033-5540-4395-8365-CABD51FD2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64CA-7E39-49AA-AA7E-0BBD742A3D08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E452C-420C-428A-86F2-7CDD27C1EF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C717C-F0FA-40E3-9FC9-BF96B422F3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597DD-4E28-4DBC-B1C1-880C4F3FE0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C817D-728E-448B-9CAA-C2E817D835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15274-CDF8-4A79-8906-B866A8EAFE6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0A160E-A297-4DCB-BEDB-4D0D6CA35B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DBDE45-1AEF-4425-9CB5-E223CE95AA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9D3094-ADC6-4962-83B9-EA64F97814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E7C95-4BEA-42B9-9508-D93EC1B0A49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E0AEF2-D218-4DA6-89DF-1194A6FF50F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C3E1A0-D897-4554-BA82-C55F325EAB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E199F-ECBB-40E8-A509-54F5622E1F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54E541-3E21-423A-B88B-BC56624937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64BDA5-3BE8-4B8A-8DE9-FA6B044624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18955D-0A81-468D-9F06-680812C2EE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3AAB90-910E-4F72-8105-C1ABD944D2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84FD0-4FF9-4CE0-B3C5-2CF5EFE476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D5F51-5B38-4A7D-A35B-17535DD217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98287-D406-445B-B9C8-4BC66F773A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AE04D-2173-4172-8E78-9EE8CCAB34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8EC61-308C-4B72-BEB6-8F2D3B28E7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807AE-8089-40D2-9DFE-6CC68BED81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5FB7A-B418-4F81-86C8-905D4F3C88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CA0D5-6A6A-418C-A25C-03D14A28B9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7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(c) 2013 Pearson Canada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F82832EC-B1E9-45A1-B3FD-86E07049B62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(c) 2013 Pearson Canada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(#) - </a:t>
            </a:r>
            <a:fld id="{F55F158D-E5BF-4E7B-9397-DE56754376A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5917D5F7-4D9E-42D8-BB91-17387D81A9F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12600" y="2590560"/>
            <a:ext cx="3354120" cy="33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pter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tion 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801720" y="457200"/>
            <a:ext cx="7542360" cy="1752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99920" y="5331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al Fundamental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Canadian Business </a:t>
            </a:r>
            <a:br>
              <a:rPr sz="4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rd E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371600" y="617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508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58436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5080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98" name="Picture 11" descr="yates_LegalFund_CRV.jpg"/>
          <p:cNvPicPr/>
          <p:nvPr/>
        </p:nvPicPr>
        <p:blipFill>
          <a:blip r:embed="rId1"/>
          <a:stretch/>
        </p:blipFill>
        <p:spPr>
          <a:xfrm>
            <a:off x="5029200" y="2362320"/>
            <a:ext cx="28954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17DB78E3-CAF7-473B-94AA-561CDBBA5BA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ptance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f specific form of acceptance required, must comply or acceptance inef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ilateral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ceptance is performance of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xample:  reward po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ilence is not usually accep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implied by con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0C666212-E374-430F-A09D-3E26AB6DB10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ptance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st-box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xception to rule that acceptance must be communi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here use of mail is a reasonable form of acceptance, acceptance is effective when and where p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lso applies to telegrams and possibly cour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es not apply to facsimile or e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629BE635-D99D-4D79-8B23-F34FD576B0F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nsid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n exchange of benefits i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be money, services, goods, prom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e-sided promises (gratuitous promises) are not enforce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ed not be reasonable, but benefit must be specif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2B14BDD5-75C7-49CB-A40B-413F72CFAD0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nsidera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be possible, legal, and of some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xception for services –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quantum merui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–must pay a reasonable amount for services requested and recei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f consideration has already been given, it cannot support a new contract (i.e. “past consideration is no consideration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AA73FD18-549A-4B2A-9839-9EDC7B27506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ideration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rties can change contract obligations, but all parties must receive “new” consid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atuitous promises not binding on promisor with some excep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aking less in full satisfaction of debt is binding by sta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Times New Roman"/>
              </a:rPr>
              <a:t>Promissory Estoppel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– reliance on gratuitous promise may be used as a defence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ith a seal, no need to establish consid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56BB928B-E62C-4D6D-BD06-9557DE610AD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Void/Voidable Contr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V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re never was a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oth parties are free from oblig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Vo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e party has the right to escape the contract; contract valid until this is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854DDFD5-AEFE-4126-8E73-DBDD202A9F3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Void/Voidable Contrac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57216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2D9FFD1C-32DE-4A34-BB32-CC695A0E444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fants – voidable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nyone under the age of major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ntract is binding on the adult, but not on the inf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ceptions in many provinces for necessities and beneficial contracts of service (but not in B.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f infant ratifies contract (in writing or by implication) after becoming an adult, he/she is b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fants liable for their own t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9088ECFA-A8B4-48D4-BF4F-F680E8324A3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sanity or intoxication - To escape a contract for non-necessit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You must show you were so insane/intoxicated that you did not understand transaction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ther party to contract knew or should have known of the insanity/intoxication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You must repudiate contract as soon as possible when sanity/sobriety is rega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2CDECF29-5228-4C01-986E-87DF867F4D0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tatutory bodies may have limited capa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.g., Crown corporations, municipalities, univers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oreign governments and represent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iplomatic i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tatus Indians under the curren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Indian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pacity is limited to some extent to protect from exploi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76985C4B-2ECB-44E3-8085-90C68AAF60E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the essential elements of a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the process by which consensus is rea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a valid offer and effective accep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the principle of consid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all the requirements of capacity and leg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the element of int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whether a written document is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9DF91D97-3C3E-42B6-8C5F-8D2E30A3E63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Leg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s that have unlawful objective or illegal consideration are v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egality may be set out in stat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surance contracts must be intended to cover a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Competition Ac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states agreements that unduly limit competition are prohib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137ED1E9-8961-482F-B6D7-6E40F09C572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Legality</a:t>
            </a:r>
            <a:br>
              <a:rPr sz="40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strictive covenants permissible only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asonable limit in ti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asonable limit in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ublic interest is not harm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urts usually won’t enforce restrictive covenant against employees if it prevents earning a li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1FD81889-8028-49D5-B75F-288B445E3A9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nt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rties must intend legal consequences to result from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ould a reasonable person have thought he/she was entering into binding contrac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9C04B199-7548-4574-A04D-FC94AF4E421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nten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esum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omestic/Social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 intention to be b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mmercial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tention to be b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rebut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pply reasonable person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00DDFA34-9137-4A8E-AD60-6E3BEF67D63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quirement of Wr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lways good practice to put contract in 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Verbal contract often just as binding in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quirement of writing varies by jurisdiction (i.e., set by statu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st jurisdictions have electronic documents a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398B14E1-343A-4CF6-9BA6-1FABBCABEE5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quirement of Writing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Statute of Frauds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requires certain transactions be wri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.g., purchase of land, long-term leases, assuming responsibility for debt, contracts over one year, marriage contracts, sales of goods of certain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hen writing is required but absent, contract is unenforce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performance may satisfy requirement for 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nly if consistent with existence of agre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1822D3DB-1345-4248-B414-F6352635A3D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ntr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 – a voluntary exchange of promises or commitments that are enforceable in our cou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 law mostly developed in the cou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me statutory modif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62C77D5F-3ED8-4D91-89CC-406B8E9B10B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nsens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ocess of offer and accep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rties come to a common understa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rms must be clear and unambig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662940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9573E7EC-C32E-4E3B-A17B-B3352BEDB4E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Off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ntative promise that contains the terms of the anticipated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vitations to treat are not off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st advertisements, catalogues, displ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fer must contain all important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ies, property, and pr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ther terms may also be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8D91AD2D-4289-48A5-933E-93F429B8A6C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Offer 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ed not be in 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verbal or implied by con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xemption clauses must be communi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be communicated at the time of entering the contract, not l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on receipt, sign, or any way that it is brought to the attention of the other pa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76684599-2ED6-4A53-84E3-E49510B4E44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End of Off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nd of specific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nd of reasonable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ath or insanity of offe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vocation (if communica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j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unter-offer (acts as rejec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tion agreement – keeps offer open for a specified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CF06EAF0-2BB0-4D39-9F72-18DB316A4A2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tandard Form Contr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 bargaining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mbiguities interpreted in favour of the party forced to accept the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be controlled by sta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3 - </a:t>
            </a:r>
            <a:fld id="{1CDA546C-8D83-421E-9396-AFA914C7A30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ccep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ceptance – commitment by offeree to be bound by terms of o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be complete and un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ddition of any terms = counter-o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be communi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tract effective when and where communic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1T04:40:54Z</dcterms:created>
  <dc:creator>Client Name</dc:creator>
  <dc:description/>
  <dc:language>en-US</dc:language>
  <cp:lastModifiedBy>User</cp:lastModifiedBy>
  <dcterms:modified xsi:type="dcterms:W3CDTF">2012-04-24T16:08:42Z</dcterms:modified>
  <cp:revision>91</cp:revision>
  <dc:subject/>
  <dc:title>Slide 1</dc:title>
</cp:coreProperties>
</file>