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6519-1394-4BB8-97EE-31C04E4AA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881E-5B78-461F-9BC4-78F31F38B6BC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D0ED-7CAE-4C71-BC7A-B5538ECB0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8015-1F36-436F-AA7A-30D16389F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2220-C2CC-4CAC-9202-85FEF6D60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A6A8-E80F-479C-8F3A-9E2CDC2BA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802E3-F4C7-446F-8D67-85BB3F4856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F6752-25DB-4485-A3EC-2622692593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34DBB-D378-49CA-B9E9-ED42DB2ADE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CBE7F-1768-4508-860C-6640680C55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9F01F-2287-47BB-A19F-7190AD2C87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C675E-21D5-4F71-8125-B700A858E7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A8C42-18F1-4B42-8732-6A89EC1FA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6D33-B5BA-4600-977E-0B2351819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253A7-FC3B-4358-A177-FBF8F907A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36F9C-DB99-4110-A1DF-4D9358ADDA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AA180-0D77-4BAF-9C70-2D5B8BDC68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5AD5A-2739-44BA-BA45-813BE499AA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60E3A-CF3E-4EF8-AFC5-D965C2195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A54A-D503-4E6D-BE11-9A0A4EAAE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D617-C78F-4511-A919-76F395A40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48AC-28F6-4CC2-BA90-646643A13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1E27-E134-4B1C-91D9-0E6AB4EEA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0AB5-0697-461C-8DFB-87051B54E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5F73-E7AE-402A-9C2B-7B6926862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454C-F08C-4C66-AAA2-91D9127C3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4149E3E-121B-4D80-8703-3445E3876CF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C0E30B1-8A9F-4ED1-9F49-CB80E67F41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353A91A-128F-4389-AF1E-6919CA4FD89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181480" y="2670120"/>
            <a:ext cx="2895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D486913-919E-4509-BBC7-2694A016DCA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brought to attention of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found in standard-form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 an unequal bargaining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C5E2125-E805-4D36-9C77-A0213C5BCE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alse and misleading statements that induce a person to enter into a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 term of contract, can sue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tatement of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ement of opinion actionable if made by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generally not misrepresentation, unless duty to disclose (duty of good fai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998BC27-EC3B-4DC9-9FFC-378947CC93A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noc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leading another without knowing or being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remedy is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goods destroyed or not available, no other remedy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erson claiming resc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contract affi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B20A39F-0073-473B-A23A-B9BD802A5D5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audul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and knowingly misleading another to induce him/her to enter into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ade innocent misrepresentation, and later learn it is false, but fail to correct it, it becomes fraudu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punitive damages in extre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sue for innocent or negligent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9899ABF-0810-4DC3-AAAA-343782F6A3B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person making misrepresentation should have known what he/she was saying was false, he/she was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5B768FD-023F-40F7-B0F1-837EF02135F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iminal Fra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fic provisions of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deal with fraudulent activity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. 361-365 prohibit knowingly making false representations intended to induce someone to act on the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ections deal with specific areas of fraud including the falsification of employee records, books, and other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C8903E3-242C-4F95-B46B-91A92CE6E84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tering into a contract because of coe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be violence, financial pressure, scand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against you, your family, your property, o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s usually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also be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5F7D956-149A-4AF3-98FB-AFC5AE2AF28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due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use of trus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ed in certai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yers, doctors, trustees, guardians, religious advisors, adults with infant children, adult children with aging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 b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ave to prove in other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E9B6610-D14B-4A8D-A8C7-97D3D5B57B7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conscio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aking advantage of vulnerable person’s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poverty, mental impairment (short of in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rgaining positions of parties are un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grossly unfair to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can set aside or modif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regulat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B35672A-EAAB-4C63-90D5-8541D39C8FE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the parties to a contract are bound to it or may enforc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ests in land bind subsequent owners of th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usts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295824D-5256-4B99-8B7B-4CDD1FB4A2E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vents that can bring a contract to an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various mistakes that can end or otherwise affect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four forms of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effects of duress and undue influence on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3309AD8-77D5-4CB5-95AF-6347B6C6B07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s acting for princip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never a party, so no privity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taking over obligations of another in a contract; no privity issues as new contrac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clauses often extended to employees, thus ignoring pr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323108A-8CC8-473E-8F24-9715D3BD805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nsferring a benefit under a contract to a third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553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F6ED05F-E076-4273-A8A3-BDF0FF618D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assignor and assignee must join together to sue if debtor fails to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assignment allows assignee to sue directly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absolute (complete and uncondi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in wri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per notice was given to deb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75828B9-0BBE-430D-826C-E8C05B1EBC4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only assign the benefits, not the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takes assignment “subject to the equ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cannot be in a better position than the assig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175416B-0B5F-4D73-9170-886E312025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olled by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ills of Exchang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eely transferable from party to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nocent third party (called 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may enforce a negotiable instrument against the person who mad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lude promissory notes, cheques, and bills of exchange (ak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draft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06940FA-F1E7-4A51-AADC-5A50986FDB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missory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promises to pay another a certain sum of money at some future date or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73818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A14508C-0018-46FE-8116-1275515DC17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er orders bank to pay a certain sum of money to a third party (th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aye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r>
              <a:rPr b="0" lang="en-CA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0866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80A24AD-91FD-4783-B1EE-6E6E976958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ll of ex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an order to any person or business to pay money to someone either now or at a futu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81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585393D-407B-420D-B108-43827A6B4C7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ocent third party who acquires possession of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collect whether original obligations me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instrument is endorsed, that person can also be held liable for amount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CC41AAB-3754-44B4-8839-1AA26D02236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harge of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37773CA-FE58-4E33-A349-0F6A272F791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lications of privity and assignment for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a contract can be breached or otherwise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remedies that are available for breach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isk-reduction strategies when forming or ending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125C4ED-28C7-4CCB-A68F-015E92403C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parties have performed as required under the contract, it is discha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s - maj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contract ends (if other party wants to end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rranties - min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obligation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seek damages from breaching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7A456F4-DFE8-40C0-AB97-38F638D69B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all obligations have been fulfilled,  but a condition is breached in a mino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compensation for small part rem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requires payment, must be cash unless otherwis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mits on coinage se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urrency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5EC0BB2-768F-4231-81DE-F476D917EC9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der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dy, willing, and able to perform; other party refuses to accep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has been breached by refusal; performance no longer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bt treated differently – if party refuses to accept payment, money is still owed but debtor must seek payment and bear all costs of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E6BEC33-2518-48FB-A8CF-D251D40C07F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omplete or improper performance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udiation – breach by refusal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– repudiation before performance is due gives victim two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at contract as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inue to dem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CA25D73-87D0-4C6F-8DC5-5C5087EC797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is treated as ended, victim may sue for breach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demands performance, unexpected events may discharge both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of repudiation does not perform during waiting period, he/she will be in b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oice of remedy is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C3B922A-63F9-4C31-B12A-4005439186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attempt to lessen liability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rrowly interpreted by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undamental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each of very esse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emption clauses can still apply if properly w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cases, a breach of contract can be a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90FEAB1-E31B-4F70-BCF5-F123CAAE08F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utside, unforeseen event that is out of the control of either party and renders contract either impossible to perform or completely different than what parties contemp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used by things such as illness, destruction of subject matter, government actions, natural dis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0113DCC-2E5C-46C0-B84F-CCF8EF8C1B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ffect used to be “let the loss lie where it fal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jurisdictions now have legislation that require payment for benefits received and the return or apportionment of any 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D28C74B-73D2-4E95-B2B3-877716B3401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modify or end a contract by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elements of contract must be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impose change on the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ach side must receive new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just relieving each of his/her remaining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ly one side relieved, change is not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F4EED8C-AAD2-4EC1-BD80-EC7B731764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tself may contain conditions for changing or ending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precedent - Contract begins only if conditions are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subsequent - Terms in contract specify when continuing obligations will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483C36F-4DC9-4036-B36A-8618B795BA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isp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revolve a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existence of the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onduct of the parties at time of negotiating th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ance of obligations under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25A1C3A-6939-4889-8672-F2DC4486D71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turning parties to original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ensation to attempt to put victim in position he/she would have been in if contract properly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times includes emotional stress or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E6E7C15-1F77-4EB6-8DA3-0028F39AAF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quidated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 in contract to limit da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mount forfeited as pre-estimate of dam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n paym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payment of purchase price; not meant to be forfe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46E21E0-31B6-4BB9-8C99-BC59E2DB744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ust mitigat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must be reasonably foreseeable at time contract enter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available if damages not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arty cla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innocent third party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2447FB9-7B52-4EA0-93AC-67D4BA1A3B6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breaching party to perform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subject matter of contrac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a person to stop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6BF03D3-F173-4446-8034-FE898567F24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close financial records and dea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profits of wrongdoing to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a reasonable price for services ren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49A81F9-EC26-4945-8FF4-4B1C2983F8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parties have a different understanding of terms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ar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have made same mis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only in recording the terms, may ask court to rectify (correct)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1FB7C23-68B2-486B-AB13-1CA82306C8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 different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will imply most reasonable interpretation and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both interpretations equally reasonable, 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99653BD-7D5F-43F5-B13F-0190A4928D4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has no effect 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aveat emptor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let the buyer bew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if different understanding is a result of misrepresentation would it be actio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89EAB81-A501-4FB3-94BB-B140139E75E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mistake as to nature of document signed, contract may b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Non est factum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It is not my 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as to nature of document due to carelessness, claim is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s and words given “reasonable mea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ustry usage for special or 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EDABFF4-4B1A-419A-B999-12AA34D9B7E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known as exculpatory, exclusion, or limit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ttempt to limit or eliminate liability for one party to th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e to one-sided nature, courts 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 narrowly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ainst the favoure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4:35Z</dcterms:created>
  <dc:creator>Client Name</dc:creator>
  <dc:description/>
  <dc:language>en-US</dc:language>
  <cp:lastModifiedBy>User</cp:lastModifiedBy>
  <dcterms:modified xsi:type="dcterms:W3CDTF">2012-04-24T16:13:26Z</dcterms:modified>
  <cp:revision>148</cp:revision>
  <dc:subject/>
  <dc:title>Slide 1</dc:title>
</cp:coreProperties>
</file>