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5E48D-C98F-495A-A036-7FF59FBE2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7F679-124A-46BB-812D-DDE48B66DE31}" type="slidenum">
              <a:rPr b="0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F9DEF-2AAE-420C-A063-D396F80406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EDCA4-E7FA-41DB-B2ED-63DEE33A6E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194BB-F4E2-4F3C-8FD9-C3373F95F1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B9052-559E-48C3-A1EF-0D8F2DD043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1F15D7-CA20-431D-9964-9D0EE4626C4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9997B4-AC59-4CCD-A764-6FD8991FFA3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448362-C5EB-4EEC-9669-9249D1530E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892671-7CFC-464B-BDCC-1E781342AAC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C3794B-BA07-464D-8E13-BCD8B5DF9A2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E666F1-EF15-4986-BEB0-721D965EE5C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87E860-42C9-4D82-BC4A-7BA8B85BD9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8465F-439E-43D5-BBB9-CAE64E717F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FE5A7C-6DE6-4CA1-BDC0-0493250BD71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CA7C07-9A01-4674-8DCF-D435CD32C2F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954C1D-6FEB-4007-A2F1-476E0D101AB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33946B-3410-47C1-A747-22991420FCD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40EEB2-31B6-41A2-8961-3BB0EAFE70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250AC-FC0A-4D4E-872C-D4438A0107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9A5CF-7FA7-4B1D-8950-DE2BCD0522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1B9BE-D51C-4FE7-93EF-7B6BBEDB60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E8147-2C4F-41B7-A9AB-4C5A616417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CFF91-17AB-47C1-BF0B-5EF6221199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87308-BD50-4641-BD3E-44A3E5F972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80664-12DF-4616-A925-624D0B7663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8" descr="Pearson_WebBar_Top_Blue_RGB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76320" y="6552720"/>
            <a:ext cx="266688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(c) 2013 Pearson Canada Inc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15292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E3DD3AC0-3E8E-4FD4-A1BE-39406F22091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Pearson_WebBar_Top_Blue_RGB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76320" y="6552720"/>
            <a:ext cx="266688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(c) 2013 Pearson Canada Inc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815292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5D86F08E-21A4-4EA1-B089-E1218CD0F9A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31DD2455-07FE-43BB-A038-EBDF32A9161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912600" y="2590560"/>
            <a:ext cx="3354120" cy="33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apter 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forc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actua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Oblig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801720" y="457200"/>
            <a:ext cx="7542360" cy="175248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99920" y="53316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gal Fundamental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r Canadian Business </a:t>
            </a:r>
            <a:br>
              <a:rPr sz="40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ird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371600" y="6172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050840" y="606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1584360" y="598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1508040" y="606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98" name="Picture 11" descr="yates_LegalFund_CRV.jpg"/>
          <p:cNvPicPr/>
          <p:nvPr/>
        </p:nvPicPr>
        <p:blipFill>
          <a:blip r:embed="rId1"/>
          <a:stretch/>
        </p:blipFill>
        <p:spPr>
          <a:xfrm>
            <a:off x="5181480" y="2670120"/>
            <a:ext cx="28958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D7DAEFE1-128B-4578-B6EE-78D75F65314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Exemption Clause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st be brought to attention of other pa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sually found in standard-form contra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reate an unequal bargaining 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89AF6F79-4102-4E69-B915-24BB767A504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Mis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alse and misleading statements that induce a person to enter into a cont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f a term of contract, can sue for bre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st be statement of f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tatement of opinion actionable if made by exp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ilence generally not misrepresentation, unless duty to disclose (duty of good fait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33CA5FCE-0FC1-4195-8CDE-A09CE3D21AB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Innocent Mis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isleading another without knowing or being carel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nly remedy is resc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goods destroyed or not available, no other remedy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ot available if any wrongdoing by person claiming resc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ot available if contract affirm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B1BAF98F-D8F0-4F34-AD10-4481B7B64FC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Fraudulent Mis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ntionally and knowingly misleading another to induce him/her to enter into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Victim may seek rescission, damages, or bo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made innocent misrepresentation, and later learn it is false, but fail to correct it, it becomes fraudul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seek punitive damages in extreme 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ier to sue for innocent or negligent misre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0252F1E6-1F4F-40A7-8E66-21ACD4D58BB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Negligent Mis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f person making misrepresentation should have known what he/she was saying was false, he/she was carel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Victim may seek rescission, damages, or bo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00BBCA54-6D88-44CA-8E3C-588F999D775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riminal Frau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ecific provisions of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Criminal Code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deal with fraudulent activity – 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. 361-365 prohibit knowingly making false representations intended to induce someone to act on the re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ther sections deal with specific areas of fraud including the falsification of employee records, books, and other doc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1409E1F3-08B0-4520-8D40-1E97819E0FF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Dur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ntering into a contract because of coer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reats may be violence, financial pressure, scandal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y be against you, your family, your property, or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tract is usually vo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reats may also be criminal off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01E9A236-4B11-445F-B2AD-101200EED19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Undue Influ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buse of trust relation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tract vo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resumed in certain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awyers, doctors, trustees, guardians, religious advisors, adults with infant children, adult children with aging par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be rebutted b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y have to prove in other situ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91E33463-29A7-4FEA-B487-8CD2FE05DB9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Unconscion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aking advantage of vulnerable person’s sit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.g., poverty, mental impairment (short of incapac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argaining positions of parties are uneq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tract grossly unfair to vict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urt can set aside or modify cont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lso regulated by sta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D1053767-9024-4FA9-A5D7-7491261FD5C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r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nly the parties to a contract are bound to it or may enforce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xce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ests in land bind subsequent owners of the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rusts – beneficiaries may enfo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ife insurance – beneficiaries may enfo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me statutory exce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A2DBF6A1-0295-4E83-B304-857BAA113B6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the events that can bring a contract to an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the various mistakes that can end or otherwise affect a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four forms of misre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ain the effects of duress and undue influence on a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923E2FEF-DD25-4E43-AB7B-0AA7702A9AA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rivity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gents acting for princip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gent never a party, so no privity iss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ne person taking over obligations of another in a contract; no privity issues as new contract is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mploy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tract clauses often extended to employees, thus ignoring pr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29115D99-BF4A-4E8E-87E9-86570ACFDF7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Assig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ransferring a benefit under a contract to a third par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295280" y="2971800"/>
            <a:ext cx="6553440" cy="25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A7673181-E416-46EE-98B4-7B0F7B391F3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Assignment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sually assignor and assignee must join together to sue if debtor fails to p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tatutory assignment allows assignee to sue directly i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signment is absolute (complete and uncondi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signment is in wri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roper notice was given to deb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BC8D9AF4-4CA9-410D-BD87-0B4C0E7FD02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Assignment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y only assign the benefits, not the oblig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ssignee takes assignment “subject to the equiti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ssignee cannot be in a better position than the assign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D3045B23-2644-48EC-A009-CFF9B1F09E7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Negotiable Instru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trolled by federal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Bills of Exchange 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reely transferable from party to par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nocent third party (called a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holder in due course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) may enforce a negotiable instrument against the person who made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clude promissory notes, cheques, and bills of exchange (aka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drafts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C5A58D61-4518-41CF-BBDE-0EA8F88A6B9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Negotiable Instrument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romissory n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ne person promises to pay another a certain sum of money at some future date or on de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219320" y="3809880"/>
            <a:ext cx="7381800" cy="15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67EE2E62-56F0-4FB4-A592-7D4E316F88F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Negotiable Instrument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he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rawer orders bank to pay a certain sum of money to a third party (the </a:t>
            </a: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payee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) on de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(Continued)</a:t>
            </a:r>
            <a:r>
              <a:rPr b="0" lang="en-CA" sz="2400" spc="-1" strike="noStrike">
                <a:solidFill>
                  <a:srgbClr val="cc00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066680" y="3581280"/>
            <a:ext cx="708660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71A5773F-AA24-4354-A91D-E30E6E31C2C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Negotiable Instrument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241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ill of exchan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241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y be an order to any person or business to pay money to someone either now or at a futur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241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241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241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241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241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3333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219320" y="3581280"/>
            <a:ext cx="678168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45C9060B-C63A-4C9D-AABE-51E49B40F5A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Negotiable Instrument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older in due cou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nocent third party who acquires possession of instru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ight to collect whether original obligations met or 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instrument is endorsed, that person can also be held liable for amount ow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FEAD6ED2-3425-4ED6-9D5F-850B1421F96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harge of Contr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792504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DF662091-499A-47EA-B324-E28B11F548F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Objective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the implications of privity and assignment for a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how a contract can be breached or otherwise en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 the remedies that are available for breach of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ize risk-reduction strategies when forming or ending a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CC940603-F705-4AB4-A3BD-98FA2513EF0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nce parties have performed as required under the contract, it is dischar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ditions - major terms of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f breached, contract ends (if other party wants to end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arranties - minor terms of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f breached, obligations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y seek damages from breaching pa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5B6ADC3D-3BBC-4C5E-B47E-8FC29B4F6FE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bstantial 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ubstantially all obligations have been fulfilled,  but a condition is breached in a minor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seek compensation for small part rem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contract requires payment, must be cash unless otherwise specif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mits on coinage set under </a:t>
            </a:r>
            <a:r>
              <a:rPr b="0" i="1" lang="en-CA" sz="2400" spc="-1" strike="noStrike">
                <a:solidFill>
                  <a:srgbClr val="000000"/>
                </a:solidFill>
                <a:latin typeface="Times New Roman"/>
              </a:rPr>
              <a:t>Currency 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BA7A5292-CAA9-44F0-AB7B-F8DC859890E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br>
              <a:rPr sz="40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nder of 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ady, willing, and able to perform; other party refuses to accept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tract has been breached by refusal; performance no longer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ebt treated differently – if party refuses to accept payment, money is still owed but debtor must seek payment and bear all costs of 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9797D0D2-24DA-484B-8E01-6113E9060F4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Bre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complete or improper performance of cont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pudiation – breach by refusal to per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nticipatory breach – repudiation before performance is due gives victim two o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reat contract as breac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tinue to demand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4460CF4A-7C61-41B6-BB4B-5BE60615020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Breach</a:t>
            </a:r>
            <a:br>
              <a:rPr sz="40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nticipatory breach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contract is treated as ended, victim may sue for breach immediat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victim demands performance, unexpected events may discharge both pa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victim of repudiation does not perform during waiting period, he/she will be in bre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hoice of remedy is b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16DF400D-936C-4FBC-84EF-DCE2E7AE2FE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Breach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xemption clauses attempt to lessen liability for bre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arrowly interpreted by cou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undamental bre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reach of very essence of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xemption clauses can still apply if properly wor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 some cases, a breach of contract can be a criminal off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931F019B-F416-487D-88CD-CDC8DB3B6BB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Fr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utside, unforeseen event that is out of the control of either party and renders contract either impossible to perform or completely different than what parties contempl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aused by things such as illness, destruction of subject matter, government actions, natural disas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C91BCB0A-E03A-4798-AD43-9A0C56C9185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Frustration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ffect used to be “let the loss lie where it fall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ll jurisdictions now have legislation that require payment for benefits received and the return or apportionment of any depos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639C4327-D9FC-4DC7-B0D0-808496565FF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Agre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y modify or end a contract by agre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ll elements of contract must be pre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annot impose change on the other pa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ach side must receive new consid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be just relieving each of his/her remaining du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only one side relieved, change is not b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83F12FE3-6F87-4538-B2B2-8E92832DDA2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Agreement</a:t>
            </a:r>
            <a:br>
              <a:rPr sz="40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tract itself may contain conditions for changing or ending oblig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dition precedent - Contract begins only if conditions are m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dition subsequent - Terms in contract specify when continuing obligations will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AA7021D0-C2BB-4E1A-9885-4C70144679F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Disp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y revolve arou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existence of the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conduct of the parties at time of negotiating the agre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erformance of obligations under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7D15EA75-363D-4FB6-B4FE-83D6816B377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Remedies for Bre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sc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turning parties to original pos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am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mpensation to attempt to put victim in position he/she would have been in if contract properly perform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metimes includes emotional stress or p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508893A2-26DA-41C5-B821-8C5336843EF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Remedies for Breach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iquidated dam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erm in contract to limit da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pos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mount forfeited as pre-estimate of damag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own payment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rst payment of purchase price; not meant to be forfei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CD8CB57D-10E2-4FC7-AC84-CEE7D1CCCD5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Remedies for Breach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Victim must mitigate l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amages must be reasonably foreseeable at time contract entered i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quitable reme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nly available if damages not su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ot available if any wrongdoing by party clai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ot available if innocent third party aff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61EA2C55-39C9-41C8-8DCC-47DBDD25B3D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edies for Breach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quitable remedies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pecific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Requires breaching party to perform con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nly if subject matter of contract un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j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Requires a person to stop doing some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B3AF5EF5-6C12-47DA-9534-DE69D7DDA65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Remedies for Breach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quitable remedies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coun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sclose financial records and deal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ay profits of wrongdoing to vict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Quantum meru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ay a reasonable price for services rend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80AA4FA3-EA7B-4BBE-84CE-16DF5BEC3FC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Mistak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hen parties have a different understanding of terms of cont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hared mist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oth parties have made same mist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tract void for lack of consens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mistake only in recording the terms, may ask court to rectify (correct) agre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75AD8394-93CD-4CEC-8B6D-32C49738901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Mistake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isundersta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ach party has a different understa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urts will imply most reasonable interpretation and enfo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both interpretations equally reasonable, contract void for lack of consens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2376D88B-12A4-4ADB-AB3B-E989D584D60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Mistake</a:t>
            </a:r>
            <a:br>
              <a:rPr sz="40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ne-sided mist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sually has no effect on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Caveat emptor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(let the buyer bewa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nly if different understanding is a result of misrepresentation would it be action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196A7D53-4899-4B52-9AC4-6CFA718041F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Mistake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f mistake as to nature of document signed, contract may be v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Non est factum 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It is not my a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mistake as to nature of document due to carelessness, claim is ineff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tract Interpre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erms and words given “reasonable meaning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dustry usage for special or technical t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0354F4D2-D6AE-4BF7-9AE5-323D0448321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Exemption Clau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lso known as exculpatory, exclusion, or limitation cla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ttempt to limit or eliminate liability for one party to the cont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ue to one-sided nature, courts interpr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s narrowly as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gainst the favoured pa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1T04:54:35Z</dcterms:created>
  <dc:creator>Client Name</dc:creator>
  <dc:description/>
  <dc:language>en-US</dc:language>
  <cp:lastModifiedBy>User</cp:lastModifiedBy>
  <dcterms:modified xsi:type="dcterms:W3CDTF">2012-04-24T16:13:26Z</dcterms:modified>
  <cp:revision>148</cp:revision>
  <dc:subject/>
  <dc:title>Slide 1</dc:title>
</cp:coreProperties>
</file>