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3929-7700-4867-8546-1001DC96E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F896-73CA-4D0B-9B1D-1913942B81ED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F4183-4AD3-4658-B0D3-0D9795B2B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5473B-F9BC-4440-9AE5-3D3B35075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B5FCB-43A0-4626-87BF-08E5CAB9B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45182-A886-449A-BF39-8F8002C47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3C408-2D2B-47D2-861E-D5100ED608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60325-9574-4411-A07B-62B0EA0C67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A1ACC-5B8E-4710-93FD-F1ABC1A0D5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06B64-8CF1-4FE1-A46D-9BE19F05C3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641F6-F77E-4841-92E9-B91A449B39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B8D5C-84E2-4B32-B6BD-E44D2024C1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24ECF-27A8-438A-88DD-E155D83BB2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9C5EE-5DA6-4332-A8BF-1E2139B3E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94730-FC4F-40AF-959F-AB33665E3B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3DC1A-0DA7-442A-95CD-0E62134FAD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A02FD-EC38-484D-A6B3-DE92F33F67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C22B1-A739-4E11-AE18-8F3311BE84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EE049-0CC0-437D-A7B6-93A2C17261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8DA4D-997F-46E2-9C04-1354551F6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D15DE-2438-45CD-ADA5-27B1533E7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3FEBE-1192-40E4-89A5-887148581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4F165-0045-44DA-BDA0-E2F392D02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12F6A-C1D5-4476-A234-26C968CAB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4BC81-30F4-4ADA-9B1E-0EE48E9EA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FAB2D-422D-4FAC-8238-C524B5BE2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EDF9C297-56F5-4225-A248-45C9E4082FE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A7F9C05A-6479-4DDE-81F5-4335617A4F0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0C2384C0-6C92-467E-A318-D1363C50E00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for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blig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181480" y="2670120"/>
            <a:ext cx="28958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76DB516-3F05-466B-90C2-5FC73BBCB72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xemption Claus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brought to attention of other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ually found in standard-form contr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ate an unequal bargaining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B198F762-AA83-4174-8BF3-C9CBA39C782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alse and misleading statements that induce a person to enter into a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a term of contract, can sue for b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statement of f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atement of opinion actionable if made by exp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ilence generally not misrepresentation, unless duty to disclose (duty of good fai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446A32F3-B71C-4C57-A6B6-1203A5EB740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nocent 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isleading another without knowing or being ca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remedy is resc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goods destroyed or not available, no other remedy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any wrongdoing by person claiming resc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contract affi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8D1D48D-3F1F-47A6-9BC9-3FE96CA7226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raudulent 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ntionally and knowingly misleading another to induce him/her to enter into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ictim may seek rescission, damages, or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made innocent misrepresentation, and later learn it is false, but fail to correct it, it becomes fraudu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seek punitive damages in extrem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er to sue for innocent or negligent mis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C7F85E16-E06D-46CE-8933-C85BC0F1DB4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ligent Mis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person making misrepresentation should have known what he/she was saying was false, he/she was car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ictim may seek rescission, damages, or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7142FC0-DFB4-4B66-A866-0D51A8B1810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riminal Fra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ecific provisions of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riminal Cod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deal with fraudulent activity –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. 361-365 prohibit knowingly making false representations intended to induce someone to act on the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sections deal with specific areas of fraud including the falsification of employee records, books, and other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B881F129-3807-425A-95D5-06EF4C3ED07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u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tering into a contract because of coer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reats may be violence, financial pressure, scanda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against you, your family, your property, or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is usually vo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reats may also be criminal of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94D0D067-A3FD-438E-B321-6B63AC77CD0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Undue Influ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buse of trust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voi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esumed in certain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wyers, doctors, trustees, guardians, religious advisors, adults with infant children, adult children with aging pa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rebutted b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have to prove in other sit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415F6097-64E7-4813-96FF-D72021075DE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Unconscion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aking advantage of vulnerable person’s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poverty, mental impairment (short of incapac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rgaining positions of parties are uneq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grossly unfair to vict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 can set aside or modify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so regulated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4CC2D7A8-24A9-4E6F-93F6-C005418D21D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the parties to a contract are bound to it or may enforc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ests in land bind subsequent owners of the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usts – beneficiaries may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fe insurance – beneficiaries may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statutory exce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5B24FC1-7744-4F1D-9871-B1A258C3363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the events that can bring a contract to an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various mistakes that can end or otherwise affect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four forms of mis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effects of duress and undue influence on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63D2BFB0-B72C-4A66-9CCB-01BB1AE4F30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ents acting for princip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ent never a party, so no privity 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e person taking over obligations of another in a contract; no privity issues as new contract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clauses often extended to employees, thus ignoring pr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4E14A721-2424-46E6-910B-9096ABDF518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nsferring a benefit under a contract to a third par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655344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595039B-89BC-49B4-9BED-BF1FF09D7AF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assignor and assignee must join together to sue if debtor fails to p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ory assignment allows assignee to sue directly i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ignment is absolute (complete and uncondi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ignment is in wri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per notice was given to deb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4F27F3A7-C3A5-4225-A666-274DBE19173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only assign the benefits, not the obl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ssignee takes assignment “subject to the equiti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ssignee cannot be in a better position than the assign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CBD80289-264A-4B91-B7BB-E91D4BE4B70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olled by 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Bills of Exchange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reely transferable from party to par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nocent third party (called a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holder in due cours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) may enforce a negotiable instrument against the person who mad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clude promissory notes, cheques, and bills of exchange (aka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drafts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0B1DA0AF-2088-42D3-8A11-33A2F33E324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missory n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e person promises to pay another a certain sum of money at some future date or on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3809880"/>
            <a:ext cx="738180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9E384C26-282C-4B29-B615-BF76BD06B23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he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rawer orders bank to pay a certain sum of money to a third party (the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paye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) on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r>
              <a:rPr b="0" lang="en-CA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70866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670ECCBE-7BAF-4C20-96D8-A9AD7ACEDF5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ll of exchan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be an order to any person or business to pay money to someone either now or at a futur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2416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3333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67816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4F90CB24-4AB6-4C48-9C86-D5D288D99CC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Negotiable Instrum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older in due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nocent third party who acquires possession of instr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ight to collect whether original obligations met or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instrument is endorsed, that person can also be held liable for amount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FE246E6C-6D1F-4B47-8DC0-CF649B20C67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harge of Contr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250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A7666775-219E-46CC-AAB6-6C5D30C9A47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implications of privity and assignment for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how a contract can be breached or otherwise 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remedies that are available for breach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ze risk-reduction strategies when forming or ending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29542CA4-9173-41E7-8A92-02E87D62065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parties have performed as required under the contract, it is dischar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itions - major terms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breached, contract ends (if other party wants to end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arranties - minor terms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breached, obligations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seek damages from breaching p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EA9BFF02-DB36-439C-8762-8856E548059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stantial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bstantially all obligations have been fulfilled,  but a condition is breached in a minor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seek compensation for small part rem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contract requires payment, must be cash unless otherwise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mits on coinage set under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Currency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8875BD98-B632-43F3-88B8-16C9DD3EF2E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der of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ady, willing, and able to perform; other party refuses to accep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has been breached by refusal; performance no longer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bt treated differently – if party refuses to accept payment, money is still owed but debtor must seek payment and bear all costs of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F13ED740-8A83-48FE-8145-33089791305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complete or improper performance of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pudiation – breach by refusal to per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icipatory breach – repudiation before performance is due gives victim two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eat contract as b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inue to deman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362464B5-88F2-4920-A64D-703932603DE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reach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icipatory breach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contract is treated as ended, victim may sue for breach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victim demands performance, unexpected events may discharge both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victim of repudiation does not perform during waiting period, he/she will be in b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oice of remedy is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8CAB577-39D8-4D19-B0CD-D628765A867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emption clauses attempt to lessen liability for b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arrowly interpreted by cou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undamental b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reach of very essence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emption clauses can still apply if properly wor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 some cases, a breach of contract can be a criminal of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04931B86-2F7A-42EB-9103-D8BB52F2CD7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r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utside, unforeseen event that is out of the control of either party and renders contract either impossible to perform or completely different than what parties contemp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used by things such as illness, destruction of subject matter, government actions, natural disa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BAB14019-E742-4A5B-8A58-962F490E470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rustr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ffect used to be “let the loss lie where it fall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l jurisdictions now have legislation that require payment for benefits received and the return or apportionment of any depos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8A07E761-A2AA-460D-A08D-42DE9382466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re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modify or end a contract by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l elements of contract must be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not impose change on the other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ach side must receive new consi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just relieving each of his/her remaining du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only one side relieved, change is not b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2F92716E-CA9A-4090-A1F8-ACE4137774F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reement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itself may contain conditions for changing or ending obl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ition precedent - Contract begins only if conditions are 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dition subsequent - Terms in contract specify when continuing obligations will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F0EED2C1-FEE7-4D3A-BAAA-792AAD543A2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isp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revolve arou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existence of the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conduct of the parties at time of negotiating th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erformance of obligations under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F30AE917-77FE-480A-B2A5-CE8F58F9CB5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c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turning parties to original 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ensation to attempt to put victim in position he/she would have been in if contract properly per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times includes emotional stress or p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E4BAAE49-7E36-4C47-A63C-2B87E1C1C5D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quidated 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 in contract to limit da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mount forfeited as pre-estimate of dam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wn payment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payment of purchase price; not meant to be forfe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CB0B23BB-3825-42D7-9D5B-5E8DE66AEBA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ictim must mitigate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s must be reasonably foreseeable at time contract entered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y available if damages not su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any wrongdoing by party cla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available if innocent third party aff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9388529D-4E07-410F-86C0-D04BEFA1C0F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pecific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quires breaching party to perform 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nly if subject matter of contract u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j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quires a person to stop doing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68DAAB0B-8DD5-42F9-B164-7A7CB15E68F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medies for Breach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quitable remedie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sclose financial records and dea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ay profits of wrongdoing to 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Quantum me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ay a reasonable price for services ren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2F59E9AD-45A0-41CE-BFB3-6371ED252ED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n parties have a different understanding of terms of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hared mis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oth parties have made same mis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void for lack of cons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mistake only in recording the terms, may ask court to rectify (correct)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BEE8C46C-F9AF-4F33-BB2D-B865453DEE9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is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party has a different 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s will imply most reasonable interpretation and en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both interpretations equally reasonable, contract void for lack of cons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E69D99A-43F9-47EA-8C8D-EC511167B93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e-sided mis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has no effect on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Caveat emptor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(let the buyer bewa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y if different understanding is a result of misrepresentation would it be actio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14202211-FF7F-4356-9183-7CF852965FC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istak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mistake as to nature of document signed, contract may be v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Non est factum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It is not my 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mistake as to nature of document due to carelessness, claim is in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s and words given “reasonable meaning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dustry usage for special or technical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1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4 - </a:t>
            </a:r>
            <a:fld id="{54DE2215-3123-43D9-8DBA-7E48C5B0D1A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xemption Cla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so known as exculpatory, exclusion, or limitation 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ttempt to limit or eliminate liability for one party to the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e to one-sided nature, courts interpr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s narrowly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ainst the favoured pa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54:35Z</dcterms:created>
  <dc:creator>Client Name</dc:creator>
  <dc:description/>
  <dc:language>en-US</dc:language>
  <cp:lastModifiedBy>User</cp:lastModifiedBy>
  <dcterms:modified xsi:type="dcterms:W3CDTF">2012-04-24T16:13:26Z</dcterms:modified>
  <cp:revision>148</cp:revision>
  <dc:subject/>
  <dc:title>Slide 1</dc:title>
</cp:coreProperties>
</file>