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00"/>
              </a:solidFill>
              <a:latin typeface="Arial"/>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4" name="PlaceHolder 2"/>
          <p:cNvSpPr>
            <a:spLocks noGrp="1"/>
          </p:cNvSpPr>
          <p:nvPr>
            <p:ph type="dt" idx="5"/>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5"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245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8" name="PlaceHolder 6"/>
          <p:cNvSpPr>
            <a:spLocks noGrp="1"/>
          </p:cNvSpPr>
          <p:nvPr>
            <p:ph type="sldNum" idx="7"/>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E226-3EDF-480C-9BD8-EE66FF8F0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AA17-E315-40F8-9F82-7A231B177C5E}" type="slidenum">
              <a:rPr b="0" lang="en-US" sz="1200" spc="-1" strike="noStrike">
                <a:solidFill>
                  <a:srgbClr val="333300"/>
                </a:solidFill>
                <a:latin typeface="Arial"/>
              </a:rPr>
              <a:t>&lt;number&gt;</a:t>
            </a:fld>
            <a:endParaRPr b="0" lang="en-US" sz="1200" spc="-1" strike="noStrike">
              <a:solidFill>
                <a:srgbClr val="333300"/>
              </a:solidFill>
              <a:latin typeface="Arial"/>
            </a:endParaRPr>
          </a:p>
        </p:txBody>
      </p:sp>
      <p:sp>
        <p:nvSpPr>
          <p:cNvPr id="292" name="PlaceHolder 1"/>
          <p:cNvSpPr>
            <a:spLocks noGrp="1"/>
          </p:cNvSpPr>
          <p:nvPr>
            <p:ph type="sldImg"/>
          </p:nvPr>
        </p:nvSpPr>
        <p:spPr>
          <a:xfrm>
            <a:off x="1158840" y="681120"/>
            <a:ext cx="4540320" cy="3405240"/>
          </a:xfrm>
          <a:prstGeom prst="rect">
            <a:avLst/>
          </a:prstGeom>
          <a:ln w="0">
            <a:noFill/>
          </a:ln>
        </p:spPr>
      </p:sp>
      <p:sp>
        <p:nvSpPr>
          <p:cNvPr id="293"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F16F32-75D8-4966-952A-7E0315B07D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95F196-875E-46B9-9B50-85844ECE4B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E4F935-D266-4234-8E58-2C2D4CAD80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3C86EC-F021-4727-AC63-E3ED8A8B6B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06201AC-A76A-404F-97E0-12E5681A8D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A2173B-79E9-4697-A0BC-2226838E35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FC24DF-F9F7-4E6D-A750-B8D80416F1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A09AE41-5DFF-4EB2-AA68-84C764F0F3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1E8BE0-4BD3-4DB0-B589-027E904038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9AFC01-2623-43B4-AABC-D4E7DB989A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0377CB-DEAC-45E9-B4CD-7904556D80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8AA7B0-E168-4849-B079-4A81AB07E4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B1090E-7334-42BC-A7FF-894C4D69B0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1DDE6C-2D92-4549-9401-52D0F5FBDE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08B113-C1BB-43A2-8332-552E47D14E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A188CB9-BCB7-4DD5-9CA8-282702C506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A36F930-9C17-44EB-9A03-54E9AF2002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AD2845-6E8F-4544-82DF-2D9C089715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441E00-71C1-4B87-BF97-575C42F37D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50AEB6-9778-4DD0-84BD-0B17ED17FA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785A9E-6CA5-405E-BDB2-D57B4EEF78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A8F0F0-2227-4E79-BB4D-6FCB3E393F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B48535-07FE-4DF0-B88C-06E6FC9CCE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AF90E9-974B-4C95-9A10-70B1C0CB44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Pearson_WebBar_Top_Blue_RGB"/>
          <p:cNvPicPr/>
          <p:nvPr/>
        </p:nvPicPr>
        <p:blipFill>
          <a:blip r:embed="rId2"/>
          <a:stretch/>
        </p:blipFill>
        <p:spPr>
          <a:xfrm>
            <a:off x="0" y="0"/>
            <a:ext cx="9144000" cy="419040"/>
          </a:xfrm>
          <a:prstGeom prst="rect">
            <a:avLst/>
          </a:prstGeom>
          <a:ln w="0">
            <a:noFill/>
          </a:ln>
        </p:spPr>
      </p:pic>
      <p:sp>
        <p:nvSpPr>
          <p:cNvPr id="3" name="PlaceHolder 3"/>
          <p:cNvSpPr>
            <a:spLocks noGrp="1"/>
          </p:cNvSpPr>
          <p:nvPr>
            <p:ph type="ftr" idx="1"/>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 name="PlaceHolder 4"/>
          <p:cNvSpPr>
            <a:spLocks noGrp="1"/>
          </p:cNvSpPr>
          <p:nvPr>
            <p:ph type="sldNum" idx="2"/>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0BEB06E-4DAC-414B-AD95-816869163C8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Pearson_WebBar_Top_Blue_RGB"/>
          <p:cNvPicPr/>
          <p:nvPr/>
        </p:nvPicPr>
        <p:blipFill>
          <a:blip r:embed="rId2"/>
          <a:stretch/>
        </p:blipFill>
        <p:spPr>
          <a:xfrm>
            <a:off x="0" y="0"/>
            <a:ext cx="9144000" cy="419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ftr" idx="3"/>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5" name="PlaceHolder 4"/>
          <p:cNvSpPr>
            <a:spLocks noGrp="1"/>
          </p:cNvSpPr>
          <p:nvPr>
            <p:ph type="sldNum" idx="4"/>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E115F6A-EFEC-47D3-9B76-AFAF5609860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9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EDB97D8-34CE-4479-9470-38751E079D2B}"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91" name="PlaceHolder 1"/>
          <p:cNvSpPr>
            <a:spLocks noGrp="1"/>
          </p:cNvSpPr>
          <p:nvPr>
            <p:ph/>
          </p:nvPr>
        </p:nvSpPr>
        <p:spPr>
          <a:xfrm>
            <a:off x="912600" y="2590560"/>
            <a:ext cx="3354120" cy="33541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5</a:t>
            </a:r>
            <a:endParaRPr b="0" lang="en-US" sz="48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on</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Marketplace</a:t>
            </a:r>
            <a:endParaRPr b="0" lang="en-US" sz="4400" spc="-1" strike="noStrike">
              <a:solidFill>
                <a:srgbClr val="000000"/>
              </a:solidFill>
              <a:latin typeface="Times New Roman"/>
            </a:endParaRPr>
          </a:p>
        </p:txBody>
      </p:sp>
      <p:sp>
        <p:nvSpPr>
          <p:cNvPr id="92" name="Rectangle 3"/>
          <p:cNvSpPr/>
          <p:nvPr/>
        </p:nvSpPr>
        <p:spPr>
          <a:xfrm>
            <a:off x="801720" y="457200"/>
            <a:ext cx="7542360" cy="17524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3" name="PlaceHolder 2"/>
          <p:cNvSpPr>
            <a:spLocks noGrp="1"/>
          </p:cNvSpPr>
          <p:nvPr>
            <p:ph type="title"/>
          </p:nvPr>
        </p:nvSpPr>
        <p:spPr>
          <a:xfrm>
            <a:off x="799920" y="533160"/>
            <a:ext cx="7543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gal Fundamentals </a:t>
            </a:r>
            <a:br>
              <a:rPr sz="4000"/>
            </a:br>
            <a:r>
              <a:rPr b="1" lang="en-US" sz="4000" spc="-1" strike="noStrike">
                <a:solidFill>
                  <a:srgbClr val="000000"/>
                </a:solidFill>
                <a:latin typeface="Times New Roman"/>
              </a:rPr>
              <a:t>for Canadian Business </a:t>
            </a:r>
            <a:br>
              <a:rPr sz="4000"/>
            </a:br>
            <a:r>
              <a:rPr b="1" lang="en-US" sz="2200" spc="-1" strike="noStrike">
                <a:solidFill>
                  <a:srgbClr val="000000"/>
                </a:solidFill>
                <a:latin typeface="Times New Roman"/>
              </a:rPr>
              <a:t>Third Edition</a:t>
            </a:r>
            <a:endParaRPr b="0" lang="en-US" sz="2200" spc="-1" strike="noStrike">
              <a:solidFill>
                <a:srgbClr val="000000"/>
              </a:solidFill>
              <a:latin typeface="Times New Roman"/>
            </a:endParaRPr>
          </a:p>
        </p:txBody>
      </p:sp>
      <p:sp>
        <p:nvSpPr>
          <p:cNvPr id="94" name="Text Box 5"/>
          <p:cNvSpPr/>
          <p:nvPr/>
        </p:nvSpPr>
        <p:spPr>
          <a:xfrm>
            <a:off x="1371600" y="6172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5" name="Text Box 6"/>
          <p:cNvSpPr/>
          <p:nvPr/>
        </p:nvSpPr>
        <p:spPr>
          <a:xfrm>
            <a:off x="10508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6" name="Text Box 7"/>
          <p:cNvSpPr/>
          <p:nvPr/>
        </p:nvSpPr>
        <p:spPr>
          <a:xfrm>
            <a:off x="15843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7" name="Text Box 8"/>
          <p:cNvSpPr/>
          <p:nvPr/>
        </p:nvSpPr>
        <p:spPr>
          <a:xfrm>
            <a:off x="15080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pic>
        <p:nvPicPr>
          <p:cNvPr id="98" name="Picture 11" descr="yates_LegalFund_CRV.jpg"/>
          <p:cNvPicPr/>
          <p:nvPr/>
        </p:nvPicPr>
        <p:blipFill>
          <a:blip r:embed="rId1"/>
          <a:stretch/>
        </p:blipFill>
        <p:spPr>
          <a:xfrm>
            <a:off x="5029200" y="2362320"/>
            <a:ext cx="2895480" cy="36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3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75DAC2F-31DB-47E6-B899-6D70724CC0D2}"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3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3 - Specific goods that must be weighed or measured to determine pric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goods are weighed or measured and purchaser is notifi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3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6E51316C-8778-4106-BACB-73D7F49196F2}"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3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4 - Specific goods taken on approval (or sale with right to retur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passes when sale is accepted (by notification to seller, passage of reasonable time, or treating goods as your own)</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5A08886F-DC28-4FAB-93B4-6376F2F2460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5 - When goods have not yet been made or where they have been selected from a sample or floor mod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goods have been created and/or unconditionally committed to the transaction with assent of buyer; assent can be implied</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A6DB347-18B5-45D3-8B41-DE1E97AC4B1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following terms related to tit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dition that seller delivers good title to goods to purchas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arranty to deliver quiet possession of goo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arranty that goods be free of any charge or encumbranc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E8D3C6C-AA9F-460B-942A-CD7660914F02}"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conditions for goods bought by description or sample</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oods must match description or sampl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uyer may refuse delivery if they don’t</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conditions related to fitness and quality of goods sold by description (i.e., all mass-produced goods)</a:t>
            </a:r>
            <a:endParaRPr b="0" lang="en-US" sz="32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5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5DBA569A-559C-4904-B41D-0AAC88BB01E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5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ness and qua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must be of merchantable quali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 from hidden defects that make goods unusable or interfere with effectivenes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must be suitable for purpose if purchaser relies on recommendation of seller</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5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DCCC380E-24C5-44C1-83F2-04276138F4C5}"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5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ness and qua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lers may attempt to override implied conditions through limited warranties or exemption claus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sumer transactions, sellers often prevented from contracting out by statut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tion clauses usually enforced in commercial transactions unless unf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E75D08B-9579-4355-B92A-BB2A56E8D4DB}"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ther Implied Terms</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implies other terms – Exampl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no purchase price stated, reasonable price is impli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no date stated, payment to be made at reasonable time (usually time of delive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ights to recover good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oppage in </a:t>
            </a:r>
            <a:r>
              <a:rPr b="0" i="1" lang="en-CA" sz="2400" spc="-1" strike="noStrike">
                <a:solidFill>
                  <a:srgbClr val="000000"/>
                </a:solidFill>
                <a:latin typeface="Times New Roman"/>
              </a:rPr>
              <a:t>transitu</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visions under </a:t>
            </a:r>
            <a:r>
              <a:rPr b="0" i="1" lang="en-CA" sz="2400" spc="-1" strike="noStrike">
                <a:solidFill>
                  <a:srgbClr val="000000"/>
                </a:solidFill>
                <a:latin typeface="Times New Roman"/>
              </a:rPr>
              <a:t>Bankruptcy and Insolvency A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1E33120-2338-4CCB-ADD7-28F314DC699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Legislation varies by province</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Quality and fitnes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imes New Roman"/>
              </a:rPr>
              <a:t>Trade (or Business) Practices Act</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hibits misleading and deceptive practice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ols unconscionable transaction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akes false or misleading statements conditions of contract; may sue for breach</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a number of potential remedies</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7E8FB421-2374-4447-B5CE-544A4967E48C}"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trol of specific busin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oor-to-Door Sal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s cooling-off period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ecutory contrac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acts to be performed in futur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d to be in writing</a:t>
            </a: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r>
              <a:rPr b="0" lang="en-CA"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0D763BC-F66B-4B04-8B00-844DD3E238EB}"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0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function and form of </a:t>
            </a:r>
            <a:r>
              <a:rPr b="0" i="1" lang="en-CA" sz="3200" spc="-1" strike="noStrike">
                <a:solidFill>
                  <a:srgbClr val="000000"/>
                </a:solidFill>
                <a:latin typeface="Times New Roman"/>
              </a:rPr>
              <a:t>Sale of Goods Ac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utline the duties of sellers and buyer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nature and purpose of consumer protection legislation</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sider whether proposed changes will solve current problems</a:t>
            </a:r>
            <a:endParaRPr b="0" lang="en-US" sz="32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7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848E0E9-260A-4B7A-A4B1-32DFB288EA6C}"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7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trol of specific busin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ferral selling</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iving a discount if purchaser provides names of potential buyers to seller is controll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elivery of unsolicited good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sponsibility is severely restrict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7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5082CD1-DF5B-4668-BB01-E3E2A58F793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7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trol of specific businesse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rue cost of borrowing must be disclosed</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ctual rate and costs must be disclosed</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ust state total amount to be paid</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urchase of income tax returns and payday loans are restric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redit reporting/debt collection are regula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any other businesses subject to consumer protection legislation</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3CF4687-DB5B-4EF3-9F1F-F244EDC1A37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umer Protection Legislation </a:t>
            </a: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vernment agencies are set up to investigate and resolve dispu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ssist consumers to obtain remed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mpose fines, revoke licenses,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take civil action for damages/injun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nvolve quasi-criminal prosecu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Times New Roman"/>
              </a:rPr>
              <a:t>Charter of Rights</a:t>
            </a:r>
            <a:r>
              <a:rPr b="0" lang="en-CA" sz="2400" spc="-1" strike="noStrike">
                <a:solidFill>
                  <a:srgbClr val="000000"/>
                </a:solidFill>
                <a:latin typeface="Times New Roman"/>
              </a:rPr>
              <a:t> protections app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64F6286C-AC88-4487-9E07-D3D57796E5ED}"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mprehensive Act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ome provinces (Ontario and B.C.) have comprehensive consumer protection a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imes New Roman"/>
              </a:rPr>
              <a:t>Example:  Ontario Consumer Protection Act</a:t>
            </a:r>
            <a:r>
              <a:rPr b="0" lang="en-CA" sz="2800" spc="-1" strike="noStrike">
                <a:solidFill>
                  <a:srgbClr val="000000"/>
                </a:solidFill>
                <a:latin typeface="Times New Roman"/>
              </a:rPr>
              <a:t> (200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orporates provisions from several acts into on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leases and serv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ives extensive powers to search, seize, make order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regulation of internet consumer transa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6669FDD-190A-4107-B9C9-F9B7F9B60142}"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Non-Government Agencie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Better Business Bureau</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sists of and supported by member busines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ttempts to weed out unscrupulous busines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ovides a service to public where they can inquire about specific busine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9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01B3562-8D62-4175-8619-9A3235F7D22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9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Competition Act</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urpose “is to maintain and encourage competition in Canada”</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upported by </a:t>
            </a:r>
            <a:r>
              <a:rPr b="0" i="1" lang="en-CA" sz="2800" spc="-1" strike="noStrike">
                <a:solidFill>
                  <a:srgbClr val="000000"/>
                </a:solidFill>
                <a:latin typeface="Times New Roman"/>
              </a:rPr>
              <a:t>Competition Tribunal Act</a:t>
            </a:r>
            <a:r>
              <a:rPr b="0" lang="en-CA" sz="2800" spc="-1" strike="noStrike">
                <a:solidFill>
                  <a:srgbClr val="000000"/>
                </a:solidFill>
                <a:latin typeface="Times New Roman"/>
              </a:rPr>
              <a:t> that created an enforcement body</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trols anti-competitive practices</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conomic principles usually determine outcomes</a:t>
            </a:r>
            <a:endParaRPr b="0" lang="en-US" sz="28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9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E9F97B2-66FB-4C08-BD6B-8D89EB4AF4D2}"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9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piracies that unduly lessen competition are prohibited</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d rigging is an indictable offence</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 fixing can unduly restrain trad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 selling is prohibited</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paying a fee to participate in a multilevel organization that isn’t based on the sale of a produc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itutes summary conviction offence</a:t>
            </a:r>
            <a:endParaRPr b="0" lang="en-US" sz="2400" spc="-1" strike="noStrike">
              <a:solidFill>
                <a:srgbClr val="000000"/>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D26BBDA-5BD3-4D31-A186-A7F4729B910D}"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eptive marketing practices prohibi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 disclosure is required of merchants in many situ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atory practices are review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 and acquisitions are reviewed to balance the loss of competition against increased business effici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379B9892-35D1-4FD8-8F1A-4A3DA0DF2CA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ecured Transactions</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Ensuring a debt will be repaid by providing security of equal or greater value and giving creditor first claim</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ay use either real or personal propert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ersonal Property</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ngible – chattels (goods)</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tangible – rights or claims (e.g., shares, cheques)</a:t>
            </a:r>
            <a:endParaRPr b="0" lang="en-US" sz="28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D31317A-E5A0-460B-B7FC-53744044E8C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ecured Transaction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1219320" y="2057400"/>
            <a:ext cx="6457680" cy="381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1932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br>
              <a:rPr sz="4400"/>
            </a:br>
            <a:r>
              <a:rPr b="0" lang="en-US" sz="3200" spc="-1" strike="noStrike">
                <a:solidFill>
                  <a:srgbClr val="000000"/>
                </a:solidFill>
                <a:latin typeface="Times New Roman"/>
              </a:rPr>
              <a:t>(Continued)</a:t>
            </a:r>
            <a:endParaRPr b="0" lang="en-US" sz="32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uss the role of federal legislation in controlling competition in the marketplace</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sider the forms and purpose of securing transaction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utline the legislation and its purpose in regulating secur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process and objectives of bankruptcy</a:t>
            </a:r>
            <a:endParaRPr b="0" lang="en-US" sz="3200" spc="-1" strike="noStrike">
              <a:solidFill>
                <a:srgbClr val="000000"/>
              </a:solidFill>
              <a:latin typeface="Times New Roman"/>
            </a:endParaRPr>
          </a:p>
        </p:txBody>
      </p:sp>
      <p:sp>
        <p:nvSpPr>
          <p:cNvPr id="10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4CD0FAF-77BF-4368-A4B3-E81C9B35F635}"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1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661FA83-91FD-4091-8CF2-F08E30DF675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1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Personal Property Security Act</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ct controls all secured transactions involving personal proper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llows any form of personal property to be used as secur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ust have contract creating secured transa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itle stays with borrower, but rights given to credit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1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97CF463-6C91-4DDF-A857-DAD5760E7C8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1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eps to Secure Transaction</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anchor="t">
            <a:normAutofit/>
          </a:bodyPr>
          <a:p>
            <a:pPr marL="450720" indent="0">
              <a:spcBef>
                <a:spcPts val="700"/>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 Agreement</a:t>
            </a:r>
            <a:endParaRPr b="0" lang="en-US" sz="28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act sets out rights and obligations of parties</a:t>
            </a:r>
            <a:endParaRPr b="0" lang="en-US" sz="24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pecifies asset to be used as security</a:t>
            </a:r>
            <a:endParaRPr b="0" lang="en-US" sz="2400" spc="-1" strike="noStrike">
              <a:solidFill>
                <a:srgbClr val="000000"/>
              </a:solidFill>
              <a:latin typeface="Times New Roman"/>
            </a:endParaRPr>
          </a:p>
          <a:p>
            <a:pPr lvl="1" marL="1160640" indent="-354240">
              <a:spcBef>
                <a:spcPts val="499"/>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reditor has no claim at this poin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marL="450720" indent="-450720">
              <a:spcBef>
                <a:spcPts val="700"/>
              </a:spcBef>
              <a:buClr>
                <a:srgbClr val="000000"/>
              </a:buClr>
              <a:buFont typeface="Times New Roman"/>
              <a:buAutoNum type="arabicParenR" startAt="2"/>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ttachment</a:t>
            </a:r>
            <a:endParaRPr b="0" lang="en-US" sz="28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alue under contract given to debtor, securing creditor’s claim against asset</a:t>
            </a:r>
            <a:endParaRPr b="0" lang="en-US" sz="2400" spc="-1" strike="noStrike">
              <a:solidFill>
                <a:srgbClr val="000000"/>
              </a:solidFill>
              <a:latin typeface="Times New Roman"/>
            </a:endParaRPr>
          </a:p>
          <a:p>
            <a:pPr marL="450720" indent="0">
              <a:spcBef>
                <a:spcPts val="700"/>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0720" indent="0">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D4563A8-75F9-4050-8493-1F908D023F5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eps to Secure Transaction  </a:t>
            </a: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531720" indent="-531720">
              <a:spcBef>
                <a:spcPts val="799"/>
              </a:spcBef>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erfection</a:t>
            </a:r>
            <a:endParaRPr b="0" lang="en-US" sz="32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imarily accomplished through registration (Registry created for each province)</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ives creditor priority against subsequent holders or claimants</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ile form with appropriate registry</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an also perfect by taking possession of property</a:t>
            </a:r>
            <a:endParaRPr b="0" lang="en-US" sz="2800" spc="-1" strike="noStrike">
              <a:solidFill>
                <a:srgbClr val="000000"/>
              </a:solidFill>
              <a:latin typeface="Times New Roman"/>
            </a:endParaRPr>
          </a:p>
          <a:p>
            <a:pPr marL="531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7E43BBD-755C-44A6-84BE-FEAFFC080E1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Process to Secure Transaction  </a:t>
            </a:r>
            <a:endParaRPr b="0" lang="en-US" sz="4400" spc="-1" strike="noStrike">
              <a:solidFill>
                <a:srgbClr val="000000"/>
              </a:solidFill>
              <a:latin typeface="Times New Roman"/>
            </a:endParaRPr>
          </a:p>
        </p:txBody>
      </p:sp>
      <p:pic>
        <p:nvPicPr>
          <p:cNvPr id="226" name="" descr=""/>
          <p:cNvPicPr/>
          <p:nvPr/>
        </p:nvPicPr>
        <p:blipFill>
          <a:blip r:embed="rId1"/>
          <a:stretch/>
        </p:blipFill>
        <p:spPr>
          <a:xfrm>
            <a:off x="762120" y="2666880"/>
            <a:ext cx="7634160" cy="242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9BD7104-113F-462E-B6B4-48942A54E2C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Default</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reditor has right to obtain and resell property used as secur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sually happens through creditor, his/her employees, or private bailif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 force or violence may be u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 need for court order if contract gives right to repossess (unless property is not accessi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3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BBC548F-334B-420A-AFAA-2348B78CC14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3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eselling Secured Good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ods may be sold to recover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one with an interest (including debtor) must be notified and given opportunity to redeem goods by paying out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sold, seller must attempt to obtain fair market price</a:t>
            </a:r>
            <a:endParaRPr b="0" lang="en-US" sz="3200" spc="-1" strike="noStrike">
              <a:solidFill>
                <a:srgbClr val="000000"/>
              </a:solidFill>
              <a:latin typeface="Times New Roman"/>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3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670AC07-22DD-4905-B956-70B9A4D056F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3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eselling Secured Goods </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cess of sale must be “commercially reason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 excess, minus costs of process, must be paid to the deb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deficit results, amount still owed by debtor may or may not be recoverable, depending on provi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485F53E-5951-4C75-B290-2071E3E1725C}"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uilders’ Liens</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ives suppliers and subcontractors a claim against property if they are not pai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ay register a lien against property which can eventually force a sale of proper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property owner retains a percentage of money owed under contract (holdback), this is available to satisfy claims and remove li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305D35B-8F4C-453F-9DC2-9960E6EF580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Guarantees</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ne person (guarantor) agrees to pay debt to creditor if debtor does no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ust be in writing to be enforceable; often under se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 defence the debtor has against the creditor is available to the guarantor (except bankruptcy and infancy)</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243BCA9-7F6D-4835-957A-D0C4BE1067A5}"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Guarantee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guarantor pays, he/she assumes all rights of the creditor to collect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the creditor and debtor change the terms of the original agreement, the guarantor will not be bound by the guarantee unless the guarantor has been informed and has given permission for the chan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D44790E0-A1A1-4097-99D8-F8876CF248E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0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Sale of Goods Act</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vincial statutes that imply terms into sale of goods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arties can override most provisions of </a:t>
            </a:r>
            <a:r>
              <a:rPr b="0" i="1" lang="en-CA" sz="3200" spc="-1" strike="noStrike">
                <a:solidFill>
                  <a:srgbClr val="000000"/>
                </a:solidFill>
                <a:latin typeface="Times New Roman"/>
              </a:rPr>
              <a:t>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ct applies if actual sale (transfer of tit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be immediate or in the future (conditional sal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5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D0123B1-3661-46FB-88EB-B936DC0937D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5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solvent – unable to pay bills as they become du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ankrupt – debtor’s assets have been transferred to a trustee for distribution to unpaid creditor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overned by the federal </a:t>
            </a:r>
            <a:r>
              <a:rPr b="0" i="1" lang="en-CA" sz="2800" spc="-1" strike="noStrike">
                <a:solidFill>
                  <a:srgbClr val="000000"/>
                </a:solidFill>
                <a:latin typeface="Times New Roman"/>
              </a:rPr>
              <a:t>Bankruptcy and Insolvency Act</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eserve assets of debtor for benefit of creditor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mote rehabilitation of debtor and give him/her a fresh start</a:t>
            </a:r>
            <a:endParaRPr b="0" lang="en-US" sz="2400" spc="-1" strike="noStrike">
              <a:solidFill>
                <a:srgbClr val="000000"/>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5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22CDA6D-3DF4-41E5-9503-F6B325BE617B}"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5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wo ways to become bankrup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Voluntary transfer of assets to trustee</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ssignment in bankruptcy</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eing forced into bankruptcy by creditor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s a receiving order from court </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ust owe at least $1000 and have committed an act of bankruptcy (e.g., insolvent, fraudulent transfer, or fraudulent preference)</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C35488A-02BB-4ACA-9C04-9EA927BAE61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ruste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unsels deb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eserves and looks after the ass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etermines priorities among credit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ells ass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istributes proceeds to creditor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69E4195-E7A0-4E6A-AA99-5BF89662C63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Secured Creditor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rustee must surrender asset to them or pay out</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shortfall, they become unsecured creditors for balance of debt</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eferred Creditors – set out in Act</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uneral expenses, costs of bankruptcy, some taxes, E.I. and W.C.B. premiums, limited amount of employees’ wages and rent</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F67E559-5BC3-4BDF-A6D8-605B3D1F968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nsecured Creditors</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eive any amount left over</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eive a percentage based on their claim vs. total amount of debt</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Often very little left to distribute</a:t>
            </a:r>
            <a:endParaRPr b="0" lang="en-US" sz="28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btors</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ome assets are exempt from seizure so debtor keeps them </a:t>
            </a:r>
            <a:endParaRPr b="0" lang="en-US" sz="28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7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64571AB-11F6-4AD9-967A-D3FD856E506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7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Bankruptcy Offenc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ailing to fully disclose information, lying, transferring property to a spouse or friend (fraudulent transfe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nterfere with being discharged from bankruptc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clude fines up to $10,000 or 3 years in jail</a:t>
            </a:r>
            <a:endParaRPr b="0" lang="en-US" sz="28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7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ABC9553-F2E5-4ED5-BA82-29135D54621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7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harge for individual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pplication for discharge automatically made after 9 month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first bankruptcy, will be discharged unless creditors object or bankruptcy offenc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ditional discharge may be given, requiring further payments</a:t>
            </a:r>
            <a:endParaRPr b="0" lang="en-US" sz="28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CA832DA-77E3-4A3E-93B6-21B6F7884D29}"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harge for individuals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Once discharged, free of any former indebted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cep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udent loans less than 7 years ol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amily maintenance obliga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hild suppor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urt-imposed fi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5C99A835-247D-4B35-97B4-E33CBA463E2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lternatives to Bankruptcy</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egotiate alternate arrangement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posal to creditor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personal debt over $75,000, individuals may make a Division Two proposal to creditor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mpanies and larger debtors owing over $75,000 make Division One proposal</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ny action to seize property is stopped during this process; time may be extended</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F51640F-9436-4CB8-929D-90DA1825A73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lternatives to Bankrupt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Large corporations may proceed under </a:t>
            </a:r>
            <a:r>
              <a:rPr b="0" i="1" lang="en-CA" sz="3200" spc="-1" strike="noStrike">
                <a:solidFill>
                  <a:srgbClr val="000000"/>
                </a:solidFill>
                <a:latin typeface="Times New Roman"/>
              </a:rPr>
              <a:t>Companies’ Creditors Arrangement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eceivership - Secured creditors often make arrangements in contract to take over management of company if in defaul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1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5359D84-C38A-4730-9AA9-799EFA650CD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1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Sale of Goods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ngible, movable proper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oes not apply to service contrac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here service is incidental to transaction, </a:t>
            </a:r>
            <a:r>
              <a:rPr b="0" i="1" lang="en-CA" sz="2800" spc="-1" strike="noStrike">
                <a:solidFill>
                  <a:srgbClr val="000000"/>
                </a:solidFill>
                <a:latin typeface="Times New Roman"/>
              </a:rPr>
              <a:t>Act</a:t>
            </a:r>
            <a:r>
              <a:rPr b="0" lang="en-CA" sz="2800" spc="-1" strike="noStrike">
                <a:solidFill>
                  <a:srgbClr val="000000"/>
                </a:solidFill>
                <a:latin typeface="Times New Roman"/>
              </a:rPr>
              <a:t> applie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1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7B8BBF98-EE5C-4C98-A219-999B218EDB7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1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isk follows title under the </a:t>
            </a:r>
            <a:r>
              <a:rPr b="0" i="1" lang="en-CA" sz="3200" spc="-1" strike="noStrike">
                <a:solidFill>
                  <a:srgbClr val="000000"/>
                </a:solidFill>
                <a:latin typeface="Times New Roman"/>
              </a:rPr>
              <a:t>Act, </a:t>
            </a:r>
            <a:r>
              <a:rPr b="0" lang="en-CA" sz="3200" spc="-1" strike="noStrike">
                <a:solidFill>
                  <a:srgbClr val="000000"/>
                </a:solidFill>
                <a:latin typeface="Times New Roman"/>
              </a:rPr>
              <a:t>but </a:t>
            </a:r>
            <a:r>
              <a:rPr b="0" i="1" lang="en-CA" sz="3200" spc="-1" strike="noStrike">
                <a:solidFill>
                  <a:srgbClr val="000000"/>
                </a:solidFill>
                <a:latin typeface="Times New Roman"/>
              </a:rPr>
              <a:t>Act</a:t>
            </a:r>
            <a:r>
              <a:rPr b="0" lang="en-CA" sz="3200" spc="-1" strike="noStrike">
                <a:solidFill>
                  <a:srgbClr val="000000"/>
                </a:solidFill>
                <a:latin typeface="Times New Roman"/>
              </a:rPr>
              <a:t> can be overridden – Example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I.F. (Cost-Insurance-Freight)</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endor must arrange transportation and insurance against risk</a:t>
            </a:r>
            <a:endParaRPr b="0" lang="en-US" sz="24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O.B. (Free on board)</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arties specify in contract where title and risk will transfer</a:t>
            </a:r>
            <a:endParaRPr b="0" lang="en-US" sz="2400" spc="-1" strike="noStrike">
              <a:solidFill>
                <a:srgbClr val="000000"/>
              </a:solidFill>
              <a:latin typeface="Times New Roman"/>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77DA62DD-FD99-4C3E-A902-B4436450DCF2}"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Examples (Continued)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D. (Cash on delivery)</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isk and title pass when goods received and paid for</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ill of Lading</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n be used to control risk and title when a third party transports goods</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f seller names self to receive goods, he/she retains control of goods, but also risk</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16381A3-64CE-4D73-806B-1AC65262AEE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rmally, transfer of title follows rules set out in </a:t>
            </a:r>
            <a:r>
              <a:rPr b="0" i="1" lang="en-CA" sz="3200" spc="-1" strike="noStrike">
                <a:solidFill>
                  <a:srgbClr val="000000"/>
                </a:solidFill>
                <a:latin typeface="Times New Roman"/>
              </a:rPr>
              <a:t>Sale of Goods A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1 - Specific, identified goods in deliverable stat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and risk transfer upon contract of sal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ayment and delivery may occur later</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1520FF1-2495-4C1F-B992-01EEBA6E625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2 - Specific, identified goods that require work</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ork must be done to put goods in deliverable stat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work is done and purchaser is notifi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1T04:42:04Z</dcterms:created>
  <dc:creator>Client Name</dc:creator>
  <dc:description/>
  <dc:language>en-US</dc:language>
  <cp:lastModifiedBy>User</cp:lastModifiedBy>
  <dcterms:modified xsi:type="dcterms:W3CDTF">2012-04-24T16:27:02Z</dcterms:modified>
  <cp:revision>170</cp:revision>
  <dc:subject/>
  <dc:title>Slide 1</dc:title>
</cp:coreProperties>
</file>