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0E7-DF79-4721-87FF-756460E05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1119-701D-4BE0-9210-FC273382E18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4626-D3F1-48F6-84ED-2B9815B4E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DA2F-821F-4CC6-8456-6761193B1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0D21-C974-40BA-BFE7-F6F5339D5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F042-F863-43E5-A7C1-F49796818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022DF-6144-4CC5-BBB6-D1FE8C84F7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A1F6C-90DD-4BF8-823F-7ACFD908B5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B0EA9-1EE9-4531-82B1-1B4E6CBE89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7FE72-971E-4FCE-B4C1-E4D36FE99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B465A-505F-44EA-92FF-81AEDE99A0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13341-4B34-405A-B718-940B0BEB5A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F1F39-71B3-4F9C-8881-AEBA074688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0185-4C59-4EC7-9355-F6CA0C7A3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A538A-CE56-4FAA-A349-6A76E12FF7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5A63C-E743-4A15-A925-1BD4F50CE3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A65AB-1378-4130-8C1F-AD8B18C428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6A49C-B012-4915-8012-4186B250E6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48F3B-8B6A-4503-96C3-A4EEA9782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FFE1-113D-4657-B54F-3BE18A11A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F746-9396-4143-9CF6-8D69EBADD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904A-A65F-427E-9088-A29B1A256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C57A-AD4F-48D5-9DB7-7F5E4E7D4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8510-71B9-40BC-B035-E0EB3FF12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F988-C404-4C7E-AAA1-BC8123851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CEB7-9B1F-4794-9DCE-D7A7508C8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4724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0D4508C-B1C4-475E-BA3D-B847BEE9F17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D678155-F155-49B2-8B62-C727C7226A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6F1859F-987F-4AE1-96FB-BD66C1BFE2A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cy 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8F2F5A1-9D9E-42EF-9622-BE19D8CA992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on 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 at time of ra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at time agent purported to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atify within reasonable time after agent’s unauthorized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EC09FB8-279C-4D16-9218-F520C08B844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one person is held responsible for the torts committed b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principal and agent may be held 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agent is employee, there will be vicarious liability if employee acting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66B6604-F7F5-4478-8564-671E8A1EC08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for agent that is independent contractor is more restr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incipal only liable if tort causing injury took place during actual exercise of authority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ually restricted to fraud and negligent mis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agent passed information on innocently, then only principal who gave information is 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09D6705-8CD5-44E6-BBA4-3DE9126DC6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impos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 may impose liability on owner of a vehicle when another has been given permission to use motor vehicle (either expressly or impl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EA2853E-27A6-43A3-A2B6-C1385E1126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third party has no claim against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gent has exceeded authority, third party can sue agent for claiming authority not possessed (i.e. tort of “breach of warranty of authority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72026FF-B021-455D-A8A1-9CA06FA140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disclosed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agent does not disclose he/she is acting as an agent or refuses to disclose who the principal is, third party must sue th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identity of principal is learned, a (binding) choice must be made as to which party to 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for undisclosed principal is not binding if identity of undisclosed principal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B74D5F2-5174-4D30-9CB7-9EB4E699778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agent’s obligation to act in the best interests of the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utmost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personal advantage of business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isclose all conflicts of inte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full disclosure of al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act only for one side 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33A73CC-4AF8-4599-9B84-0CE384D4B77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not make profit at expense of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secret commissions (crim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to act compe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delegate responsibilities (except where based on certain industry pract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CB34E92-252D-4B07-BE16-A1D7EF93FA1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normally ends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b is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receives different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or agency relationship is changed or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also ends when project becomes illegal or the principal dies, goes bankrupt, or becomes ins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8369C83-7231-4E14-8ADA-23824D65184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sue of apparent authority re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st to avoid apparent authority from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pparent authority exists, principal must notify customers and suppliers who deal with agent when agency relationship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wer of attorney that continues after principal becomes mentally incapacitated now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C21808A-77F6-4311-913A-D34FBD17A71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roles and limitations placed o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liability of principals and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fiduciary duty of agents and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ppropriate process for disciplining and terminating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role of unions in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001F919-3F0E-4F79-A691-0E0340D590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storically recognized as master-servan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lationship now based on contr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amount of legislation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ized statutes deal with collective bargaining and unionized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937590C-90A0-488D-8077-02A82BC8CA3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tests limited to operation of specific sta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 Test - Historical test to determine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dependent contractors control their own hours and how they do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es work under direction of employer and can be told what to do and how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D0978B7-9DAC-4DEF-A7A3-53B76485F2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ganizati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individual is an integral and essential part of the organization, he/she is an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ependent contractor works for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differentiate as employers are vicariously liable for torts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104A700-8C75-402C-9BA3-056FEEEB26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must prov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fe work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ropria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ols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imbursement for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other requirements included in employment contract, e.g. provide medical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3D7CB36-04A3-4A7E-829F-494CA11C7C2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reasonably compe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ve the skills 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honest, punctual, lo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 the work agre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we a fiduciary duty if manager or key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2E08111-4A72-43CA-8978-A98F124A5A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der common law, must give reasonable notice of termination (in absence of “just caus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give notice or pay in lieu of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contract may contain terms related to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mum statutory requirements must always be met, but often employee will receive much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75D0679-751A-47F5-8CA8-630138A3DA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length of service, importance of job, age, likelihood of finding other employ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 of thumb is one month per year of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mployment Standards Act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stablish minimum required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22F6995-05E7-41B4-B742-9CB76E33E3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 Peri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53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7057914-BEA9-4A25-8132-9E9F54C3617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notice of termination required if just cause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ing dishonest with employer or acted immo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victed of crime that interferes with ability to perform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obeyed lawful instruction from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mitted an actionable wrong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ed on a 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7FC477C-EB6A-4D20-B3A1-0A3AB373FBD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clearly inform employee of shortcomings and give him/her a chance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have regular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acceptable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not constitute just cause unless very 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vide reprimand and counseling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provide progressiv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B823EEE-B3EE-4C6F-B276-DC24832E6A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obligations of employers in providing a safe work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list of best practices that reduce risk of employee suing for unjust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act of criminal activity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B841DD8-D915-46D8-9D5C-8264D17901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ability to perfor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uman rights legislation requires employer  to accommodate disabled employees providing it doesn’t place unreasonable burden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disability results in permanent incapacity to return to work, employment contract will be terminated due to fru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ck of work due to economic downturn is not just cause for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6B3B0EA-5D67-4CA0-A03E-A9FF5193D4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s disputes over whether or not adequate notice (or pay in lieu) was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just cause, even if found after termination, no notice (or pay in lieu)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laim is for difference in notice received and notice that should have been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cent cases severely restrict instances in which compensation may be increased if “bad faith”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21C2047-DB2F-45A9-ABF9-8834B469039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y harm to the employee’s reputation may increase notic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also factor in regular bonuses and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6B5F8B7-0CE5-49A8-AD1E-7F2818E9DC2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 make reasonable effort to mitigate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mages will be reduced by whatever employee makes during notic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instatement usually not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ossible if breach of sta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llowed under collectiv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42A6F3D-A841-463C-9FA9-FBAB8194B31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y demotion, transfer, or otherwise changing conditions of employment, employee may be made so uncomfortable that he/she will q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ther intentional or not, this is constructive dismiss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1997D52-ADED-465A-8FA0-729700BA0C9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can sue for wrongful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’s obligation to mitigate may require him/her to take alternate position unles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should communicate with employee and try to identify appropriate 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0802F9B-DB7E-4F2C-BD8E-8878EFF8741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ay quit for caus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ven dangerous or illegal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properly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t into dangerous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no longer perform duties due to disability or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mportant term of employment contract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F12FE60-B2AC-4A5F-A129-23B409F610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may provide for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no contract, must give 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much less than employer is required to give unless employee has special role i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liable for wrongful or inappropriate conduct when 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9CE6096-4077-4A06-802A-61B77DA284C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take confidential information, customer lists, secret formulas, or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persuade customers to accompany employee to 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comply with restrictive covenant in contract if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A5CF655-0DF9-4111-9553-907550E71EB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ers banded together in 19</a:t>
            </a:r>
            <a:r>
              <a:rPr b="0" lang="en-CA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entury to fight poor work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Act modelled on the U.S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agner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hich recognized right to organize collectively if supported by majority of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our relations boards established to deal with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6887877-0BE4-4048-B755-8818F04158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: Someone who represents another (principal) in dealings with third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an employee or an independent contr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involves entering into contracts on behalf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instead include other services such as filing documents or negotiation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3CC5453-C7B8-4276-BA58-11D1725BCA8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eneral right for employees to be members of trade union and bargain coll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firmed as a righ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nagement and some essential services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required minimum percentage of workers have signed up as members, union may apply to Labour Relations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EC9F0FB-9142-4CAC-B29E-FCEC8D3FB59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tion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ed through cer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risdictional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s between unions as to who will represent new group of employees or who will perform certain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lved by application to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DDD2B04-9610-4572-B3BC-8100DE0AAC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bargaining unit is identified and requisite number of employees sign up, union applies to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some jurisdictions, with enough signatures, union can be certified without a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jurisdictions require a certification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union is certified, employer must deal with union exclu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C4DC627-EB9C-44B7-B7B2-0781F13AC4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nterference with certification process is an unfair labour practice and pro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riminal offence to fire or intimidate anyone from becoming member and may trigger automatic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have the right to comment on organization process and its effects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may also join together for bargaining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206FA50-84A0-40E8-B1FF-73DA35B8B4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certified, either party can serve notice to commence barg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f union must ratify collective agreement for it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ither party or the government can request mediation to assist with bargai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job action allowed during 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unsuccessful, mediator will “book ou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8D4BB65-BDD3-4E6F-8638-67D978BE30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must include certain te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 dispute during agreement (rights dispute) must be handled through a grievance process culminating in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ikes and walkouts illegal during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greement must be at least one year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contract can be imposed by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CADCA7C-1A4D-43BA-9A3D-15A7C638A9D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ions often insist on union shop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ture employees must joi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 for those with religious ob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may require a closed 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members of union will be h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ssible to have a Rand formula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 required to join union, but must pay dues and are subject to collectiv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eck-off provisio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 deducts union dues from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BCD4823-D44D-40EE-B756-B7EACD6A6D3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ermitted during interest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over terms to be included in 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have bargained in good faith; mediators must have booked out; must serve notice to oth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rike – employees withdraw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ckout – employer closes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0F6A17C-1D40-4BF1-A275-277AAAF0B64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will try to keep business running using management or replacement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ic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ear at job site attempting to persuade customers, suppliers, and employees not to deal with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not attempt to prevent someone from crossing picke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e unions must properly represen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128009D-5CE3-45CC-BBD5-C56D97DA20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s contribute to fund that works like insurance; pays if employee injured or becomes ill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tablishes health and safety standards in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th employer and employee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nefits paid to unemployed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A18BFB5-FF17-4815-9EAC-2A7B2C54F6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eation of 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d when principal grants authority to agent on his/her behalf, usually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reated gratuit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May be inferred from conduct of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24C8DA7-4019-49F1-B58E-76085C2AEE8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uman rig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hibits discrimination and hara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ment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minimum standards for wages, notice, overtime, lea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rds cannot be waived by contract unless higher standard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boards to hear 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42F9E9D-F667-4A2C-BABF-C13CDFC7939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establish good working relationship with employees, including clear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employmen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 of employees and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disciplinar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know employee rights, including right to du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EF0A627-8B70-422C-B3FD-3B6E581016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process of progressive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ocumentation of evidence of behaviour pattern (with records available for subsequent liti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regular evaluation reviews with problems 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2CC5D26-E0D3-406B-A411-3E81F9C6CD7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– Section 322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mischief (e.g., sabotage) – Section 43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– Section 38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lifting by customers – also theft, but usually involves lesser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9E99E49-FAFC-4BB3-8600-C2DFF7D9D42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and prevention of crime are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alance costs agains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employee morale and customer good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make employees aware of surveillance to avoid violation of privacy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s must be well-trained to deal with shopl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1A4C5D8-D836-44B5-AF62-914305D3C9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spect employe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use internal or police 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reasonable ground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olice can get search war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prove beyond a reasonable doubt to pros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terminate employee for jus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not obstruct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B3BAB15-3538-4CB2-80D7-C7B4A9DBBF6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frau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is v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inform employees of surveillance; privacy legislation varies by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yers should be involved at first stage (forensic au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use great care in dealing with employee termination, confidentiality, recovery of mone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inal prosecution may b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B89E562-568E-4873-82B3-C14DC9110C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ual authority may be expressed or i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ressed authority - When principal directly grants authority to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lied authority – Derived from expressed terms and surround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does something to lead a third party to think agent ha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 can rely on repres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59B63AE-0447-404F-955B-C16666B123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sto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vents employer from denying someone has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principal does something to lead a third party to reasonably believe that the “agent” has authority to act, the principal cannot later deny such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2E692E6-1D28-47BD-97FC-6FCC41B4C4F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14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9C9285E-EED9-4565-AAC8-EFA297EFD9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gent exceeds both actual and apparent authority, principal is not bound but may still ratify (creating a binding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tentionally by expressly ra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advertently by principal taking some benefit under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ants retroactive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8:39Z</dcterms:created>
  <dc:creator>Client Name</dc:creator>
  <dc:description/>
  <dc:language>en-US</dc:language>
  <cp:lastModifiedBy>User</cp:lastModifiedBy>
  <dcterms:modified xsi:type="dcterms:W3CDTF">2012-04-24T16:29:27Z</dcterms:modified>
  <cp:revision>187</cp:revision>
  <dc:subject/>
  <dc:title>Slide 1</dc:title>
</cp:coreProperties>
</file>