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7FED-4282-419F-8D05-0F9368F69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0B8F-3815-4D1E-A6FF-D93B07EFD9FF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B7DE-91AC-4501-A601-77197133D4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8CDA-1BDC-431C-B8F8-D276596D1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E7F5-2D49-4427-B69A-F92A8599BE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F938-D0DA-4CA8-8D09-865F082BD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97994-8323-4A81-A8A6-D2E00E65EB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32846-B4E9-4BF3-AE8A-220BB9FD41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6CC3E-756E-4FF4-8FCD-93BA01385A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2A0B0-A9BE-47D3-8506-0A14FB85E4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49DCF-48DD-4D7E-9314-1B3459BE70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CB1C9-BD15-448A-81DE-B2FFEAD3EF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D6641-9367-4E33-B6D6-3425405CE3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2EAD-E243-4140-872D-1EC235C1A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9BDFA-D6A7-432E-994F-81E6CC2C07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9E544-B30B-481F-A88C-F23FABF4FB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4A911-AD11-4A92-9A08-D035256D24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A43D1-02CC-40E9-8C6B-5AA4E607F2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593D7-09B9-4D78-AB5A-CCDD476A85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4B0B-D0F5-4017-9D58-3B62D8F77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86B1-1445-4FF4-97FA-755692AFD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52B9-6192-4455-82E0-02EFA14B5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DFA8-08A8-45C1-BA95-EF8F6D7E0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50EB-EED3-4D6D-99EB-535614089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C415-B28D-4B6A-9819-D4F0FA34E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74B4-9525-4CB5-B5EE-54CE6CF9F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4724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05AC0AB-8D88-4275-B807-209CCC6C734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65A1119-535C-4DED-BB90-8DC4A16BF47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0D29D1E-54C3-451F-93E5-50A422FD5C0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cy 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lo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107590D-CBC8-4FC5-A11C-58ECE71AED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on 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 at time of ra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at time agent purported to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atify within reasonable time after agent’s unauthorized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B889056-2DEA-4424-8A04-A337DC0EFE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one person is held responsible for the torts committed b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principal and agent may be held respo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agent is employee, there will be vicarious liability if employee acting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2CE4A82-1BFE-4F9F-B8A2-6F929EB94A4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for agent that is independent contractor is more restr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incipal only liable if tort causing injury took place during actual exercise of authority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ually restricted to fraud and negligent mis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agent passed information on innocently, then only principal who gave information is 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51C4A09-606B-42C2-979D-8E4C077E8B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impos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 may impose liability on owner of a vehicle when another has been given permission to use motor vehicle (either expressly or impl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B2EE911-EEF5-4DE5-816F-7EC284681E2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third party has no claim against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gent has exceeded authority, third party can sue agent for claiming authority not possessed (i.e. tort of “breach of warranty of authority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0611A9B-A9AD-412E-9E98-B075B89B9B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disclosed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agent does not disclose he/she is acting as an agent or refuses to disclose who the principal is, third party must sue th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identity of principal is learned, a (binding) choice must be made as to which party to 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for undisclosed principal is not binding if identity of undisclosed principal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23AED5E-909B-45F1-A4F4-B32405F639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agent’s obligation to act in the best interests of the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utmost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personal advantage of business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isclose all conflicts of inte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full disclosure of al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act only for one side 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7C19A26-1026-46D6-AD72-69946B52346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not make profit at expense of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secret commissions (crim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to act compe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delegate responsibilities (except where based on certain industry pract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A886C67-A329-44FA-ADB9-278C11FC173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normally ends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b is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receives different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or agency relationship is changed or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also ends when project becomes illegal or the principal dies, goes bankrupt, or becomes ins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33D7F17-8112-445B-BE20-812C0CB2BF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sue of apparent authority re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st to avoid apparent authority from the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pparent authority exists, principal must notify customers and suppliers who deal with agent when agency relationship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wer of attorney that continues after principal becomes mentally incapacitated now po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2E2B1FD-FFD3-4FCF-A373-A19C176406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roles and limitations placed o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liability of principals and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fiduciary duty of agents and princi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ppropriate process for disciplining and terminating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role of unions in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639810B-21EB-4A39-9879-3DD5D143A8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storically recognized as master-servan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lationship now based on contr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amount of legislation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ized statutes deal with collective bargaining and unionized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62E64B9-9051-4B03-955F-8DC7A75EC0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tests limited to operation of specific stat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 Test - Historical test to determine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dependent contractors control their own hours and how they do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es work under direction of employer and can be told what to do and how to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A150A81-4A29-4FBC-8923-D80B0344CD8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ganizati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individual is an integral and essential part of the organization, he/she is an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ependent contractor works for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differentiate as employers are vicariously liable for torts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9DB7EDA-6C03-442F-8369-5426409B06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must prov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fe work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ropriat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ols whe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imbursement for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other requirements included in employment contract, e.g. provide medical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1A3EE73-4FE5-4089-A5D5-98A79322E0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reasonably compe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ve the skills clai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honest, punctual, lo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 the work agre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we a fiduciary duty if manager or key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2FEBC20-094B-4C98-A78C-ADC2EA8DFF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der common law, must give reasonable notice of termination (in absence of “just caus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give notice or pay in lieu of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contract may contain terms related to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mum statutory requirements must always be met, but often employee will receive much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A2B0CF6-5479-47E6-AE9F-A1243636F35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length of service, importance of job, age, likelihood of finding other employ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 of thumb is one month per year of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mployment Standards Act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stablish minimum required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933235E-8356-40C2-A062-BA06CD608B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 Peri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53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0577F0A-C6CB-46E4-B95A-91473202899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notice of termination required if just cause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ing dishonest with employer or acted immo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victed of crime that interferes with ability to perform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obeyed lawful instruction from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mitted an actionable wrong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ed on a 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207C8E1-A0F6-49E8-A83A-49EE704732F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clearly inform employee of shortcomings and give him/her a chance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have regular 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acceptable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not constitute just cause unless very se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vide reprimand and counseling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provide progressiv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7927A9D-3CCF-4EEA-B025-D1DEF6770D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obligations of employers in providing a safe work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list of best practices that reduce risk of employee suing for unjust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act of criminal activity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92CEEE4-462E-421F-9333-AA58100D242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ability to perform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uman rights legislation requires employer  to accommodate disabled employees providing it doesn’t place unreasonable burden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disability results in permanent incapacity to return to work, employment contract will be terminated due to fru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ck of work due to economic downturn is not just cause for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1E68B88-758B-4BC0-B8BE-CF6B33D0C8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s disputes over whether or not adequate notice (or pay in lieu) was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just cause, even if found after termination, no notice (or pay in lieu)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laim is for difference in notice received and notice that should have been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cent cases severely restrict instances in which compensation may be increased if “bad faith”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E2EE55E-BD12-48D0-8546-806EFA5787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y harm to the employee’s reputation may increase notic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also factor in regular bonuses and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AD83535-1B1E-4ACB-9B9F-1B09821934B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 make reasonable effort to mitigate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mages will be reduced by whatever employee makes during notic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instatement usually not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ossible if breach of sta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llowed under collectiv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7307D8F-570B-47AB-8B67-C608226D66A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y demotion, transfer, or otherwise changing conditions of employment, employee may be made so uncomfortable that he/she will q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ther intentional or not, this is constructive dismiss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72DA56C-1913-4650-947F-6B05683E333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can sue for wrongful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’s obligation to mitigate may require him/her to take alternate position unles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should communicate with employee and try to identify appropriate 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1182C59-6326-4C89-8C4F-214E7122FFB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ay quit for caus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ven dangerous or illegal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properly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t into dangerous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no longer perform duties due to disability or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mportant term of employment contract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BFBEB6D-8C9D-4F35-9330-5D4CAAC1113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may provide for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no contract, must give 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much less than employer is required to give unless employee has special role i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liable for wrongful or inappropriate conduct when 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6E22DD3-F115-4F73-A989-365E76559FD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take confidential information, customer lists, secret formulas, or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persuade customers to accompany employee to 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comply with restrictive covenant in contract if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5C03880-5DA8-444B-8250-18FDA3E7F15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ers banded together in 19</a:t>
            </a:r>
            <a:r>
              <a:rPr b="0" lang="en-CA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entury to fight poor work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Act modelled on the U.S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agner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hich recognized right to organize collectively if supported by majority of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our relations boards established to deal with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07E2FF3-EB93-4C24-86FE-75FF7E1FD67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: Someone who represents another (principal) in dealings with third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an employee or an independent contr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involves entering into contracts on behalf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instead include other services such as filing documents or negotiation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D955C79-6903-45A9-A531-5351ADE134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eneral right for employees to be members of trade union and bargain coll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firmed as a righ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nagement and some essential services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required minimum percentage of workers have signed up as members, union may apply to Labour Relations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9A6012C-D2C6-4145-ACBC-3CE1259985E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tion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ed through cer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risdictional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s between unions as to who will represent new group of employees or who will perform certain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lved by application to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D0F947A-C5E6-46F5-959D-AB5DD73AFC2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bargaining unit is identified and requisite number of employees sign up, union applies to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some jurisdictions, with enough signatures, union can be certified without a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jurisdictions require a certification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union is certified, employer must deal with union exclu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41B0FE3-1D3C-4B6A-B4C2-E0A50B4E214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nterference with certification process is an unfair labour practice and pro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riminal offence to fire or intimidate anyone from becoming member and may trigger automatic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have the right to comment on organization process and its effects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may also join together for bargaining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9B10FE2-CF94-4340-8DFC-33F20FE2B5A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certified, either party can serve notice to commence barg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f union must ratify collective agreement for it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ither party or the government can request mediation to assist with bargain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job action allowed during 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unsuccessful, mediator will “book ou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CC0D2A9-44F9-44A3-9094-B5846312D41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must include certain te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 dispute during agreement (rights dispute) must be handled through a grievance process culminating in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ikes and walkouts illegal during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greement must be at least one year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contract can be imposed by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76E853E-AF39-462E-8BCB-6863582BECD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ions often insist on union shop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ture employees must joi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 for those with religious ob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may require a closed 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members of union will be h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ssible to have a Rand formula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 required to join union, but must pay dues and are subject to collectiv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eck-off provisio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 deducts union dues from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04BFE3E-F414-4657-A24D-714010CE043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ermitted during interest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over terms to be included in agre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have bargained in good faith; mediators must have booked out; must serve notice to oth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rike – employees withdraw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ckout – employer closes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F291122-156D-4FFF-BCF8-077DD9F924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will try to keep business running using management or replacement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ic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ear at job site attempting to persuade customers, suppliers, and employees not to deal with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not attempt to prevent someone from crossing picke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e unions must properly represen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1B19C9A-43DF-45ED-A522-3CEE3FA988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ers’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s contribute to fund that works like insurance; pays if employee injured or becomes ill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tablishes health and safety standards in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th employer and employee con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nefits paid to unemployed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127831D-F5E0-43E3-9A75-02F5C58768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eation of 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d when principal grants authority to agent on his/her behalf, usually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reated gratuit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May be inferred from conduct of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BF12802-1434-4976-B04D-5004388E409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uman righ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hibits discrimination and hara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ment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minimum standards for wages, notice, overtime, lea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rds cannot be waived by contract unless higher standard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boards to hear 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F605458-4886-4D9A-8FFF-96E3A32317A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establish good working relationship with employees, including clear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employmen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 of employees and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disciplinary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know employee rights, including right to du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F974E2E-E8CE-404C-B5AC-4BBB12D10EA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process of progressive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roblem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ocumentation of evidence of behaviour pattern (with records available for subsequent liti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regular evaluation reviews with problems 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F4C7E91-A109-493A-A9E9-76BCF59763F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– Section 322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mischief (e.g., sabotage) – Section 43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– Section 38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lifting by customers – also theft, but usually involves lesser a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521BA3D-3728-4B87-9D5A-0E268240112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and prevention of crime are 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alance costs agains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employee morale and customer good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make employees aware of surveillance to avoid violation of privacy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s must be well-trained to deal with shopl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7FEBDC1-DC30-49F5-9B23-35B38980D7D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respect employee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use internal or police 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reasonable grounds to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olice can get search war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prove beyond a reasonable doubt to pros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terminate employee for jus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not obstruct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D385B35-19DB-47F8-842E-EA8A67B276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frau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is v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inform employees of surveillance; privacy legislation varies by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yers should be involved at first stage (forensic au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use great care in dealing with employee termination, confidentiality, recovery of mone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inal prosecution may b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939EC6C-BFD1-4B34-AC8D-0A61F969F62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ual authority may be expressed or i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ressed authority - When principal directly grants authority to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lied authority – Derived from expressed terms and surround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does something to lead a third party to think agent ha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party can rely on repres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DF57DD1-A64B-4036-ADDB-90BC5712E0F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Esto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vents employer from denying someone has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principal does something to lead a third party to reasonably believe that the “agent” has authority to act, the principal cannot later deny such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2368F4D-1159-4ACB-8396-F4634B07149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914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C371577-6E4E-48E4-8675-68DBB7440B1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gent exceeds both actual and apparent authority, principal is not bound but may still ratify (creating a binding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tentionally by expressly ra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advertently by principal taking some benefit under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ants retroactive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8:39Z</dcterms:created>
  <dc:creator>Client Name</dc:creator>
  <dc:description/>
  <dc:language>en-US</dc:language>
  <cp:lastModifiedBy>User</cp:lastModifiedBy>
  <dcterms:modified xsi:type="dcterms:W3CDTF">2012-04-24T16:29:27Z</dcterms:modified>
  <cp:revision>187</cp:revision>
  <dc:subject/>
  <dc:title>Slide 1</dc:title>
</cp:coreProperties>
</file>