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B836-637F-44F7-A4BD-BC731E55D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4B00-11D2-41AF-9646-45AB198CB41B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09DE2-6204-43C7-A43F-CB05ACAEB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0F3F-C98A-42EC-B9FA-2BB2D72CA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4C61-5792-4453-8A97-97560FF9A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2ADD7-DBF7-42DC-8B21-AA447E104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AF49C-FF8B-4E48-AE09-AD9F80658C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D5F1B-207D-4B02-A975-7AC9DF8B0F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8EB00-857F-4429-8858-64E964A0D8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A995E-29BF-49A7-8037-45F65AE64B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FD3FC-3752-4D5D-B954-86E6B27D77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AA542-AFA9-4B41-ACF7-0128ED97A0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C7349-97B9-46A2-9FAE-513708CBA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6617-753C-494F-9697-C38E2C563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20A22-DA6A-4B96-B21D-DE2D834A4B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C702C-F060-4138-B3B4-220DBC8E9C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B939F-44BD-4EC6-8405-D9D9530D16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23745-16E7-42CA-B956-8CED00323E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7B22D-C019-4229-ABA0-A64799DC6E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5ADB-9152-40C4-84FF-668ED1AAB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D7DA4-A335-444F-A418-8A2107F9D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1254-3055-43C7-B24B-CC222B4CB3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9827-091E-4058-AD6C-FE5CA042F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FC5F-D8F3-4167-9C66-FA72E916E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C374-2481-4595-8048-E78AEDA2E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6B4C-80A8-4A85-967E-ECFB4ACCC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4724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3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BA9917F-7EE7-4DE5-81AB-D0CBE8C7888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427CFEF-E6B4-4144-93D1-1C5A87CE32C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33A8E94-950C-4F1D-A573-2CFB40EF46B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cy an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loy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24502F0-AB50-4152-A175-73B7B742B34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tific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ons on rat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een possible to enter into contract  at time of ra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een possible to enter into contract at time agent purported to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atify within reasonable time after agent’s unauthorized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E52A34E-6800-4D05-8978-72A953EAB9C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n one person is held responsible for the torts committed b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th principal and agent may be held respo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re agent is employee, there will be vicarious liability if employee acting within scop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289A149-E90C-4479-82F0-2EB2EB88D14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ability for agent that is independent contractor is more restri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incipal only liable if tort causing injury took place during actual exercise of authority gra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ually restricted to fraud and negligent mis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agent passed information on innocently, then only principal who gave information is 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CEEAEF0-F612-4777-BBB5-FDC3728E89E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Vicarious Liabil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imposed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e may impose liability on owner of a vehicle when another has been given permission to use motor vehicle (either expressly or impli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396C2BE-9AD7-4B91-80C7-0079F1C5648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 – Third Party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enerally, third party has no claim against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agent has exceeded authority, third party can sue agent for claiming authority not possessed (i.e. tort of “breach of warranty of authority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935939C-C95B-421F-BC36-78731357656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 – Third Party Relationship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disclosed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agent does not disclose he/she is acting as an agent or refuses to disclose who the principal is, third party must sue the a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identity of principal is learned, a (binding) choice must be made as to which party to 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for undisclosed principal is not binding if identity of undisclosed principal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7ED1FFA-C34D-4E62-A100-809D8F4374A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-Principal Relationship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– agent’s obligation to act in the best interests of the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of utmost good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take personal advantage of business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isclose all conflicts of inter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ke full disclosure of al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act only for one side in a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B47C7EE-3B71-4723-A8B6-DABEA26D20D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t-Principal Relationship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uciary duty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not make profit at expense of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of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take secret commissions (crimi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s duty to act compet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delegate responsibilities (except where based on certain industry practi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6A017AB-2505-4EC7-89BF-66B181A413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Agency Relatio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ual authority normally ends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ob is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t receives different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or agency relationship is changed or 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ual authority also ends when project becomes illegal or the principal dies, goes bankrupt, or becomes ins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FEB940F-19BF-4A9F-AD4E-94520E60290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nd of Agency Relationship 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sue of apparent authority rem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st to avoid apparent authority from the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apparent authority exists, principal must notify customers and suppliers who deal with agent when agency relationship 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wer of attorney that continues after principal becomes mentally incapacitated now pos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FBF56FF-C18F-4FD7-A491-5B5C06526D9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roles and limitations placed on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liability of principals and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fiduciary duty of agents and princi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ppropriate process for disciplining and terminating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role of unions in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0C7CBF3-EF03-4857-A9FB-13FF95F5CFE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storically recognized as master-servant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lationship now based on contr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stantial amount of legislation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ecialized statutes deal with collective bargaining and unionized work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C6ADEDD-61EB-4786-8D27-58AD7F0BDEF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initions of Em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ory tests limited to operation of specific stat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ol Test - Historical test to determine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dependent contractors control their own hours and how they do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es work under direction of employer and can be told what to do and how to d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7C62103-92ED-4785-B296-ACBF7214825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Definitions of Employment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rganization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 individual is an integral and essential part of the organization, he/she is an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dependent contractor works for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differentiate as employers are vicariously liable for torts within scop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A15C9FC-A2E3-407F-8089-EEA3FF24A58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 of Emplo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 must provi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fe work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ropriat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ols where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imbursement for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other requirements included in employment contract, e.g. provide medical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1DF3AEA-CD56-4EB8-9768-99642340FFC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bligations of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 reasonably compe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ve the skills clai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e honest, punctual, lo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form the work agre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we a fiduciary duty if manager or key employ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9DDF865-477C-498F-BA23-88FFB20D88B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der common law, must give reasonable notice of termination (in absence of “just cause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give notice or pay in lieu of no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contract may contain terms related to 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nimum statutory requirements must always be met, but often employee will receive much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537CD9B-09C9-4925-BFEE-2F4E8D0E8E5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sonable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length of service, importance of job, age, likelihood of finding other employment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 of thumb is one month per year of em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Employment Standards Act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stablish minimum required no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44C0E1A-2727-4228-AB4D-4AD2524911A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ice Peri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534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F882C64-62B2-4646-8C8D-BE3E04F1D8E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notice of termination required if just cause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ing dishonest with employer or acted immo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victed of crime that interferes with ability to perform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obeyed lawful instruction from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mitted an actionable wrong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ed on a re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376FD20-78EA-4E28-A014-F749E6A0134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clearly inform employee of shortcomings and give him/her a chance to im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hould have regular eval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acceptable con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not constitute just cause unless very se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vide reprimand and counseling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hould provide progressive discip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A975386-F96F-41D7-A5BB-7F0D86E262C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obligations of employers in providing a safe work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a list of best practices that reduce risk of employee suing for unjust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impact of criminal activity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991B10A-2F21-46CC-B45C-E2759034481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st Caus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ability to perform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uman rights legislation requires employer  to accommodate disabled employees providing it doesn’t place unreasonable burden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disability results in permanent incapacity to return to work, employment contract will be terminated due to fru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ck of work due to economic downturn is not just cause for dismi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1CF64B5-46CC-46D6-8E02-F4F03D8DF3F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volves disputes over whether or not adequate notice (or pay in lieu) was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just cause, even if found after termination, no notice (or pay in lieu)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laim is for difference in notice received and notice that should have been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cent cases severely restrict instances in which compensation may be increased if “bad faith” dismis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FABD5FE-5B61-4B56-B8F2-8392AD840C1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y harm to the employee’s reputation may increase notice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also factor in regular bonuses and bene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3FCBD3C9-EE2D-4C8F-91C9-A2123836BEB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Wrongful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ust make reasonable effort to mitigate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mages will be reduced by whatever employee makes during notic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instatement usually not an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possible if breach of stat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allowed under collectiv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1A1D39FC-0387-4936-913A-3770F1947C4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uctive Dismis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y demotion, transfer, or otherwise changing conditions of employment, employee may be made so uncomfortable that he/she will q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hether intentional or not, this is constructive dismiss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9937937D-C225-4A55-9454-DF64E5E9A0F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structive Dismissal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can sue for wrongful dismis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’s obligation to mitigate may require him/her to take alternate position unless imprac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r should communicate with employee and try to identify appropriate arra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A33E2C9-B94E-461C-9865-E2AE7961373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may quit for caus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iven dangerous or illegal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t properly p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ut into dangerous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no longer perform duties due to disability or il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important term of employment contract b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AF34534-925E-4CA1-A47D-795502A24A5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may provide for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no contract, must give reasonable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much less than employer is required to give unless employee has special role i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liable for wrongful or inappropriate conduct when l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0103D00-D76F-468A-B77B-517EE3C8179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ermination by Employe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take confidential information, customer lists, secret formulas, or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not persuade customers to accompany employee to 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comply with restrictive covenant in contract if reaso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224F9EF-333A-41DD-A272-1641C20E25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llective Barg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kers banded together in 19</a:t>
            </a:r>
            <a:r>
              <a:rPr b="0" lang="en-CA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entury to fight poor working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Act modelled on the U.S.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agner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hich recognized right to organize collectively if supported by majority of wo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our relations boards established to deal with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4B9E2AF-11D0-43F3-9F09-807809BDD5C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ent: Someone who represents another (principal) in dealings with third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an employee or an independent contr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involves entering into contracts on behalf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instead include other services such as filing documents or negotiation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94BF93D-71F1-4F24-AC8C-9E4177C64B0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eneral right for employees to be members of trade union and bargain coll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firmed as a right under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Charter of Rights and Freed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nagement and some essential services ex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 required minimum percentage of workers have signed up as members, union may apply to Labour Relations Board for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CA40DCE-DB63-491A-8E38-BC9B6B1DA9B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cognition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duced through certif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urisdictional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s between unions as to who will represent new group of employees or who will perform certain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olved by application to Labour Relation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985E8C2-0F18-4DF1-92C0-3EFD61F8610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bargaining unit is identified and requisite number of employees sign up, union applies to board for 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some jurisdictions, with enough signatures, union can be certified without a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jurisdictions require a certification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union is certified, employer must deal with union exclu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E422274-0DC2-49F0-87FF-525CE91AC8B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ertific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interference with certification process is an unfair labour practice and prohib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riminal offence to fire or intimidate anyone from becoming member and may trigger automatic 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s have the right to comment on organization process and its effects on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s may also join together for bargaining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45AADE6F-5C44-4FF1-AD45-5EEF4A0974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ce certified, either party can serve notice to commence barg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mbers of union must ratify collective agreement for it to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ither party or the government can request mediation to assist with bargain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 job action allowed during 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unsuccessful, mediator will “book ou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D6D9CEC9-DCD8-4FCF-BFB3-28695D7A7A7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reement must include certain te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ny dispute during agreement (rights dispute) must be handled through a grievance process culminating in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rikes and walkouts illegal during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greement must be at least one year in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contract can be imposed by labour relations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42FE668-4FCE-43BD-9429-BB8EFA1B3AE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nions often insist on union shop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ture employees must join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ception for those with religious obj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act may require a closed 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nly members of union will be h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ssible to have a Rand formula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t required to join union, but must pay dues and are subject to collectiv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eck-off provisio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r deducts union dues from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AAFFC2AD-0C89-4469-997F-503EA31702B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ob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permitted during interest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 over terms to be included in agre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have bargained in good faith; mediators must have booked out; must serve notice to other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trike – employees withdraw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ckout – employer closes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4895A41-E867-4E4C-B600-3B04FC7F6BD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ob A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will try to keep business running using management or replacement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ic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ear at job site attempting to persuade customers, suppliers, and employees not to deal with emplo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not attempt to prevent someone from crossing picket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de unions must properly represent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D1B72C9-52E1-4BE0-B60F-5EECEF3237D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 Legi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ers’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mployers contribute to fund that works like insurance; pays if employee injured or becomes ill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stablishes health and safety standards in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ment 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th employer and employee con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enefits paid to unemployed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ED227972-94C1-4F39-AD23-64C525286FF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reation of Ag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ed when principal grants authority to agent on his/her behalf, usually b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be created gratuit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May be inferred from conduct of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620BE63E-9EBD-447F-8A21-63A91E97F05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Employment Legisla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uman righ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hibits discrimination and hara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ment standa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 minimum standards for wages, notice, overtime, leav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ndards cannot be waived by contract unless higher standard is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 boards to hear compl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F4B5687-D5E8-4BC9-BF2E-061DB27BE2C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establish good working relationship with employees, including clear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employment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ducation of employees and mana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ir disciplinary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know employee rights, including right to du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FD5690FE-4DA2-40B1-9139-4175AC1655C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process of progressive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problem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ocumentation of evidence of behaviour pattern (with records available for subsequent litig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regular evaluation reviews with problems iden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76301874-469B-4917-9CC1-39ACDB77400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lifting and employee th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heft – Section 322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mischief (e.g., sabotage) – Section 430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ud – Section 380 of Criminal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plifting by customers – also theft, but usually involves lesser a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13C45FE-6CD8-4E46-8645-20A0E06F5C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plifting and employee thef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on and prevention of crime are 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alance costs agains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employee morale and customer good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make employees aware of surveillance to avoid violation of privacy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s must be well-trained to deal with shopli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53A1F725-07ED-4A6B-BB4C-BAB4ECFF4B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thef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respect employee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use internal or police inves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reasonable grounds to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olice can get search war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prove beyond a reasonable doubt to pros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terminate employee for just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not obstruct 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8195A8F5-9DAA-45C8-87BB-6789E49AE54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upervising Employe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loyee frau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ion is v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to inform employees of surveillance; privacy legislation varies by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wyers should be involved at first stage (forensic au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use great care in dealing with employee termination, confidentiality, recovery of mone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inal prosecution may be appropr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2DE60C29-52E9-4D34-A545-45B1B348D00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ual authority may be expressed or im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ressed authority - When principal directly grants authority to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lied authority – Derived from expressed terms and surrounding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ar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 does something to lead a third party to think agent has 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party can rely on repres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BA9E89A6-2949-4036-B90E-8045107D13C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Esto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events employer from denying someone has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principal does something to lead a third party to reasonably believe that the “agent” has authority to act, the principal cannot later deny such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sed on apparent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04F83F35-59A1-499D-A001-9FFCF156AD3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914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6 - </a:t>
            </a:r>
            <a:fld id="{C3AB0FF9-C797-4599-9BA0-3A182E73BD5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a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re agent exceeds both actual and apparent authority, principal is not bound but may still ratify (creating a binding con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ratify intentionally by expressly rat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y ratify inadvertently by principal taking some benefit under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rants retroactive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48:39Z</dcterms:created>
  <dc:creator>Client Name</dc:creator>
  <dc:description/>
  <dc:language>en-US</dc:language>
  <cp:lastModifiedBy>User</cp:lastModifiedBy>
  <dcterms:modified xsi:type="dcterms:W3CDTF">2012-04-24T16:29:27Z</dcterms:modified>
  <cp:revision>187</cp:revision>
  <dc:subject/>
  <dc:title>Slide 1</dc:title>
</cp:coreProperties>
</file>