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665C-82F5-4206-93DD-F329C0ECC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580B-F3A1-4833-A376-4F8BD4BB5513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3A29B-CE6D-4141-A21A-01CE247B1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35BE4-B14A-4ED1-BC72-1B454FBBA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C93B1-39AA-4B27-967E-A6E67E7BB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9C88B-2CAE-4E8C-88F6-E6E92DA84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105D8-CBE4-4879-B605-4D5E555708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33CA3-D7EC-4095-BE34-C3910CA61E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CDB25-AC36-4E22-ABCB-87F2306189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6D9FC-CA2A-4B41-A83D-7A6F23EC2E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E6FB5-CEA9-42AC-BC57-0C388C241F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60A0D-496E-47BB-822C-003F3977F8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D82B2-53F5-406C-894C-1ACA4BDF79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6A3B2-55DC-4803-9302-DC095DC27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8688D-92E9-4C0D-A60D-A97D179950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BB448-C26C-498A-A2B9-9F6E1613F3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A6FC7-E64D-47D8-80DF-9BC1EC2F3B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60162-7C43-4FED-ACD1-872A1FADBA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97882-3400-4525-812B-6C6D7CEB5E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A59F0-55CA-4F60-941E-A47D68E93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5272F-1007-4C3D-BD48-564AE0D27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8E310-0B03-450A-B129-2E90B0DE3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3553E-6AFA-4049-A421-87A0552A9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A9321-4B05-40EF-90C1-CB433AC6B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19A14-2271-4757-A1A0-A43394F35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1E173-5F4B-4EEC-9265-96A33DEDD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248160" y="4724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132C6901-0D26-44C3-83EC-1300CC96CE8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C811A79-94BE-4E47-BE8D-427CD9367B7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6EC900C3-1A8B-4C1C-BDFC-EA473F4E0BA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cy an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ploy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67CC28B-0B97-44D6-82A7-C82E7B04544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atific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trictions on ra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have been possible to enter into contract  at time of ra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have been possible to enter into contract at time agent purported to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ratify within reasonable time after agent’s unauthorized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3FC9A22-F61E-4C5A-8F9D-CC5E2484DB3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icarious 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n one person is held responsible for the torts committed by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th principal and agent may be held respo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re agent is employee, there will be vicarious liability if employee acting within scope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AB5F06B4-1ECF-427D-AB2F-3BFAEC57477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icarious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ability for agent that is independent contractor is more restri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incipal only liable if tort causing injury took place during actual exercise of authority gr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sually restricted to fraud and negligent mis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agent passed information on innocently, then only principal who gave information is l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736BC2C4-9495-4709-8263-1EA4E67C3DF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icarious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imposed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ute may impose liability on owner of a vehicle when another has been given permission to use motor vehicle (either expressly or impli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F253DFC4-D24E-4FE7-994D-71599D880D2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t – Third Party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enerally, third party has no claim against a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agent has exceeded authority, third party can sue agent for claiming authority not possessed (i.e. tort of “breach of warranty of authority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F8205725-F7A8-4650-A92A-6993029919D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t – Third Party Relationship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disclosed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agent does not disclose he/she is acting as an agent or refuses to disclose who the principal is, third party must sue the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identity of principal is learned, a (binding) choice must be made as to which party to 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for undisclosed principal is not binding if identity of undisclosed principal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D71DC825-9257-4B58-A71A-8F3126FED21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t-Principal Relationship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duciary duty – agent’s obligation to act in the best interests of the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s duty of utmost good 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take personal advantage of business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disclose all conflicts of inter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make full disclosure of al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act only for one side in a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6722D877-C880-4BF0-A3E4-9CC10F69AA6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t-Principal Relationship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duciary duty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not make profit at expense of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s duty of 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take secret commissions (crimi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s duty to act compet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delegate responsibilities (except where based on certain industry practi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B7B32DA1-EAAF-4775-88B5-5D4DA2DF471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nd of Agency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ual authority normally ends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ob is fin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ent receives different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ment or agency relationship is changed or 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ual authority also ends when project becomes illegal or the principal dies, goes bankrupt, or becomes ins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63276E95-8360-41EC-BE2A-A115231F6B5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nd of Agency Relationship 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ssue of apparent authority rem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st to avoid apparent authority from the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re apparent authority exists, principal must notify customers and suppliers who deal with agent when agency relationship 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wer of attorney that continues after principal becomes mentally incapacitated now possi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6FDA1E73-24B8-44CE-AA83-AB713E87CA0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roles and limitations placed on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the liability of principals and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fiduciary duty of agents and princip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appropriate process for disciplining and terminating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the role of unions in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7E702EDF-DEF5-4EC1-9A82-F5684067FC9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m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istorically recognized as master-servant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lationship now based on contr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stantial amount of legislation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ecialized statutes deal with collective bargaining and unionized work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1FF38D84-BC1E-46A4-A0EA-667A12CAC9E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initions of Em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utory tests limited to operation of specific stat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ol Test - Historical test to determine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dependent contractors control their own hours and how they do th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mployees work under direction of employer and can be told what to do and how to d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82D3EFC-1992-45E9-A177-89AE12317F5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initions of Employment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rganization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the individual is an integral and essential part of the organization, he/she is an 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dependent contractor works for 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ant to differentiate as employers are vicariously liable for torts within scope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23F78BE-E626-44E1-B4FA-D9A7980E88E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bligations of Emplo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r must provi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afe work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ppropriate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ols where appropr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imbursement for exp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other requirements included in employment contract, e.g. provide medical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EB014446-A33B-447A-9563-55EDC95A6AD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bligations of Employ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m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 reasonably compe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ve the skills clai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 honest, punctual, loy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erform the work agre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we a fiduciary duty if manager or key 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62582944-FA81-4C3A-B8E4-17B28BAE8A1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der common law, must give reasonable notice of termination (in absence of “just caus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give notice or pay in lieu of no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ment contract may contain terms related to 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nimum statutory requirements must always be met, but often employee will receive much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47F1B77E-3078-4C4B-A56E-F0FC1EFA440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sonable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sed on length of service, importance of job, age, likelihood of finding other employmen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ule of thumb is one month per year of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Employment Standards Act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stablish minimum required no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A0503CCE-4EBB-45FA-88E7-99D0A3CF0AA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ice Peri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534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13FDAAC-633F-42F4-835F-958CC84EB2E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st 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 notice of termination required if just cause dismis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eing dishonest with employer or acted immor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victed of crime that interferes with ability to perform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sobeyed lawful instruction from emplo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mmitted an actionable wrong on the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ed on a res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D0B24CE-5979-4C43-8C2B-D99C8103B8E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st Caus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ompe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clearly inform employee of shortcomings and give him/her a chance to impr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hould have regular eval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acceptable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not constitute just cause unless very se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vide reprimand and counseling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hould provide progressive disc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988C7ED8-ECA9-4CF7-8225-DF7D5F0C4A1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obligations of employers in providing a safe work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list of best practices that reduce risk of employee suing for unjust dismis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impact of criminal activity o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F4EA1FB0-A45F-475C-B089-7EB5C10D24F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st Caus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ability to perform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uman rights legislation requires employer  to accommodate disabled employees providing it doesn’t place unreasonable burden o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disability results in permanent incapacity to return to work, employment contract will be terminated due to fru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ck of work due to economic downturn is not just cause for dismis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AD3F0CEC-667A-48FD-8044-2423C4A8465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rongful Dismis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involves disputes over whether or not adequate notice (or pay in lieu) was 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just cause, even if found after termination, no notice (or pay in lieu)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laim is for difference in notice received and notice that should have been 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cent cases severely restrict instances in which compensation may be increased if “bad faith” dismis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92C0E6F1-1A1C-4C97-9C99-8C75CB67BF1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rongful Dismissal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y harm to the employee’s reputation may increase notice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also factor in regular bonuses and 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75D02D38-ADBA-4F55-9B2A-1E905FE1025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rongful Dismissal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must make reasonable effort to mitigate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amages will be reduced by whatever employee makes during notice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instatement usually not an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possible if breach of stat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allowed under collective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69705AD-CE07-4DA4-A917-3C7937C6954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tructive Dismis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y demotion, transfer, or otherwise changing conditions of employment, employee may be made so uncomfortable that he/she will q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ther intentional or not, this is constructive dismiss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FF3E2E94-6372-43DD-8190-27CE281C415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tructive Dismissal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can sue for wrongful dismis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’s obligation to mitigate may require him/her to take alternate position unless imprac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r should communicate with employee and try to identify appropriate arran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30B2DB5A-E2D4-4DD5-9942-2FDAACF80C5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rmination by Employ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may quit for cause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iven dangerous or illegal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properly p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ut into dangerous sit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no longer perform duties due to disability or ill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important term of employment contract b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D44FE790-23D1-4094-B2A6-F57D3433696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rmination by Employe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may provide for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no contract, must give reasonable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much less than employer is required to give unless employee has special role i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liable for wrongful or inappropriate conduct when le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F49A9E45-1560-437D-88E2-D944F7B4270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rmination by Employe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not take confidential information, customer lists, secret formulas, or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not persuade customers to accompany employee to 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comply with restrictive covenant in contract if reaso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B9898E9-23DE-4F20-96CA-8E6697BFF0E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llective Barg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orkers banded together in 19</a:t>
            </a:r>
            <a:r>
              <a:rPr b="0" lang="en-CA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entury to fight poor working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ian Act modelled on the U.S.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agner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hich recognized right to organize collectively if supported by majority of wo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our relations boards established to deal with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239E177-73FF-47BD-A3D5-27819DC0576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ent: Someone who represents another (principal) in dealings with third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an employee or an independent contr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ually involves entering into contracts on behalf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instead include other services such as filing documents or negotiation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9C3077F5-D4AA-4309-A280-A879BAC89DD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eneral right for employees to be members of trade union and bargain collec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firmed as a right under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Charter of Rights and Freed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nagement and some essential services ex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the required minimum percentage of workers have signed up as members, union may apply to Labour Relations Board for 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D4691EE2-D2DC-4CDA-9BB1-C0DA8844905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cognition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duced through certifi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Jurisdictional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putes between unions as to who will represent new group of employees or who will perform certain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olved by application to Labour Relations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22E473AC-2880-4E07-AE6A-29CD5C4503E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er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ce bargaining unit is identified and requisite number of employees sign up, union applies to board for 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 some jurisdictions, with enough signatures, union can be certified without a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st jurisdictions require a certification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ce union is certified, employer must deal with union exclus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696CDED2-7B24-4FCF-8682-6B5ADC80D79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ertific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interference with certification process is an unfair labour practice and prohib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riminal offence to fire or intimidate anyone from becoming member and may trigger automatic cer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s have the right to comment on organization process and its effects o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s may also join together for bargaining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68CA5AE-2EF9-438C-AE95-C34353D595E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ce certified, either party can serve notice to commence barg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mbers of union must ratify collective agreement for it to be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ither party or the government can request mediation to assist with bargain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 job action allowed during me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unsuccessful, mediator will “book ou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3020CC65-EE62-4259-B6B5-D4365C9D79D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reement must include certain ter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y dispute during agreement (rights dispute) must be handled through a grievance process culminating in arbi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rikes and walkouts illegal during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greement must be at least one year in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contract can be imposed by labour relations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37C4E0D1-0473-4603-828A-C655FD52C4E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ions often insist on union shop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ture employees must join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ception for those with religious obj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may require a closed 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nly members of union will be h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ssible to have a Rand formula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t required to join union, but must pay dues and are subject to collective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eck-off provision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mployer deducts union dues from 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6A1F49C-6A7E-4E8F-A1AB-CA03FC48BDF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ob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permitted during interest disp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pute over terms to be included in agre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have bargained in good faith; mediators must have booked out; must serve notice to other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rike – employees withdraw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ockout – employer closes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6C5B3EEE-726D-4B86-8BAF-31CC82DF1CA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ob Ac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 will try to keep business running using management or replacement wo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ic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ppear at job site attempting to persuade customers, suppliers, and employees not to deal with emplo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not attempt to prevent someone from crossing picket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ade unions must properly represent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A34C7A05-AA9C-47BC-B015-DE61A47480D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mployment Legi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orkers’ comp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mployers contribute to fund that works like insurance; pays if employee injured or becomes ill on the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stablishes health and safety standards in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ment insur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oth employer and employee con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enefits paid to unemployed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272B413E-8AC1-40D8-8F4A-A25A3A02117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reation of Ag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ated when principal grants authority to agent on his/her behalf, usually by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created gratuit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May be inferred from conduct of pa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8FF738B8-E0A3-4EE8-9B98-79C0F3C8AFA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mployment Legisl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uman righ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hibits discrimination and hara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ment standa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tablish minimum standards for wages, notice, overtime, leav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ndards cannot be waived by contract unless higher standard is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tablish boards to hear compl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D673A5EE-EFAC-41FD-A314-FDE03C66DBA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ant to establish good working relationship with employees, including clear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ir employment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ducation of employees and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ir disciplinary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know employee rights, including right to du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9C3782CE-E943-4100-8B09-0AB623DF042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process of progressive discip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problem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documentation of evidence of behaviour pattern (with records available for subsequent litig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regular evaluation reviews with problems ident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71F4057E-6AAC-42AC-8503-277ECAD0115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plifting and employee th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theft – Section 322 of Criminal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mischief (e.g., sabotage) – Section 430 of Criminal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ud – Section 380 of Criminal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plifting by customers – also theft, but usually involves lesser am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40F108C-E595-4AF3-B9F6-47AEFE013FD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plifting and employee theft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ion and prevention of crime are 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alance costs against 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employee morale and customer good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make employees aware of surveillance to avoid violation of privacy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s must be well-trained to deal with shoplif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BA30A877-0EC5-44B5-888A-37898162439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thef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respect employee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use internal or police invest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ave reasonable grounds to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olice can get search war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prove beyond a reasonable doubt to prosec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terminate employee for just 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not obstruct ju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35E45D30-D037-434B-ABD5-21BC68DCB2C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frau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ion is v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to inform employees of surveillance; privacy legislation varies by prov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yers should be involved at first stage (forensic au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use great care in dealing with employee termination, confidentiality, recovery of money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inal prosecution may be appropr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E0548180-8325-41A7-AB2D-379ADBB533C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ual authority may be expressed or im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pressed authority - When principal directly grants authority to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lied authority – Derived from expressed terms and surrounding circum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arent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does something to lead a third party to think agent has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party can rely on repres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C9FF345-C77E-4044-925B-F4BC36C4B11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Estop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events employer from denying someone has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re principal does something to lead a third party to reasonably believe that the “agent” has authority to act, the principal cannot later deny such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sed on apparent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3E54A314-953C-47F2-BB26-62B12E5FF9A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6914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E2BC8A8B-ABF3-4E49-A378-B0D81BF2515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a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re agent exceeds both actual and apparent authority, principal is not bound but may still ratify (creating a binding con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ratify intentionally by expressly rat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ratify inadvertently by principal taking some benefit under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rants retroactive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48:39Z</dcterms:created>
  <dc:creator>Client Name</dc:creator>
  <dc:description/>
  <dc:language>en-US</dc:language>
  <cp:lastModifiedBy>User</cp:lastModifiedBy>
  <dcterms:modified xsi:type="dcterms:W3CDTF">2012-04-24T16:29:27Z</dcterms:modified>
  <cp:revision>187</cp:revision>
  <dc:subject/>
  <dc:title>Slide 1</dc:title>
</cp:coreProperties>
</file>