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5"/>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7"/>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5537585-6960-43B6-AB4F-A23879D2E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93659C-6A7D-4FC6-999C-097D08110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58840" y="681120"/>
            <a:ext cx="4540320" cy="3405240"/>
          </a:xfrm>
          <a:prstGeom prst="rect">
            <a:avLst/>
          </a:prstGeom>
          <a:ln w="0">
            <a:noFill/>
          </a:ln>
        </p:spPr>
      </p:sp>
      <p:sp>
        <p:nvSpPr>
          <p:cNvPr id="26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10BB2F-108A-4030-BB80-B57BCEB85F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C80D13-F3D9-4703-8B51-8CE986567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738723-C47C-4106-9B30-4FE03BD40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FC7C8C-C747-4A4E-BA30-137AB1152E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7FF188-DC32-4940-BB8C-36E1FF72D1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DC86C1-7A96-4058-B4C4-04AA91CB3F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3A1E0A-2A86-4426-85AE-1FBC8C2100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290A29-6495-47D3-B394-3DA088D630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26A261-6E38-46E8-9AD4-6F6035A4FE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D946B4-15BC-4864-B336-61D147BB0E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A1317D-0D79-4B55-A3AC-8158F9519D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1EC2B8-7C30-4363-8F4A-C93BCFD4B1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F67BC8-C421-455F-A0AF-48B7C0BD87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235392-D6B1-4C24-849D-D25BDD06EB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5685BE-4E01-4370-A6D5-1D9E7F993F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6F9E3A-6B4F-4AFA-BEDD-7637B663E7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6E2EAE-C4B3-422B-95D8-59361F4974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A5205-2028-4981-91E1-5211FAEAFB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AFD860-0267-4142-88AE-A104FC99EF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3BDCAC-E4C7-4972-92DD-AF17D7CE45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F9063-7A94-4106-9EAA-A598BF523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8BE0B-BA0F-448D-B479-825FE74FD0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3D7C3-5111-483A-8B15-76A23B99F8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EA5B58-780E-48B2-8C72-3F575D9ACB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4E27AD9-3242-4CDC-88F9-4F3ECCB757E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Pearson_WebBar_Top_Blue_RGB"/>
          <p:cNvPicPr/>
          <p:nvPr/>
        </p:nvPicPr>
        <p:blipFill>
          <a:blip r:embed="rId2"/>
          <a:stretch/>
        </p:blipFill>
        <p:spPr>
          <a:xfrm>
            <a:off x="0" y="0"/>
            <a:ext cx="9144000" cy="419040"/>
          </a:xfrm>
          <a:prstGeom prst="rect">
            <a:avLst/>
          </a:prstGeom>
          <a:ln w="0">
            <a:noFill/>
          </a:ln>
        </p:spPr>
      </p:pic>
      <p:sp>
        <p:nvSpPr>
          <p:cNvPr id="42" name="Rectangle 8"/>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a:t>
            </a:r>
            <a:r>
              <a:rPr b="0" lang="en-US" sz="1000" spc="-1" strike="noStrike">
                <a:solidFill>
                  <a:srgbClr val="333399"/>
                </a:solidFill>
                <a:latin typeface="Symbol"/>
                <a:ea typeface="Symbol"/>
              </a:rPr>
              <a:t></a:t>
            </a:r>
            <a:r>
              <a:rPr b="0" lang="en-US" sz="1000" spc="-1" strike="noStrike">
                <a:solidFill>
                  <a:srgbClr val="333399"/>
                </a:solidFill>
                <a:latin typeface="Times New Roman"/>
              </a:rPr>
              <a:t> 2012 Pearson Canada Inc.</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ftr" idx="3"/>
          </p:nvPr>
        </p:nvSpPr>
        <p:spPr>
          <a:xfrm>
            <a:off x="4724280" y="5028840"/>
            <a:ext cx="4267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13 Pearson Canada Inc.</a:t>
            </a:r>
            <a:endParaRPr b="0" lang="en-US" sz="1000" spc="-1" strike="noStrike">
              <a:solidFill>
                <a:srgbClr val="000000"/>
              </a:solidFill>
              <a:latin typeface="Arial"/>
            </a:endParaRPr>
          </a:p>
        </p:txBody>
      </p:sp>
      <p:sp>
        <p:nvSpPr>
          <p:cNvPr id="46"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4A63C22-1E89-41D0-9113-FDD024CD7DF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9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E6DD9E6-EDB9-48F2-B661-B0BA7603C30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p:nvPr>
        </p:nvSpPr>
        <p:spPr>
          <a:xfrm>
            <a:off x="696600" y="2468160"/>
            <a:ext cx="3552840" cy="36910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of</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rying 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siness</a:t>
            </a:r>
            <a:endParaRPr b="0" lang="en-US" sz="4400" spc="-1" strike="noStrike">
              <a:solidFill>
                <a:srgbClr val="000000"/>
              </a:solidFill>
              <a:latin typeface="Times New Roman"/>
            </a:endParaRPr>
          </a:p>
        </p:txBody>
      </p:sp>
      <p:sp>
        <p:nvSpPr>
          <p:cNvPr id="93" name="Rectangle 3"/>
          <p:cNvSpPr/>
          <p:nvPr/>
        </p:nvSpPr>
        <p:spPr>
          <a:xfrm>
            <a:off x="801720" y="457200"/>
            <a:ext cx="75423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5"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DB059AE-6882-4CAD-8890-D15DEDC88EA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inadvertence (implied from con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joint contribution of capital, joint participation in management of business, sharing of net profits, ong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tnership is formed without an express contract,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governs relations between the partne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F19DB26-7EFC-47C8-9A64-2200648652D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i="1" lang="en-US" sz="3200" spc="-1" strike="noStrike">
                <a:solidFill>
                  <a:srgbClr val="000000"/>
                </a:solidFill>
                <a:latin typeface="Times New Roman"/>
              </a:rPr>
              <a:t>estopp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creation of agency by </a:t>
            </a:r>
            <a:r>
              <a:rPr b="0" i="1" lang="en-US" sz="2800" spc="-1" strike="noStrike">
                <a:solidFill>
                  <a:srgbClr val="000000"/>
                </a:solidFill>
                <a:latin typeface="Times New Roman"/>
              </a:rPr>
              <a:t>estopp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 partnership is not actually created, liability of a partnership will be imposed on a person who represents self (or allows someone else to represent him/her) as a partner to a third par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cannot later deny the existence of the partnership to escape liability to that third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EF4D7D5-FFB8-4617-9486-71996BC3471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has unlimited liability for all debts and obligations during partner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personal li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ffected by partnership agreeme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vicariously liable for other partners and employe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an agent of the partnership and may bind it in contrac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FD1F3E6-4952-4DCB-ADC9-1BC5533D63C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select partners who are trustworthy and financially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provisions that relate to liability to outsiders can’t be mod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leaving the business must provide notification to othe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customers, suppliers, clients, indust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adequate insurance to cover li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6093349-86E7-48B7-B9C1-937F75102E1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governs relation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act out of some aspects, but not liabil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day-to-day operations by majority vote (or as otherwise agr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decisions require unanimous agreement and this can’t be chang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profits equally per the </a:t>
            </a:r>
            <a:r>
              <a:rPr b="0" i="1" lang="en-US" sz="3200" spc="-1" strike="noStrike">
                <a:solidFill>
                  <a:srgbClr val="000000"/>
                </a:solidFill>
                <a:latin typeface="Times New Roman"/>
              </a:rPr>
              <a:t>Act</a:t>
            </a:r>
            <a:r>
              <a:rPr b="0" lang="en-US" sz="3200" spc="-1" strike="noStrike">
                <a:solidFill>
                  <a:srgbClr val="000000"/>
                </a:solidFill>
                <a:latin typeface="Times New Roman"/>
              </a:rPr>
              <a:t> (or unequally by agreemen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E25EE4F-91A8-48FB-A55C-C2251773FD8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br>
              <a:rPr sz="4400"/>
            </a:br>
            <a:r>
              <a:rPr b="0" lang="en-US" sz="2800" spc="-1" strike="noStrike">
                <a:solidFill>
                  <a:srgbClr val="000000"/>
                </a:solidFill>
                <a:latin typeface="Times New Roman"/>
              </a:rPr>
              <a:t> (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do not get a salary; usually draw against prof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 partners must act in the best interests of the partn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take personal advantage of business opportunities, must disclose any conflict of interest, can’t compete with partnership, can’t use partnership property for personal interests, must account for all expenses and income, et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6420227-5F38-43DC-A5CD-8C12D604913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olution of Partnership</a:t>
            </a:r>
            <a:endParaRPr b="0" lang="en-US" sz="4400" spc="-1" strike="noStrike">
              <a:solidFill>
                <a:srgbClr val="000000"/>
              </a:solidFill>
              <a:latin typeface="Times New Roman"/>
            </a:endParaRPr>
          </a:p>
        </p:txBody>
      </p:sp>
      <p:sp>
        <p:nvSpPr>
          <p:cNvPr id="1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olution may result fr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h or bankruptcy/insolvency of partner (varies by province); may be modified by partnersh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by one part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project or specified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f partnership becomes illeg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order for dis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 assets used to pay off debts and expenses; remaining amount distributed to part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4A9CB16-161B-4E38-BE46-64BCFD7C1DC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Partners</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liability limited to amount invested in partnersh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vailable i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t least one general partn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hip is registe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 name is not used in name of busin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artner does not participate in management of busines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D46FEA6-FF95-4525-A715-E96AC030FEA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 Partnership</a:t>
            </a: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to certain professio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f the partnership must be registered and designated “L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s partners from negligent acts or omissions of their other partners (unless supervi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rtners must have liability in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1351EB5-28F2-403A-AB16-F84C8708E7E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ions</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corporation is a separate legal per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ognized as an efficient way of d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rtificially created by statute as a separate legal 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ists and has rights separate and apart from shareholders or dire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 all jurisdictions, the basic structures, rights and responsibilities of those involved and methods of financing are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FFC1C20-CF89-4FE9-8DF2-848146FBFD5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the three basic methods of carrying on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advantages and disadvantages of sole proprietorship and partn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a partner might limit his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risks of not planning how a business will evolv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2CAAEAD-D870-40C4-9F0E-08104D86E19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 can be created under federal or provincial and territorial statutes, using one of three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andum of Association and Articles of Association are filed at appropriate government agency which issues certificate of regist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Nova Scoti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8929C39-C3B7-4A6A-A7D5-31BA3287954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79" name="PlaceHolder 2"/>
          <p:cNvSpPr>
            <a:spLocks noGrp="1"/>
          </p:cNvSpPr>
          <p:nvPr>
            <p:ph/>
          </p:nvPr>
        </p:nvSpPr>
        <p:spPr>
          <a:xfrm>
            <a:off x="457200" y="1798560"/>
            <a:ext cx="8229600" cy="4525920"/>
          </a:xfrm>
          <a:prstGeom prst="rect">
            <a:avLst/>
          </a:prstGeom>
          <a:noFill/>
          <a:ln w="0">
            <a:noFill/>
          </a:ln>
        </p:spPr>
        <p:txBody>
          <a:bodyPr anchor="t">
            <a:normAutofit fontScale="98000"/>
          </a:bodyPr>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incorporation (Continued)</a:t>
            </a:r>
            <a:endParaRPr b="0" lang="en-US" sz="3200" spc="-1" strike="noStrike">
              <a:solidFill>
                <a:srgbClr val="000000"/>
              </a:solidFill>
              <a:latin typeface="Times New Roman"/>
            </a:endParaRPr>
          </a:p>
          <a:p>
            <a:pPr lvl="1" marL="727920" indent="-280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s patent </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patent, granting a charter creating a corporation, issued upon application by subscribers</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Quebec and P.E.I.</a:t>
            </a:r>
            <a:endParaRPr b="0" lang="en-US" sz="24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s of incorporation</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of incorporation are filed; certificate of incorporation issued by appropriate government agency</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most provinces and federally</a:t>
            </a:r>
            <a:endParaRPr b="0" lang="en-US" sz="24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19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73F5D51-AC16-40D7-9808-2B85D7EA374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Corporation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documents are the constitution of the compan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name, share structure, number and power of directors, any restrictions on types of busines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rporation also has byla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normal operating rules, responsibilities of directors and officers and management organiz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federally allows the corporation to carry on business in any provi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B2A9043-7E87-4B9E-BD34-3E108A58E51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Corporations</a:t>
            </a: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porting, public, or offering corpo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generally traded on stock mark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reg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rporations; few shar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agreement extremely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on free transferability of sha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9553659-92E8-45EF-87B8-4153BD80264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hold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of corporation, but owe no duty to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from corporatio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 at shareholder meetings (often by proxy); vote appoints directors who control the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 the directors (who supervise management and operation of the corpo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shareholder has ultimate contro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D31CA75-5A7A-45B5-95A2-134068FA187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s</a:t>
            </a: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t up different classes of sha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vote and share in dividends (i.e., distribution of corporate profits) when decla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see certain documen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no voting righ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over common shares for payment of divid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73E9CED-5A90-4449-A451-1F236CE5E9C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e Legal Person</a:t>
            </a: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 has the same powers of a natural person to carry on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ctivities carried out through ag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s:  Corporations created through special statutes (e.g., CBC, CN) may have restricted capacity to enter contra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8926E40-E7AC-412C-9386-08BAD249E10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a:t>
            </a: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and liabilities remain with corpo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shareholders, directors, and other participants are not l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may “lift the corporate veil” in certain situations and impose liability on directors or shareholders (e.g., criminal activities, frau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tion does not “d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is separate from ownership of corporation; managers are answerable to dire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2F8E71D-1587-4129-8664-256F0B0152E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dividends (if decla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assets upon dissolution of corpo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inspect certain rec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ty shareholders have right to “diss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greement with directors on major change that’s good for corporation but hurts minority shareholder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7CF793F-EC3A-4102-A133-5B94F86DFED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ression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 to shareholders, creditors, directors, offic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ctions negatively affecting the shareholders and the corpor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emptive r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hares must be offered first to existing sharehold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ve action (aka derivative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shareholder brings action for damage on behalf of the corporation, often against the dir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145E984-28D6-4BFB-9032-EEA3843AA5F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thods and objectives of incorpo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duties and obligations of directors and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thical business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various methods of funding corporate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554E103-15FF-41CE-8D01-0C8FCE4EBFF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ed by the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ty is to the corporation itse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exercise care, diligence, and skill of reasonably prudent person in comparable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 fiduciary duty to the corpo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always act in best interests of corpora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EE01681-3D13-4AE5-A5C4-F0E7694B6BC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includ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honesty and good fait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information to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business opportunit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pursue opportunity if board rejects the deal and gives permission to director to pursu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no conflict of inter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ny violation will require director to pay over profits made or be liable for any losse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A9832E2-D5BC-49B0-88E3-1F4BAB6644D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tory duties and liab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declare dividends if company insolv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taxes and ded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unpaid w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environmental dam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offences under </a:t>
            </a:r>
            <a:r>
              <a:rPr b="0" i="1" lang="en-US" sz="2800" spc="-1" strike="noStrike">
                <a:solidFill>
                  <a:srgbClr val="000000"/>
                </a:solidFill>
                <a:latin typeface="Times New Roman"/>
              </a:rPr>
              <a:t>Competition Act </a:t>
            </a:r>
            <a:r>
              <a:rPr b="0" lang="en-US" sz="2800" spc="-1" strike="noStrike">
                <a:solidFill>
                  <a:srgbClr val="000000"/>
                </a:solidFill>
                <a:latin typeface="Times New Roman"/>
              </a:rPr>
              <a:t>and other legislation, fraud, and criminal activ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diligence must be practic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92FB438-D1FA-41D1-8F00-93021BBAF55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arties</a:t>
            </a: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ed by direc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fiduciary duty to the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share liability with Directors (under statut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duties as directors and officers initi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not misrepresent or conceal information from future sharehol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932687F-120D-402F-BAEF-2A871736568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ncreased vigilance and tighter regulations after a number of high profile business scand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ethical standards and care in selection of people who control our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Comp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by U.N. to encourage ethics in multinational corporations through 10 princi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f public and private institution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9B042AB-710D-4264-A9E4-6DA41C7C2DC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buses are covered under </a:t>
            </a:r>
            <a:r>
              <a:rPr b="0" i="1" lang="en-US" sz="3200" spc="-1" strike="noStrike">
                <a:solidFill>
                  <a:srgbClr val="000000"/>
                </a:solidFill>
                <a:latin typeface="Times New Roman"/>
              </a:rPr>
              <a:t>Criminal Code of Ca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actors contribute to recent increase in frau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es need to implement measures to prevent and detect corporate fraud, such 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prevention tea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ethical standards and code of con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employee trai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ECD7174-9C88-412E-AA9A-080A2348602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79856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financing</a:t>
            </a:r>
            <a:endParaRPr b="0" lang="en-US" sz="32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s obtained through sale of shares</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d share capital determined at incorporation; issued shares usually less than total authorized</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value put on shares when issued; value determined by the market</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hares of broadly-held corporation initially issued, a prospectus with investor information is required</a:t>
            </a:r>
            <a:endParaRPr b="0" lang="en-US" sz="28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A0A79DF-C029-4B48-BB77-D052D4C876D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fin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ut security on corporate asse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r other creditor)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security and may require personal guarantees from directors and/or shareholder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s or debentu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debt; issued to the public and then traded on the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898E6DA-AD0F-4FB0-8875-79988C9EDD1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Summary</a:t>
            </a:r>
            <a:endParaRPr b="0" lang="en-US" sz="4400" spc="-1" strike="noStrike">
              <a:solidFill>
                <a:srgbClr val="000000"/>
              </a:solidFill>
              <a:latin typeface="Times New Roman"/>
            </a:endParaRPr>
          </a:p>
        </p:txBody>
      </p:sp>
      <p:pic>
        <p:nvPicPr>
          <p:cNvPr id="247" name="" descr=""/>
          <p:cNvPicPr/>
          <p:nvPr/>
        </p:nvPicPr>
        <p:blipFill>
          <a:blip r:embed="rId1"/>
          <a:stretch/>
        </p:blipFill>
        <p:spPr>
          <a:xfrm>
            <a:off x="1143000" y="1905120"/>
            <a:ext cx="7191360" cy="410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8A6E0D1-9D1E-4D8B-AE9B-3A05FB17F3D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Agreement</a:t>
            </a:r>
            <a:endParaRPr b="0" lang="en-US" sz="4400" spc="-1" strike="noStrike">
              <a:solidFill>
                <a:srgbClr val="000000"/>
              </a:solidFill>
              <a:latin typeface="Times New Roman"/>
            </a:endParaRPr>
          </a:p>
        </p:txBody>
      </p:sp>
      <p:sp>
        <p:nvSpPr>
          <p:cNvPr id="2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related to smaller closely-held corpo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out rights and responsibilities of each shareholder that are not otherwise specified in incorporating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t out any unique prov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nsensus and must comply with any legi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57200" y="1798560"/>
            <a:ext cx="8229600" cy="46785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structures availabl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e proprieto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ompany</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allows business to be carried on and a profit mad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must comply with government regulation and requirements, e.g. tax, CPP, workplace safety, etc.</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E579A47-43EA-44D0-8866-DD0E34088ED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1" name="Rectangle 2"/>
          <p:cNvSpPr/>
          <p:nvPr/>
        </p:nvSpPr>
        <p:spPr>
          <a:xfrm>
            <a:off x="457200" y="609480"/>
            <a:ext cx="8229600" cy="1143000"/>
          </a:xfrm>
          <a:prstGeom prst="rect">
            <a:avLst/>
          </a:prstGeom>
          <a:solidFill>
            <a:srgbClr val="66ccff"/>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720110E-B7FA-459E-B708-25D429CDCA7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exibility</a:t>
            </a:r>
            <a:endParaRPr b="0" lang="en-US" sz="4400" spc="-1" strike="noStrike">
              <a:solidFill>
                <a:srgbClr val="000000"/>
              </a:solidFill>
              <a:latin typeface="Times New Roman"/>
            </a:endParaRPr>
          </a:p>
        </p:txBody>
      </p:sp>
      <p:sp>
        <p:nvSpPr>
          <p:cNvPr id="2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Ven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ual relationship in any form to do business for a project, usually for limited period of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bility is based on business form chose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9D763E1-329E-4685-B04E-54A0321EA96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Flexibilit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hi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sive agreement for one company to sell the product or services of another, in a specified area, using all the names, logos, and advertising with permi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ranchisee must comply with all franchisor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ually requires start-up investment and then regular payments, often based on a percentage of prof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form contracts are custom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vinces have statutes regulating franch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25C99A0-7005-4693-9F8D-E77A4859D31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ividual carrying on business al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e proprietor =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wer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mal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gister a trade name, but not required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control</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2D2C67E-42D2-4F56-8A7B-AC655C1DE6D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mited li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Personal assets are vulnerable to credito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arious liability for torts of employee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ffset liability with 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A3F5EDE-4996-4701-8E52-20591EAADD1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nership</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or more people carrying on business together for the purpose of making a prof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 formal process (but may need to register with government 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es share the costs, participate in the management of the business, and ultimately expect to share the profit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2BE8877-4FAE-4BD4-B43E-A3AAF8C72DE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artnership</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d by </a:t>
            </a:r>
            <a:r>
              <a:rPr b="0" i="1" lang="en-US" sz="3200" spc="-1" strike="noStrike">
                <a:solidFill>
                  <a:srgbClr val="000000"/>
                </a:solidFill>
                <a:latin typeface="Times New Roman"/>
              </a:rPr>
              <a:t>Partnership Act </a:t>
            </a:r>
            <a:r>
              <a:rPr b="0" lang="en-US" sz="3200" spc="-1" strike="noStrike">
                <a:solidFill>
                  <a:srgbClr val="000000"/>
                </a:solidFill>
                <a:latin typeface="Times New Roman"/>
              </a:rPr>
              <a:t>common to common law provin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s out circumstances that do not create a partnership such a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rental profit from a jointly-owned proper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 commission or bonus based on business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68CA14D-CA84-4DD3-9FED-34EAFA32C1E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xpress con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greement indicates rights and obligations of partne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visions of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can be modified by agreement</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greement silent on a point, the </a:t>
            </a:r>
            <a:r>
              <a:rPr b="0" i="1" lang="en-US" sz="2800" spc="-1" strike="noStrike">
                <a:solidFill>
                  <a:srgbClr val="000000"/>
                </a:solidFill>
                <a:latin typeface="Times New Roman"/>
              </a:rPr>
              <a:t>Act</a:t>
            </a:r>
            <a:r>
              <a:rPr b="0" lang="en-US" sz="2800" spc="-1" strike="noStrike">
                <a:solidFill>
                  <a:srgbClr val="000000"/>
                </a:solidFill>
                <a:latin typeface="Times New Roman"/>
              </a:rPr>
              <a:t> prevail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8:27:47Z</dcterms:created>
  <dc:creator>Client</dc:creator>
  <dc:description/>
  <dc:language>en-US</dc:language>
  <cp:lastModifiedBy>User</cp:lastModifiedBy>
  <dcterms:modified xsi:type="dcterms:W3CDTF">2012-04-24T16:31:23Z</dcterms:modified>
  <cp:revision>156</cp:revision>
  <dc:subject/>
  <dc:title>Chapter 7</dc:title>
</cp:coreProperties>
</file>