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5"/>
          </p:nvPr>
        </p:nvSpPr>
        <p:spPr>
          <a:xfrm>
            <a:off x="3884400" y="-360"/>
            <a:ext cx="2971800" cy="4539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7" name="PlaceHolder 4"/>
          <p:cNvSpPr>
            <a:spLocks noGrp="1"/>
          </p:cNvSpPr>
          <p:nvPr>
            <p:ph type="body"/>
          </p:nvPr>
        </p:nvSpPr>
        <p:spPr>
          <a:xfrm>
            <a:off x="685800" y="4312800"/>
            <a:ext cx="548640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24520"/>
            <a:ext cx="2971800" cy="45396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7"/>
          </p:nvPr>
        </p:nvSpPr>
        <p:spPr>
          <a:xfrm>
            <a:off x="3884400" y="8624520"/>
            <a:ext cx="2971800" cy="45396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CBFF24B-36FB-488E-9620-7E16C2E0B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24880"/>
            <a:ext cx="297180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519E2B-2154-418C-8D61-BE12C652C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58840" y="681120"/>
            <a:ext cx="4540320" cy="3405240"/>
          </a:xfrm>
          <a:prstGeom prst="rect">
            <a:avLst/>
          </a:prstGeom>
          <a:ln w="0">
            <a:noFill/>
          </a:ln>
        </p:spPr>
      </p:sp>
      <p:sp>
        <p:nvSpPr>
          <p:cNvPr id="26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2B4C93-6899-42FA-8F42-392C435720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D2E5E2-2669-4113-AAAE-90FAAA7F1F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D2CF59-01B5-45B9-82A6-80615D912C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076F43-FFCB-434E-8EB0-51D294752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2C8299-6181-47DA-8083-C69EA11D4E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5740D8-1F84-48B8-A884-1637AFEDFF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172A5A-7546-4CA7-A151-A970F9FF5E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1F6029-9C17-417D-AD09-40AD2D7A5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4DF950-9D55-4296-BD0C-BA829BB135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B33DB8-1401-4833-BA06-E3D92C71C7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036B8E-4B9F-44A5-9759-AAEE894CBD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79856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32CA3A-E16C-432E-8389-CEDDE6DE52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715C0D-969F-4E36-A63D-4AA707705A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530B29A-8E14-4A72-B220-BCD9C5AE4D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7985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D4ED99-2C73-437E-992D-1C2595425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C12B2A7-8D46-4DB6-B537-2AFE3AB57B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45720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7985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41626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5E4A9B1-90ED-4F89-B761-8CDFBF8EEC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E68078-1C4D-4BB8-BDD0-C600417613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D15717-BD4A-4BCC-8F1D-2062BAFBEF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9AC781-D342-47EF-8049-423D3985A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435663-77D3-4A81-AA33-8C2478AAE0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E0275-F562-4991-BF4B-84564D243C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7985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1626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D2EE6A-C50C-4EEB-A386-ABA1FDED33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7985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1626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5BF0B-F1F6-4DAC-9300-D532B4A94E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Pearson_WebBar_Top_Blue_RGB"/>
          <p:cNvPicPr/>
          <p:nvPr/>
        </p:nvPicPr>
        <p:blipFill>
          <a:blip r:embed="rId2"/>
          <a:stretch/>
        </p:blipFill>
        <p:spPr>
          <a:xfrm>
            <a:off x="0" y="0"/>
            <a:ext cx="9144000" cy="419040"/>
          </a:xfrm>
          <a:prstGeom prst="rect">
            <a:avLst/>
          </a:prstGeom>
          <a:ln w="0">
            <a:noFill/>
          </a:ln>
        </p:spPr>
      </p:pic>
      <p:sp>
        <p:nvSpPr>
          <p:cNvPr id="3" name="PlaceHolder 3"/>
          <p:cNvSpPr>
            <a:spLocks noGrp="1"/>
          </p:cNvSpPr>
          <p:nvPr>
            <p:ph type="ftr" idx="1"/>
          </p:nvPr>
        </p:nvSpPr>
        <p:spPr>
          <a:xfrm>
            <a:off x="76320" y="6552720"/>
            <a:ext cx="2666880" cy="171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9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c) 2013 Pearson Canada Inc.</a:t>
            </a:r>
            <a:endParaRPr b="0" lang="en-US" sz="1000" spc="-1" strike="noStrike">
              <a:solidFill>
                <a:srgbClr val="000000"/>
              </a:solidFill>
              <a:latin typeface="Arial"/>
            </a:endParaRPr>
          </a:p>
        </p:txBody>
      </p:sp>
      <p:sp>
        <p:nvSpPr>
          <p:cNvPr id="4" name="PlaceHolder 4"/>
          <p:cNvSpPr>
            <a:spLocks noGrp="1"/>
          </p:cNvSpPr>
          <p:nvPr>
            <p:ph type="sldNum" idx="2"/>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EBB7B2E-87B7-4A20-9FDA-1FA6025ADF8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Pearson_WebBar_Top_Blue_RGB"/>
          <p:cNvPicPr/>
          <p:nvPr/>
        </p:nvPicPr>
        <p:blipFill>
          <a:blip r:embed="rId2"/>
          <a:stretch/>
        </p:blipFill>
        <p:spPr>
          <a:xfrm>
            <a:off x="0" y="0"/>
            <a:ext cx="9144000" cy="419040"/>
          </a:xfrm>
          <a:prstGeom prst="rect">
            <a:avLst/>
          </a:prstGeom>
          <a:ln w="0">
            <a:noFill/>
          </a:ln>
        </p:spPr>
      </p:pic>
      <p:sp>
        <p:nvSpPr>
          <p:cNvPr id="42" name="Rectangle 8"/>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a:t>
            </a:r>
            <a:r>
              <a:rPr b="0" lang="en-US" sz="1000" spc="-1" strike="noStrike">
                <a:solidFill>
                  <a:srgbClr val="333399"/>
                </a:solidFill>
                <a:latin typeface="Symbol"/>
                <a:ea typeface="Symbol"/>
              </a:rPr>
              <a:t></a:t>
            </a:r>
            <a:r>
              <a:rPr b="0" lang="en-US" sz="1000" spc="-1" strike="noStrike">
                <a:solidFill>
                  <a:srgbClr val="333399"/>
                </a:solidFill>
                <a:latin typeface="Times New Roman"/>
              </a:rPr>
              <a:t> 2012 Pearson Canada Inc.</a:t>
            </a:r>
            <a:endParaRPr b="0" lang="en-US" sz="1000" spc="-1" strike="noStrike">
              <a:solidFill>
                <a:srgbClr val="000000"/>
              </a:solidFill>
              <a:latin typeface="Arial"/>
            </a:endParaRPr>
          </a:p>
        </p:txBody>
      </p:sp>
      <p:sp>
        <p:nvSpPr>
          <p:cNvPr id="43" name="PlaceHolder 1"/>
          <p:cNvSpPr>
            <a:spLocks noGrp="1"/>
          </p:cNvSpPr>
          <p:nvPr>
            <p:ph type="title"/>
          </p:nvPr>
        </p:nvSpPr>
        <p:spPr>
          <a:xfrm>
            <a:off x="457200" y="533160"/>
            <a:ext cx="8229600" cy="1143000"/>
          </a:xfrm>
          <a:prstGeom prst="rect">
            <a:avLst/>
          </a:prstGeom>
          <a:solidFill>
            <a:srgbClr val="ccffff"/>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 name="PlaceHolder 3"/>
          <p:cNvSpPr>
            <a:spLocks noGrp="1"/>
          </p:cNvSpPr>
          <p:nvPr>
            <p:ph type="ftr" idx="3"/>
          </p:nvPr>
        </p:nvSpPr>
        <p:spPr>
          <a:xfrm>
            <a:off x="4724280" y="5028840"/>
            <a:ext cx="4267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c) 2013 Pearson Canada Inc.</a:t>
            </a:r>
            <a:endParaRPr b="0" lang="en-US" sz="1000" spc="-1" strike="noStrike">
              <a:solidFill>
                <a:srgbClr val="000000"/>
              </a:solidFill>
              <a:latin typeface="Arial"/>
            </a:endParaRPr>
          </a:p>
        </p:txBody>
      </p:sp>
      <p:sp>
        <p:nvSpPr>
          <p:cNvPr id="46" name="PlaceHolder 4"/>
          <p:cNvSpPr>
            <a:spLocks noGrp="1"/>
          </p:cNvSpPr>
          <p:nvPr>
            <p:ph type="sldNum" idx="4"/>
          </p:nvPr>
        </p:nvSpPr>
        <p:spPr>
          <a:xfrm>
            <a:off x="8152920" y="6553080"/>
            <a:ext cx="68580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3B5B64E-C025-4EC4-81F1-10BB7A90A286}"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9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05A6EBE-4FA9-42AC-B15F-B08E7A2AC62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92" name="PlaceHolder 1"/>
          <p:cNvSpPr>
            <a:spLocks noGrp="1"/>
          </p:cNvSpPr>
          <p:nvPr>
            <p:ph/>
          </p:nvPr>
        </p:nvSpPr>
        <p:spPr>
          <a:xfrm>
            <a:off x="696600" y="2468160"/>
            <a:ext cx="3552840" cy="36910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endParaRPr b="0" lang="en-US" sz="48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 of</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rying on</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Business</a:t>
            </a:r>
            <a:endParaRPr b="0" lang="en-US" sz="4400" spc="-1" strike="noStrike">
              <a:solidFill>
                <a:srgbClr val="000000"/>
              </a:solidFill>
              <a:latin typeface="Times New Roman"/>
            </a:endParaRPr>
          </a:p>
        </p:txBody>
      </p:sp>
      <p:sp>
        <p:nvSpPr>
          <p:cNvPr id="93" name="Rectangle 3"/>
          <p:cNvSpPr/>
          <p:nvPr/>
        </p:nvSpPr>
        <p:spPr>
          <a:xfrm>
            <a:off x="801720" y="457200"/>
            <a:ext cx="754236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title"/>
          </p:nvPr>
        </p:nvSpPr>
        <p:spPr>
          <a:xfrm>
            <a:off x="799920" y="533160"/>
            <a:ext cx="75438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egal Fundamentals </a:t>
            </a:r>
            <a:br>
              <a:rPr sz="4000"/>
            </a:br>
            <a:r>
              <a:rPr b="1" lang="en-US" sz="4000" spc="-1" strike="noStrike">
                <a:solidFill>
                  <a:srgbClr val="000000"/>
                </a:solidFill>
                <a:latin typeface="Times New Roman"/>
              </a:rPr>
              <a:t>for Canadian Business </a:t>
            </a:r>
            <a:br>
              <a:rPr sz="4000"/>
            </a:br>
            <a:r>
              <a:rPr b="1" lang="en-US" sz="2200" spc="-1" strike="noStrike">
                <a:solidFill>
                  <a:srgbClr val="000000"/>
                </a:solidFill>
                <a:latin typeface="Times New Roman"/>
              </a:rPr>
              <a:t>Third Edition</a:t>
            </a:r>
            <a:endParaRPr b="0" lang="en-US" sz="2200" spc="-1" strike="noStrike">
              <a:solidFill>
                <a:srgbClr val="000000"/>
              </a:solidFill>
              <a:latin typeface="Times New Roman"/>
            </a:endParaRPr>
          </a:p>
        </p:txBody>
      </p:sp>
      <p:sp>
        <p:nvSpPr>
          <p:cNvPr id="95" name="Text Box 5"/>
          <p:cNvSpPr/>
          <p:nvPr/>
        </p:nvSpPr>
        <p:spPr>
          <a:xfrm>
            <a:off x="13716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10508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7"/>
          <p:cNvSpPr/>
          <p:nvPr/>
        </p:nvSpPr>
        <p:spPr>
          <a:xfrm>
            <a:off x="1584360" y="5985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8"/>
          <p:cNvSpPr/>
          <p:nvPr/>
        </p:nvSpPr>
        <p:spPr>
          <a:xfrm>
            <a:off x="1508040" y="60609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1" descr="yates_LegalFund_CRV.jpg"/>
          <p:cNvPicPr/>
          <p:nvPr/>
        </p:nvPicPr>
        <p:blipFill>
          <a:blip r:embed="rId1"/>
          <a:stretch/>
        </p:blipFill>
        <p:spPr>
          <a:xfrm>
            <a:off x="5029200" y="2362320"/>
            <a:ext cx="28954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84D5BA6-3C5E-4F04-8340-6B7A0B410F4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inadvertence (implied from con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s considered:  joint contribution of capital, joint participation in management of business, sharing of net profits, ong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partnership is formed without an express contract,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governs relations between the partner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D00EA3F1-2EC7-471A-B866-A8D1B676938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a:t>
            </a:r>
            <a:r>
              <a:rPr b="0" i="1" lang="en-US" sz="3200" spc="-1" strike="noStrike">
                <a:solidFill>
                  <a:srgbClr val="000000"/>
                </a:solidFill>
                <a:latin typeface="Times New Roman"/>
              </a:rPr>
              <a:t>estopp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creation of agency by </a:t>
            </a:r>
            <a:r>
              <a:rPr b="0" i="1" lang="en-US" sz="2800" spc="-1" strike="noStrike">
                <a:solidFill>
                  <a:srgbClr val="000000"/>
                </a:solidFill>
                <a:latin typeface="Times New Roman"/>
              </a:rPr>
              <a:t>estopp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though a partnership is not actually created, liability of a partnership will be imposed on a person who represents self (or allows someone else to represent him/her) as a partner to a third part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cannot later deny the existence of the partnership to escape liability to that third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F007EC9-8C80-46B3-9DA8-D900585055AA}"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has unlimited liability for all debts and obligations during partner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mited personal liabil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ffected by partnership agreemen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vicariously liable for other partners and employe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rtner is an agent of the partnership and may bind it in contrac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737B3489-E74A-4671-92CF-6C9FEC0C58C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of Partne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 to select partners who are trustworthy and financially so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provisions that relate to liability to outsiders can’t be mod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leaving the business must provide notification to other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customers, suppliers, clients, industr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y adequate insurance to cover liabil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D9DB1D4-3015-437C-A3B7-3DB1CE75AFD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endParaRPr b="0" lang="en-US" sz="4400" spc="-1" strike="noStrike">
              <a:solidFill>
                <a:srgbClr val="000000"/>
              </a:solidFill>
              <a:latin typeface="Times New Roman"/>
            </a:endParaRPr>
          </a:p>
        </p:txBody>
      </p:sp>
      <p:sp>
        <p:nvSpPr>
          <p:cNvPr id="1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rtnership Act</a:t>
            </a:r>
            <a:r>
              <a:rPr b="0" lang="en-US" sz="3200" spc="-1" strike="noStrike">
                <a:solidFill>
                  <a:srgbClr val="000000"/>
                </a:solidFill>
                <a:latin typeface="Times New Roman"/>
              </a:rPr>
              <a:t> governs relationsh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act out of some aspects, but not liability</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of day-to-day operations by majority vote (or as otherwise agre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jor decisions require unanimous agreement and this can’t be chang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 profits equally per the </a:t>
            </a:r>
            <a:r>
              <a:rPr b="0" i="1" lang="en-US" sz="3200" spc="-1" strike="noStrike">
                <a:solidFill>
                  <a:srgbClr val="000000"/>
                </a:solidFill>
                <a:latin typeface="Times New Roman"/>
              </a:rPr>
              <a:t>Act</a:t>
            </a:r>
            <a:r>
              <a:rPr b="0" lang="en-US" sz="3200" spc="-1" strike="noStrike">
                <a:solidFill>
                  <a:srgbClr val="000000"/>
                </a:solidFill>
                <a:latin typeface="Times New Roman"/>
              </a:rPr>
              <a:t> (or unequally by agreement)</a:t>
            </a:r>
            <a:endParaRPr b="0" lang="en-US" sz="32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253BD96-7073-4E2C-A08D-1120BBE7D87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rtner Relationship</a:t>
            </a:r>
            <a:br>
              <a:rPr sz="4400"/>
            </a:br>
            <a:r>
              <a:rPr b="0" lang="en-US" sz="2800" spc="-1" strike="noStrike">
                <a:solidFill>
                  <a:srgbClr val="000000"/>
                </a:solidFill>
                <a:latin typeface="Times New Roman"/>
              </a:rPr>
              <a:t> (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do not get a salary; usually draw against prof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 partners must act in the best interests of the partn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t take personal advantage of business opportunities, must disclose any conflict of interest, can’t compete with partnership, can’t use partnership property for personal interests, must account for all expenses and income, et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E6A9213D-E87F-4156-AA08-A6AED42E88D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solution of Partnership</a:t>
            </a:r>
            <a:endParaRPr b="0" lang="en-US" sz="4400" spc="-1" strike="noStrike">
              <a:solidFill>
                <a:srgbClr val="000000"/>
              </a:solidFill>
              <a:latin typeface="Times New Roman"/>
            </a:endParaRPr>
          </a:p>
        </p:txBody>
      </p:sp>
      <p:sp>
        <p:nvSpPr>
          <p:cNvPr id="1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olution may result fro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th or bankruptcy/insolvency of partner (varies by province); may be modified by partnership agree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by one partn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ion of project or specified ti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 of partnership becomes illeg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 order for dissolu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 assets used to pay off debts and expenses; remaining amount distributed to partn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3F4B6A5-BB6D-47EB-9C50-D1C67C4D476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Partners</a:t>
            </a:r>
            <a:endParaRPr b="0" lang="en-US" sz="4400" spc="-1" strike="noStrike">
              <a:solidFill>
                <a:srgbClr val="000000"/>
              </a:solidFill>
              <a:latin typeface="Times New Roman"/>
            </a:endParaRPr>
          </a:p>
        </p:txBody>
      </p:sp>
      <p:sp>
        <p:nvSpPr>
          <p:cNvPr id="16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s liability limited to amount invested in partnershi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available i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t least one general partn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hip is register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mited partner’s name is not used in name of busin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partner does not participate in management of busin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F61040FB-AB8A-4328-90A4-6C1932745F0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 Partnership</a:t>
            </a:r>
            <a:endParaRPr b="0" lang="en-US" sz="4400" spc="-1" strike="noStrike">
              <a:solidFill>
                <a:srgbClr val="000000"/>
              </a:solidFill>
              <a:latin typeface="Times New Roman"/>
            </a:endParaRPr>
          </a:p>
        </p:txBody>
      </p:sp>
      <p:sp>
        <p:nvSpPr>
          <p:cNvPr id="16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to certain profession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f the partnership must be registered and designated “LL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s partners from negligent acts or omissions of their other partners (unless supervis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artners must have liability insur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6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8339D9D-48AF-4856-B983-6D4855A178C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ions</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 corporation is a separate legal per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cognized as an efficient way of doing busin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rtificially created by statute as a separate legal 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xists and has rights separate and apart from shareholders or direct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 all jurisdictions, the basic structures, rights and responsibilities of those involved and methods of financing are the sa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B6186EAA-70C9-4B9C-8026-9A8864DE05E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the three basic methods of carrying on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he advantages and disadvantages of sole proprietorship and partner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how a partner might limit his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risks of not planning how a business will evolve</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582845D-A532-423F-A2AB-980ACED8964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endParaRPr b="0" lang="en-US" sz="4400" spc="-1" strike="noStrike">
              <a:solidFill>
                <a:srgbClr val="000000"/>
              </a:solidFill>
              <a:latin typeface="Times New Roman"/>
            </a:endParaRPr>
          </a:p>
        </p:txBody>
      </p:sp>
      <p:sp>
        <p:nvSpPr>
          <p:cNvPr id="17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s can be created under federal or provincial and territorial statutes, using one of three metho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istr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andum of Association and Articles of Association are filed at appropriate government agency which issues certificate of registr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Nova Scoti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7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5D552EA-F7B1-4CA9-91D2-C1332C78A841}"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Creation of Corporations</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79" name="PlaceHolder 2"/>
          <p:cNvSpPr>
            <a:spLocks noGrp="1"/>
          </p:cNvSpPr>
          <p:nvPr>
            <p:ph/>
          </p:nvPr>
        </p:nvSpPr>
        <p:spPr>
          <a:xfrm>
            <a:off x="457200" y="1798560"/>
            <a:ext cx="8229600" cy="4525920"/>
          </a:xfrm>
          <a:prstGeom prst="rect">
            <a:avLst/>
          </a:prstGeom>
          <a:noFill/>
          <a:ln w="0">
            <a:noFill/>
          </a:ln>
        </p:spPr>
        <p:txBody>
          <a:bodyPr anchor="t">
            <a:normAutofit fontScale="98000"/>
          </a:bodyPr>
          <a:p>
            <a:pPr marL="335880" indent="-3358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hods of incorporation (Continued)</a:t>
            </a:r>
            <a:endParaRPr b="0" lang="en-US" sz="3200" spc="-1" strike="noStrike">
              <a:solidFill>
                <a:srgbClr val="000000"/>
              </a:solidFill>
              <a:latin typeface="Times New Roman"/>
            </a:endParaRPr>
          </a:p>
          <a:p>
            <a:pPr lvl="1" marL="727920" indent="-280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s patent </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ters patent, granting a charter creating a corporation, issued upon application by subscribers</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used in Quebec and P.E.I.</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s of incorporation</a:t>
            </a:r>
            <a:endParaRPr b="0" lang="en-US" sz="28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s of incorporation are filed; certificate of incorporation issued by appropriate government agency</a:t>
            </a:r>
            <a:endParaRPr b="0" lang="en-US" sz="2400" spc="-1" strike="noStrike">
              <a:solidFill>
                <a:srgbClr val="000000"/>
              </a:solidFill>
              <a:latin typeface="Times New Roman"/>
            </a:endParaRPr>
          </a:p>
          <a:p>
            <a:pPr lvl="2" marL="1119960" indent="-223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in most provinces and federally</a:t>
            </a:r>
            <a:endParaRPr b="0" lang="en-US" sz="24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199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2" marL="111996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C7AAC64-30CB-4E64-B8BF-A7946D45CDF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Corporation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8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documents are the constitution of the compan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name, share structure, number and power of directors, any restrictions on types of busines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corporation also has byla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out normal operating rules, responsibilities of directors and officers and management organiz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ing federally allows the corporation to carry on business in any provi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0AABAF5-4362-4299-AD7A-69663548E4FF}"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Corporations</a:t>
            </a:r>
            <a:endParaRPr b="0" lang="en-US" sz="4400" spc="-1" strike="noStrike">
              <a:solidFill>
                <a:srgbClr val="000000"/>
              </a:solidFill>
              <a:latin typeface="Times New Roman"/>
            </a:endParaRPr>
          </a:p>
        </p:txBody>
      </p:sp>
      <p:sp>
        <p:nvSpPr>
          <p:cNvPr id="18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ka reporting, public, or offering corpor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s generally traded on stock mark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reg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osely-held corpor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te corporations; few sharehold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agreement extremely import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trictions on free transferability of sha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8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04FF599-6600-4738-ADAC-63BC0D7F4A33}"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a:t>
            </a:r>
            <a:endParaRPr b="0" lang="en-US" sz="4400" spc="-1" strike="noStrike">
              <a:solidFill>
                <a:srgbClr val="000000"/>
              </a:solidFill>
              <a:latin typeface="Times New Roman"/>
            </a:endParaRPr>
          </a:p>
        </p:txBody>
      </p:sp>
      <p:sp>
        <p:nvSpPr>
          <p:cNvPr id="19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hold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mbers of corporation, but owe no duty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from corporation itsel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 at shareholder meetings (often by proxy); vote appoints directors who control the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 the directors (who supervise management and operation of the corpo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ity shareholder has ultimate contro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3ADBCB9C-6C26-4A92-8318-7D9075B85B3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s</a:t>
            </a:r>
            <a:endParaRPr b="0" lang="en-US" sz="4400" spc="-1" strike="noStrike">
              <a:solidFill>
                <a:srgbClr val="000000"/>
              </a:solidFill>
              <a:latin typeface="Times New Roman"/>
            </a:endParaRPr>
          </a:p>
        </p:txBody>
      </p:sp>
      <p:sp>
        <p:nvSpPr>
          <p:cNvPr id="19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set up different classes of sha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vote and share in dividends (i.e., distribution of corporate profits) when declar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 to see certain documen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ferred sha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no voting righ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over common shares for payment of dividen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9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B93D92D-FBB2-47C9-8FD8-7BB2AE222A2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e Legal Person</a:t>
            </a:r>
            <a:endParaRPr b="0" lang="en-US" sz="4400" spc="-1" strike="noStrike">
              <a:solidFill>
                <a:srgbClr val="000000"/>
              </a:solidFill>
              <a:latin typeface="Times New Roman"/>
            </a:endParaRPr>
          </a:p>
        </p:txBody>
      </p:sp>
      <p:sp>
        <p:nvSpPr>
          <p:cNvPr id="19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oration has the same powers of a natural person to carry on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activities carried out through ag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ptions:  Corporations created through special statutes (e.g., CBC, CN) may have restricted capacity to enter contrac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292A3C4-C932-45A5-B05A-D363D58AC5B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mited Liability</a:t>
            </a:r>
            <a:endParaRPr b="0" lang="en-US" sz="4400" spc="-1" strike="noStrike">
              <a:solidFill>
                <a:srgbClr val="000000"/>
              </a:solidFill>
              <a:latin typeface="Times New Roman"/>
            </a:endParaRPr>
          </a:p>
        </p:txBody>
      </p:sp>
      <p:sp>
        <p:nvSpPr>
          <p:cNvPr id="20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and liabilities remain with corpor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ly, shareholders, directors, and other participants are not li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s may “lift the corporate veil” in certain situations and impose liability on directors or shareholders (e.g., criminal activities, frau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poration does not “d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is separate from ownership of corporation; managers are answerable to direc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09698AE-6000-4241-8320-AB2DE9115275}"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endParaRPr b="0" lang="en-US" sz="4400" spc="-1" strike="noStrike">
              <a:solidFill>
                <a:srgbClr val="000000"/>
              </a:solidFill>
              <a:latin typeface="Times New Roman"/>
            </a:endParaRPr>
          </a:p>
        </p:txBody>
      </p:sp>
      <p:sp>
        <p:nvSpPr>
          <p:cNvPr id="2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vo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dividends (if decla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share in assets upon dissolution of corpor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ght to inspect certain rec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ority shareholders have right to “diss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greement with directors on major change that’s good for corporation but hurts minority shareholder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0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5892E7EF-0F87-4FB2-94A1-47D10BEFE2E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Right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pression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s to shareholders, creditors, directors, offic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ctions negatively affecting the shareholders and the corpor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emptive r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shares must be offered first to existing shareholder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ve action (aka derivative ac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ity shareholder brings action for damage on behalf of the corporation, often against the dire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0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E1BAD36-A9AE-45A0-8F6B-4A58CDDE587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rning Objectives</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0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thods and objectives of incorpora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duties and obligations of directors and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ethical business practi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various methods of funding corporate activi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A3DAC34-53CA-4948-813F-F011A2AE63C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endParaRPr b="0" lang="en-US" sz="4400" spc="-1" strike="noStrike">
              <a:solidFill>
                <a:srgbClr val="000000"/>
              </a:solidFill>
              <a:latin typeface="Times New Roman"/>
            </a:endParaRPr>
          </a:p>
        </p:txBody>
      </p:sp>
      <p:sp>
        <p:nvSpPr>
          <p:cNvPr id="2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ed by the sharehol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ty is to the corporation itse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exercise care, diligence, and skill of reasonably prudent person in comparable circumsta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a fiduciary duty to the corpo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always act in best interests of corporatio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1652F48-1E5B-433A-BEDF-D1DCE46D040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duciary duty includ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nstrating honesty and good faith</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information to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ing on business opportuniti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only pursue opportunity if board rejects the deal and gives permission to director to pursue</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no conflict of inter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Any violation will require director to pay over profits made or be liable for any losses</a:t>
            </a:r>
            <a:endParaRPr b="0" lang="en-US" sz="28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61DAA55-1252-4C29-9632-6EB73C4C070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s</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utory duties and liabili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declare dividends if company insolv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taxes and deduc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certain unpaid wa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environmental dam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le for offences under </a:t>
            </a:r>
            <a:r>
              <a:rPr b="0" i="1" lang="en-US" sz="2800" spc="-1" strike="noStrike">
                <a:solidFill>
                  <a:srgbClr val="000000"/>
                </a:solidFill>
                <a:latin typeface="Times New Roman"/>
              </a:rPr>
              <a:t>Competition Act </a:t>
            </a:r>
            <a:r>
              <a:rPr b="0" lang="en-US" sz="2800" spc="-1" strike="noStrike">
                <a:solidFill>
                  <a:srgbClr val="000000"/>
                </a:solidFill>
                <a:latin typeface="Times New Roman"/>
              </a:rPr>
              <a:t>and other legislation, fraud, and criminal activit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diligence must be practic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FD6F288-D159-4658-A7D9-A94DA4ED6D0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Parties</a:t>
            </a:r>
            <a:endParaRPr b="0" lang="en-US" sz="4400" spc="-1" strike="noStrike">
              <a:solidFill>
                <a:srgbClr val="000000"/>
              </a:solidFill>
              <a:latin typeface="Times New Roman"/>
            </a:endParaRPr>
          </a:p>
        </p:txBody>
      </p:sp>
      <p:sp>
        <p:nvSpPr>
          <p:cNvPr id="2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ointed by directo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fiduciary duty to the corpo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share liability with Directors (under statut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r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duties as directors and officers initiall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not misrepresent or conceal information from future sharehold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69A6BAE-0D40-4778-9DC8-EB42FA932360}"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endParaRPr b="0" lang="en-US" sz="4400" spc="-1" strike="noStrike">
              <a:solidFill>
                <a:srgbClr val="000000"/>
              </a:solidFill>
              <a:latin typeface="Times New Roman"/>
            </a:endParaRPr>
          </a:p>
        </p:txBody>
      </p:sp>
      <p:sp>
        <p:nvSpPr>
          <p:cNvPr id="2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increased vigilance and tighter regulations after a number of high profile business scand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high ethical standards and care in selection of people who control our busine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Compa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ed by U.N. to encourage ethics in multinational corporations through 10 princip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of public and private institution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012A563-F77A-4FCC-91D3-D9108767F05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rporate Governance</a:t>
            </a:r>
            <a:br>
              <a:rPr sz="4400"/>
            </a:br>
            <a:r>
              <a:rPr b="0" lang="en-US"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3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buses are covered under </a:t>
            </a:r>
            <a:r>
              <a:rPr b="0" i="1" lang="en-US" sz="3200" spc="-1" strike="noStrike">
                <a:solidFill>
                  <a:srgbClr val="000000"/>
                </a:solidFill>
                <a:latin typeface="Times New Roman"/>
              </a:rPr>
              <a:t>Criminal Code of Cana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factors contribute to recent increase in frau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es need to implement measures to prevent and detect corporate fraud, such a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prevention tea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ethical standards and code of conduc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employee trai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3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CEAC36B-2653-479C-8FEC-C869525EC50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endParaRPr b="0" lang="en-US" sz="4400" spc="-1" strike="noStrike">
              <a:solidFill>
                <a:srgbClr val="000000"/>
              </a:solidFill>
              <a:latin typeface="Times New Roman"/>
            </a:endParaRPr>
          </a:p>
        </p:txBody>
      </p:sp>
      <p:sp>
        <p:nvSpPr>
          <p:cNvPr id="239" name="PlaceHolder 2"/>
          <p:cNvSpPr>
            <a:spLocks noGrp="1"/>
          </p:cNvSpPr>
          <p:nvPr>
            <p:ph/>
          </p:nvPr>
        </p:nvSpPr>
        <p:spPr>
          <a:xfrm>
            <a:off x="457200" y="1798560"/>
            <a:ext cx="8229600" cy="452592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ity financing</a:t>
            </a:r>
            <a:endParaRPr b="0" lang="en-US" sz="32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s obtained through sale of shares</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orized share capital determined at incorporation; issued shares usually less than total authorized</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no value put on shares when issued; value determined by the market</a:t>
            </a:r>
            <a:endParaRPr b="0" lang="en-US" sz="2800" spc="-1" strike="noStrike">
              <a:solidFill>
                <a:srgbClr val="000000"/>
              </a:solidFill>
              <a:latin typeface="Times New Roman"/>
            </a:endParaRPr>
          </a:p>
          <a:p>
            <a:pPr lvl="1" marL="713160" indent="-2743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hares of broadly-held corporation initially issued, a prospectus with investor information is required</a:t>
            </a:r>
            <a:endParaRPr b="0" lang="en-US" sz="2800" spc="-1" strike="noStrike">
              <a:solidFill>
                <a:srgbClr val="000000"/>
              </a:solidFill>
              <a:latin typeface="Times New Roman"/>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72C6D4F-4C08-4CC9-AA44-37127A307752}"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ng</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t fin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eholders’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out security on corporate ass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r other creditor) loa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security and may require personal guarantees from directors and/or shareholder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s or debentur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debt; issued to the public and then traded on the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2A45B74F-9B32-43D2-9560-8863A19ACD8C}"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ability Summary</a:t>
            </a:r>
            <a:endParaRPr b="0" lang="en-US" sz="4400" spc="-1" strike="noStrike">
              <a:solidFill>
                <a:srgbClr val="000000"/>
              </a:solidFill>
              <a:latin typeface="Times New Roman"/>
            </a:endParaRPr>
          </a:p>
        </p:txBody>
      </p:sp>
      <p:pic>
        <p:nvPicPr>
          <p:cNvPr id="247" name="" descr=""/>
          <p:cNvPicPr/>
          <p:nvPr/>
        </p:nvPicPr>
        <p:blipFill>
          <a:blip r:embed="rId1"/>
          <a:stretch/>
        </p:blipFill>
        <p:spPr>
          <a:xfrm>
            <a:off x="1143000" y="1905120"/>
            <a:ext cx="7191360" cy="4103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4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D4E440D-4C4F-4C22-BF17-1D0D803F592B}"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areholders’ Agreement</a:t>
            </a:r>
            <a:endParaRPr b="0" lang="en-US" sz="4400" spc="-1" strike="noStrike">
              <a:solidFill>
                <a:srgbClr val="000000"/>
              </a:solidFill>
              <a:latin typeface="Times New Roman"/>
            </a:endParaRPr>
          </a:p>
        </p:txBody>
      </p:sp>
      <p:sp>
        <p:nvSpPr>
          <p:cNvPr id="25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ually related to smaller closely-held corpo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s out rights and responsibilities of each shareholder that are not otherwise specified in incorporating docu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set out any unique provis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consensus and must comply with any legis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57200" y="1798560"/>
            <a:ext cx="8229600" cy="467856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structures availabl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e proprieto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nership</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ted company</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allows business to be carried on and a profit mad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tructure must comply with government regulation and requirements, e.g. tax, CPP, workplace safety, etc.</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0"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1DD5C8D7-6B0C-4C68-B416-F38FB2163CAD}"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1" name="Rectangle 2"/>
          <p:cNvSpPr/>
          <p:nvPr/>
        </p:nvSpPr>
        <p:spPr>
          <a:xfrm>
            <a:off x="457200" y="609480"/>
            <a:ext cx="8229600" cy="1143000"/>
          </a:xfrm>
          <a:prstGeom prst="rect">
            <a:avLst/>
          </a:prstGeom>
          <a:solidFill>
            <a:srgbClr val="66cc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El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90CF48F7-492B-4FE7-B990-3F2394CEE619}"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exibility</a:t>
            </a:r>
            <a:endParaRPr b="0" lang="en-US" sz="4400" spc="-1" strike="noStrike">
              <a:solidFill>
                <a:srgbClr val="000000"/>
              </a:solidFill>
              <a:latin typeface="Times New Roman"/>
            </a:endParaRPr>
          </a:p>
        </p:txBody>
      </p:sp>
      <p:sp>
        <p:nvSpPr>
          <p:cNvPr id="25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Ven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ctual relationship in any form to do business for a project, usually for limited period of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bility is based on business form chosen</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25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0E64C88-55EA-45DC-BD7F-07A87C52B21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Flexibility</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25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nchise</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lusive agreement for one company to sell the product or services of another, in a specified area, using all the names, logos, and advertising with permi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ranchisee must comply with all franchisor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sually requires start-up investment and then regular payments, often based on a percentage of prof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form contracts are custom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vinces have statutes regulating franchi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3"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4BD37DFD-171F-48A6-A2B5-92D49828517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dividual carrying on business al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e proprietor =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wer regul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mal proc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register a trade name, but not required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te control</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17"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A1A70D68-6BBD-402F-B251-286215D16367}"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e Proprietorship</a:t>
            </a:r>
            <a:br>
              <a:rPr sz="4400"/>
            </a:br>
            <a:r>
              <a:rPr b="0" lang="en-US" sz="2800" spc="-1" strike="noStrike">
                <a:solidFill>
                  <a:srgbClr val="000000"/>
                </a:solidFill>
                <a:latin typeface="Times New Roman"/>
              </a:rPr>
              <a:t>(C</a:t>
            </a:r>
            <a:r>
              <a:rPr b="0" lang="en-CA" sz="2800" spc="-1" strike="noStrike">
                <a:solidFill>
                  <a:srgbClr val="000000"/>
                </a:solidFill>
                <a:latin typeface="Times New Roman"/>
              </a:rPr>
              <a:t>ontinue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9"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mited liabi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ts (Personal assets are vulnerable to credito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carious liability for torts of employee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ffset liability with 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1"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CFA4E568-570F-4D11-97C7-E4AC255C7DAE}"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nership</a:t>
            </a: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r more people carrying on business together for the purpose of making a prof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 formal process (but may need to register with government ag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es share the costs, participate in the management of the business, and ultimately expect to share the profit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5"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8117D94C-42AA-4765-8FB4-CEE80EAEC174}"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artnership</a:t>
            </a:r>
            <a:br>
              <a:rPr sz="4400"/>
            </a:br>
            <a:r>
              <a:rPr b="0" lang="en-CA" sz="2800" spc="-1" strike="noStrike">
                <a:solidFill>
                  <a:srgbClr val="000000"/>
                </a:solidFill>
                <a:latin typeface="Times New Roman"/>
              </a:rPr>
              <a:t>(Continued)</a:t>
            </a:r>
            <a:endParaRPr b="0" lang="en-US" sz="2800" spc="-1" strike="noStrike">
              <a:solidFill>
                <a:srgbClr val="000000"/>
              </a:solidFill>
              <a:latin typeface="Times New Roman"/>
            </a:endParaRPr>
          </a:p>
        </p:txBody>
      </p:sp>
      <p:sp>
        <p:nvSpPr>
          <p:cNvPr id="127"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taxed at personal tax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ed by </a:t>
            </a:r>
            <a:r>
              <a:rPr b="0" i="1" lang="en-US" sz="3200" spc="-1" strike="noStrike">
                <a:solidFill>
                  <a:srgbClr val="000000"/>
                </a:solidFill>
                <a:latin typeface="Times New Roman"/>
              </a:rPr>
              <a:t>Partnership Act </a:t>
            </a:r>
            <a:r>
              <a:rPr b="0" lang="en-US" sz="3200" spc="-1" strike="noStrike">
                <a:solidFill>
                  <a:srgbClr val="000000"/>
                </a:solidFill>
                <a:latin typeface="Times New Roman"/>
              </a:rPr>
              <a:t>common to common law provin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s out circumstances that do not create a partnership such as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rental profit from a jointly-owned propert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 commission or bonus based on business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76320" y="6553080"/>
            <a:ext cx="2666880" cy="1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imes New Roman"/>
              </a:rPr>
              <a:t>Copyright © 2013 Pearson Canada Inc.</a:t>
            </a:r>
            <a:endParaRPr b="0" lang="en-US" sz="1000" spc="-1" strike="noStrike">
              <a:solidFill>
                <a:srgbClr val="000000"/>
              </a:solidFill>
              <a:latin typeface="Arial"/>
            </a:endParaRPr>
          </a:p>
        </p:txBody>
      </p:sp>
      <p:sp>
        <p:nvSpPr>
          <p:cNvPr id="129" name="Slide Number Placeholder 4"/>
          <p:cNvSpPr/>
          <p:nvPr/>
        </p:nvSpPr>
        <p:spPr>
          <a:xfrm>
            <a:off x="8153280" y="6553080"/>
            <a:ext cx="685800" cy="1684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imes New Roman"/>
              </a:rPr>
              <a:t>7 - </a:t>
            </a:r>
            <a:fld id="{6B71CB9C-86FD-43B8-8778-3241F1EFC8C8}" type="slidenum">
              <a:rPr b="0" lang="en-US" sz="1200" spc="-1" strike="noStrike">
                <a:solidFill>
                  <a:srgbClr val="333399"/>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533160"/>
            <a:ext cx="8229600" cy="1143000"/>
          </a:xfrm>
          <a:prstGeom prst="rect">
            <a:avLst/>
          </a:prstGeom>
          <a:solidFill>
            <a:srgbClr val="66ccff"/>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on of Partnership</a:t>
            </a:r>
            <a:endParaRPr b="0" lang="en-US" sz="4400" spc="-1" strike="noStrike">
              <a:solidFill>
                <a:srgbClr val="000000"/>
              </a:solidFill>
              <a:latin typeface="Times New Roman"/>
            </a:endParaRPr>
          </a:p>
        </p:txBody>
      </p:sp>
      <p:sp>
        <p:nvSpPr>
          <p:cNvPr id="131" name="PlaceHolder 2"/>
          <p:cNvSpPr>
            <a:spLocks noGrp="1"/>
          </p:cNvSpPr>
          <p:nvPr>
            <p:ph/>
          </p:nvPr>
        </p:nvSpPr>
        <p:spPr>
          <a:xfrm>
            <a:off x="457200" y="1798560"/>
            <a:ext cx="822960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express contra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ten agreement indicates rights and obligations of partners</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visions of the </a:t>
            </a:r>
            <a:r>
              <a:rPr b="0" i="1" lang="en-US" sz="2800" spc="-1" strike="noStrike">
                <a:solidFill>
                  <a:srgbClr val="000000"/>
                </a:solidFill>
                <a:latin typeface="Times New Roman"/>
              </a:rPr>
              <a:t>Partnership Act</a:t>
            </a:r>
            <a:r>
              <a:rPr b="0" lang="en-US" sz="2800" spc="-1" strike="noStrike">
                <a:solidFill>
                  <a:srgbClr val="000000"/>
                </a:solidFill>
                <a:latin typeface="Times New Roman"/>
              </a:rPr>
              <a:t> can be modified by agreement</a:t>
            </a:r>
            <a:endParaRPr b="0" lang="en-US" sz="2800" spc="-1" strike="noStrike">
              <a:solidFill>
                <a:srgbClr val="000000"/>
              </a:solidFill>
              <a:latin typeface="Times New Roman"/>
            </a:endParaRPr>
          </a:p>
          <a:p>
            <a:pPr lvl="1" marL="743040" indent="-285840">
              <a:spcBef>
                <a:spcPts val="700"/>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greement silent on a point, the </a:t>
            </a:r>
            <a:r>
              <a:rPr b="0" i="1" lang="en-US" sz="2800" spc="-1" strike="noStrike">
                <a:solidFill>
                  <a:srgbClr val="000000"/>
                </a:solidFill>
                <a:latin typeface="Times New Roman"/>
              </a:rPr>
              <a:t>Act</a:t>
            </a:r>
            <a:r>
              <a:rPr b="0" lang="en-US" sz="2800" spc="-1" strike="noStrike">
                <a:solidFill>
                  <a:srgbClr val="000000"/>
                </a:solidFill>
                <a:latin typeface="Times New Roman"/>
              </a:rPr>
              <a:t> prevails</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8:27:47Z</dcterms:created>
  <dc:creator>Client</dc:creator>
  <dc:description/>
  <dc:language>en-US</dc:language>
  <cp:lastModifiedBy>User</cp:lastModifiedBy>
  <dcterms:modified xsi:type="dcterms:W3CDTF">2012-04-24T16:31:23Z</dcterms:modified>
  <cp:revision>156</cp:revision>
  <dc:subject/>
  <dc:title>Chapter 7</dc:title>
</cp:coreProperties>
</file>