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A07F-7D86-4EDF-8E9A-496419A810D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19B5-D3BA-4C51-A850-ECC89A488F2F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A7BF-701F-4AFD-83C6-04CE064BD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D498C-9943-4135-A877-26AA20785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C755-85B1-44D7-9BDB-444CBA8F8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660C-29E7-475D-A7D6-822211447B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6ECA-F990-4FF5-A807-1C6694D45C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9F60-A5F5-46E3-A12F-7683DBDFE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AB905-EFB9-484B-A51F-87AF3B301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A266-142B-40E2-8BE7-B7834ADBA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6D29B-9CDA-418B-87E9-EBD62B1F1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4C071-357D-4329-B628-6017F8D38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2DC9-4A5D-4926-B53A-6BC744909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315C-E9CE-4772-A968-86A90B79D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D017A7C-CD43-4D4B-9FF4-CC248D2BACB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26D2353-B72E-4BC7-A990-4F97A07489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5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6521888-BD6B-482B-A334-310DE45C810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igh standard imposed on common carriers and innkeepers to care for goods of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tes limit liabilit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of lien (keep possession) if bailee not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E683EAC-B66F-403F-8496-1982D4A62E8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l Property - Land and things permanently attach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sonal property can become part of real property when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easonable use of space above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ight to use of land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nclude mineral/oil and gas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B178E8D-760C-45DD-B6AA-49C4B8A7C3C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me rights as ownership; inde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always has the power to control, restrict, or ex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fe estate - Gives ownership rights to beneficiary, but only for the length of his/he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lder of life estate can’t damag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irs have remainder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2102C7B-8387-40BF-BDAD-E42EA1560D7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04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2836D39-20A2-4CCE-B0C6-FD19BD89423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hold Estate - Exclusive use and possession of land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also b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6399953-0972-4E84-B202-33E64BDE648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ement – gives another permanent right to use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f way – gives right to cros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ve covenant – restricts how property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negative to bind all future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51B990D-B7A3-4441-8C40-21DBAA429DA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ilding scheme – restrictive covenants that benefit all properties in a developme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cense – contractual right to use land, but gives no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ofit a prendr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 right to remove material from land (e.g.,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A5CE8BC-8AD2-4D9F-86B4-A79A827949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oint te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int ownership of whol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e dies, survivor gets that person’s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cy in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n undivid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right of survivo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may sell, mortgage, or lease their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B00B737-CC0F-41EB-BB2A-5D39E250748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er rights and homestead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itionally protected spouse in case of marriage break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s now give spouse claim to family assets even when not registered on the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63992E0-8C83-43B8-8E39-1AE2991C77C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domin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are ownership of common property; fee simple interest in individua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of use set by condominium (or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rat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wners pay fees and special levies to maintain common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3BEA70E-CBC0-4785-8B40-0C4E0874080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real and person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rights and responsibilities associated with possession of personal property, keeping in mind owners, finders, and bai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the rights of real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cess for transferring title to land in various jurisd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nature and role of mort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02E93BF-2465-46F4-8D75-0385BC2C69A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oper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wn whole property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share entitles occupancy of a specific a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9789B14-1B17-4138-8DE7-16A5A8BF48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ption to Purc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mitment to hold an offer to sell open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ption not exercised, no further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sed by developers and spec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87D5631-F1E4-4D0B-B6C2-7C3940D0C3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 of Reg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 registr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Registry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ory of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search to determine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Title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uarantees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mistake or fraud, insurance fund will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A816700-A679-4985-A649-3734A7B2584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nsferring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of purchase and 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m submitted to land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iminal offence to destroy, cancel, conceal, or obliterat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erse possession will allow for title transfer in some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cross land may also be acquired by prescription in some provi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8878A20-8A0A-4354-8A61-17F7F882B7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thod of financing purchase of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session of land remains with purchaser, but title is transferred to creditor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redeem title by payment of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Known as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re is a default, creditor forecl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C04559B-821E-4EF0-99A9-3C9A980E411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closure is a two-stag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, a time limit is set for exercising the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uring this time, the debtor attempts to re-finance or sell th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t paid,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nal order of foreclo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urt Order for sale by mortgag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F342D2C-C599-4648-8BEA-4B2857A5535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cond or equitable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quity of redemption used to secure more debt (rather than legal title to proper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risk; therefore a higher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gives second mortgagee right to try to sell property during redemption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pay off all previous mortg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btor may have to pay any short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4D342F3-68BC-4E5F-A7CC-1C604E3525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exclusive possession and use for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iodic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se for specified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utomatically renews for sam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6CFBEF2-2F18-40AB-8A0F-54C82CDCDF3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Any lease longer than three years must be in writing to be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Considered an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n some jurisdictions, frustration applies to leases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D52870C-D5DB-411D-92F4-BC2AAA13CF6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determines obligations in commercial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acant pos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Quiet 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bligations to make re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ion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8F0088B-F95C-4F2A-9AA6-237FA4103D7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rights and responsibilities of landlords and te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implications and regulations of environmental protection for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role of insurance in risk avoid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B902AB6-4385-4EDD-B7B2-37979918CB5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bligations of 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y 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property only as agr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ly with terms of leas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C22420D-0BA9-4B40-9F8E-1698D952C76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tenant fails to pay rent, landlord has op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e tenancy (forfeiture); tenant may ask court to order rel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traint involves seizing tenant’s goods for rent owed; tenancy contin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enant abandons, can sue for rent for rest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D041985-D985-4203-808E-CF0AF04955A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 has no duty to mitigate in case of aband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repair will be specified in 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 also specifies rights to renew, sublet,  or as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t may take fixtures used for their business when they go (as long as property is not damag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2F746FA-2A8C-4BD8-A5C6-FEB3FE34379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gislation has greatly modified common law and varies by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ndard form leases with written copy to te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airs and health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trance to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and subl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ice of rent increases and 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A5CE037-5CDF-4A48-A332-44D2BC432F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intai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seize tenant’s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itigate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idential tribunals hear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ustration applies to residential tena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34AE716-7526-4EC6-847F-FA8F368D10A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arian rights – People living on river or stream have right to continued quality and quantity of wate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verridden by sta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ts of nuisance, trespas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ective in protecting enviro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653D53A-C859-442F-87A0-8AE8B145D7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sheries Act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of pollutants in fish-bear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created government department responsible for preventing pollution and protecting environment and human health while contributing to sustainabl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6948E36-7281-4EFC-A6C9-5E82D836DF7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enforcemen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quire pollution preventi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s, managers, and agents of businesses can be held liable for violations (unless due diligence show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civil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8E7DA39-822B-426A-A384-1197DEF2118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Assessm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controlled by federal government must go through environmental assess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nci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vinces and territories have legislation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environmental concerns within provincial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2BBC933-8C7C-48B8-81B7-F7E339D4D64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 of regulations at federal, provincial, and municipal levels poses problems for busin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93D2A4A-2676-4832-9FFA-00D206D477E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refers to a person’s rights to something (not to the thing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property - land and anything permanently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proper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le, movable items – chattels o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 proper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hoses i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1FE01AE-9C3F-406A-AB30-C3E317032C7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urchase insurance by paying prem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read risk as only a few will need 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mpanies may reinsure potential losses through large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licies are usually standard form, but may have riders and endors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31A9715-EAA7-4D7C-84E3-ACA2CD595F6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must have insurable interest in subject of policy to recover fo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only compensated for actual loss (based on coverage purcha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-insurance clauses usually require 80% of value in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 insurance equal to value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E3D097B-CA70-4755-A514-1DA9AF3A1B6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ductible – Amount insured must pay toward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lvage rights – Insurer has right to salvage what it can from th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rogation rights – Once insurer pays, insurer assumes insured’s right to 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67056DE-7E73-4EA9-A31F-23F44567701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 interruption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(key personnel in bus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alth and dis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rehensive insuran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good faith for al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fully disclose all relev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87A284A-70DA-47C6-A7D9-30B694A1F9A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nds are similar to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eli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buys bond to cover wrongful conduct by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re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uarantees performance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9E59362-3C1F-4FE9-B777-9ED1AE0B2B9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 gives right to goods over all others except someone with prior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depend largely on how goods were ac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can depend on where object is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who finds and takes possession of  goods has obligation to take care of them for rightful ow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AD5E4FF-3136-4CD8-AAD1-7958E61FD9E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48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4EF7660-BE11-4450-8B56-559364D64E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- One person takes possession of and cares for goods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or – person who deliver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ee – person who take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bailee varies by nature of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0E1ACB0-0A3D-4F47-9F87-EA5E3F8EDB8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tuitous bailment - only one party receives a benefit (e.g., borrowing goods, stor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ee, duty imposed on bailee requires high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or, duty imposed on bailee is 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 of goods also affects duty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1081841-642F-4D0D-A645-2EDEE79C61D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untary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udge imposes reasonable pers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- Of mutual benefit or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imposed on bailee is that of reasonabl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dustry standards 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culpatory clauses interpreted narr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PearsonUser</cp:lastModifiedBy>
  <dcterms:modified xsi:type="dcterms:W3CDTF">2012-04-24T17:35:28Z</dcterms:modified>
  <cp:revision>170</cp:revision>
  <dc:subject/>
  <dc:title>Chapter One</dc:title>
</cp:coreProperties>
</file>