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C857-474C-4B4D-AC30-F41EF17EB16F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7756-F073-41F9-90CE-D452A08967FE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570D5-47E4-4883-B643-ABBF72C91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E9707-1F60-49B0-8AEA-C2CD89FFD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DCB9E-42D0-4312-92A5-425C63821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2E788-FC7D-42AF-8DA0-56C1F50876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C2C0B-64AF-47F0-A380-A2B972CAD2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97D0D-B80C-494C-AC1C-1458ED8E9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F474C-A444-41BB-B623-251126C12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8C27D-E410-4CBB-8DBA-CAA8C80FA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64B0B-44F8-4046-A445-1E594D9EA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60D4D-8DE0-4E68-8DA4-A029B06A1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48581-A99C-46E8-92F9-323083A78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FD55E-4133-4462-8FB6-7404496D4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1A356F2D-978E-4AEA-80AC-291A12C71CC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7707D4AD-4796-4902-9BBC-D4304C1C67D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57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E88F192B-0C5D-465E-A6E9-B72A4A2FBF2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il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ilment for val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igh standard imposed on common carriers and innkeepers to care for goods of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tes limit liability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ight of lien (keep possession) if bailee not p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D2D5A61A-4883-4669-A346-DC7875E9E48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al 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al Property - Land and things permanently attached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ersonal property can become part of real property when affixed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reasonable use of space above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right to use of land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es not include mineral/oil and gas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7663CEBE-82CA-45EC-A4AC-8EF7ED5C5DC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ee Simple E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ame rights as ownership; inde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vernment always has the power to control, restrict, or ex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fe estate - Gives ownership rights to beneficiary, but only for the length of his/her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older of life estate can’t damage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eirs have remainder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9A2CB398-7D1E-434B-8296-7FD26D11F4A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ee Simple Estat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6104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A00DC7DC-3F6A-4704-BEC0-56B32D4FABF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asehold E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asehold Estate - Exclusive use and possession of land for a specifie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also be period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E760461C-EEDE-4D0F-BAC6-DBC7E892D81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sser Interests in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ement – gives another permanent right to use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of way – gives right to cross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rictive covenant – restricts how property can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negative to bind all future ow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3D5F4033-9EBA-43C7-93CB-32E4C2E81F9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sser Interests in Land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uilding scheme – restrictive covenants that benefit all properties in a development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cense – contractual right to use land, but gives no interest in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rofit a prendr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– right to remove material from land (e.g., tre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B48FD365-72E4-49FF-833B-4A9CB22450E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ning Property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Joint te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oint ownership of whole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one dies, survivor gets that person’s p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nancy in com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ach party has an undivide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 right of survivo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ach may sell, mortgage, or lease their p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F9952B96-D0A7-4BAA-A853-C50F8D58D80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ning Property Together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wer rights and homestead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aditionally protected spouse in case of marriage break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utes now give spouse claim to family assets even when not registered on the 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B45F2466-704D-4849-923D-5883A6E8740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ning Property Together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domini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hare ownership of common property; fee simple interest in individual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ules of use set by condominium (or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strata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)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l owners pay fees and special levies to maintain common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D160C185-B012-4E6B-A771-C8DC19D3D9B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guish between real and person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rights and responsibilities associated with possession of personal property, keeping in mind owners, finders, and bail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gnize the rights of real property ow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process for transferring title to land in various jurisd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nature and role of mortg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565D8620-7116-4F41-9391-F23B8348528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ning Property Together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oper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mbers own whole property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ach share entitles occupancy of a specific a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E129D939-3B96-40EC-BE3B-440B327C296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ption to Purc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mitment to hold an offer to sell open for a specifie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option not exercised, no further obli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used by developers and spec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2948669E-672E-4F2E-A6FA-54F1AFD63C4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 of Reg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nd registr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nd Registry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pository of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search to determine ow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nd Titles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Guarantees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mistake or fraud, insurance fund will compens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4A872124-93C9-4969-B4FE-0B1A34AE79B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nsferring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greement of purchase and s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m submitted to land reg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iminal offence to destroy, cancel, conceal, or obliterate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dverse possession will allow for title transfer in some juris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ight to cross land may also be acquired by prescription in some provi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F137AD12-1055-4052-A307-056F8F8288E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ethod of financing purchase of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ssession of land remains with purchaser, but title is transferred to creditor as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ight to redeem title by payment of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Known as equity of rede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there is a default, creditor forecl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54C4ADA4-CD65-43A6-8D95-E42E6F51A6F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eclosure is a two-stag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, a time limit is set for exercising the equity of rede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uring this time, the debtor attempts to re-finance or sell th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not paid,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nal order of foreclosure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urt Order for sale by mortgag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4D4C7B0C-D9A9-4131-A317-4BF79F3BE0D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cond or equitable mortg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quity of redemption used to secure more debt (rather than legal title to proper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risk; therefore a higher interes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 gives second mortgagee right to try to sell property during redemption peri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pay off all previous mortg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btor may have to pay any short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F003EE27-22DC-4879-A846-2B0343CED7F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asehold E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ight to exclusive possession and use for specifie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eriodic L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se for specified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utomatically renews for same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D427EF58-4F37-4576-9CEC-9D9B6183BC2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asehold Estat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Any lease longer than three years must be in writing to be enforc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Considered an interest in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In some jurisdictions, frustration applies to leases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832581D7-41ED-465D-8A31-9F18EE09C78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mmercial Tena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greement determines obligations in commercial l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acant pos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Quiet enj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bligations to make re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rmination of 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E34915F4-89A1-47D0-B8A7-A51099C85D2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rights and responsibilities of landlords and ten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the implications and regulations of environmental protection for property ow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e role of insurance in risk avoid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BF8D86B1-847A-4FBE-A2D6-E8B83CC4252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mmercial Tenanc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bligations of te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y 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 property only as agr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ply with terms of lease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8544D8A1-3864-48CE-B747-16E7CC1E771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mmercial Tenanc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tenant fails to pay rent, landlord has op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rminate tenancy (forfeiture); tenant may ask court to order reli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traint involves seizing tenant’s goods for rent owed; tenancy contin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tenant abandons, can sue for rent for rest of 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8D24BA4F-68CB-42AF-BC19-469FB188017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mmercial Tenanc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ndlord has no duty to mitigate in case of aband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ty to repair will be specified in 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ase also specifies rights to renew, sublet,  or as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nant may take fixtures used for their business when they go (as long as property is not damag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58EFABB7-3999-4A3A-8425-11E6A03B954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sidential Tena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gislation has greatly modified common law and varies by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andard form leases with written copy to ten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pairs and health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ntrance to prem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ignment and subl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pos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tice of rent increases and 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0D99924A-27AA-440B-92B5-651D899A6A1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sidential Tenanc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ndl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maintai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seize tenant’s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mitigate l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idential tribunals hear compl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rustration applies to residential tena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8A975D0B-7803-41D9-913E-81D2141BBF4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parian rights – People living on river or stream have right to continued quality and quantity of water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overridden by stat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rts of nuisance, trespas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fective in protecting enviro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749FCAAE-A6C0-4830-9F69-5BAA5E1D135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deral Legi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sheries Act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of pollutants in fish-bearing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adian Environmental Protection 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created government department responsible for preventing pollution and protecting environment and human health while contributing to sustainabl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1E5213EC-F774-4482-BAC0-4AD5226D270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nadian Environmental Protection 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enforcement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require pollution prevention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ors, managers, and agents of businesses can be held liable for violations (unless due diligence show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for civil reme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17705C34-BB75-4615-8122-E7418AC93C0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nadian Environmental Assessment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s controlled by federal government must go through environmental assess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ncial legi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vinces and territories have legislation similar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adian Environmental Protectio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s environmental concerns within provincial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E03C3EA9-E934-4119-82F3-BF5765CE38B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lap of regulations at federal, provincial, and municipal levels poses problems for busines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7576C894-BE16-4596-A2A1-63B57FEB564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ypes of 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y refers to a person’s rights to something (not to the thing itsel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property - land and anything permanently affixed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proper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gible, movable items – chattels or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angible proper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hoses in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tellectual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CEBFDAFC-5679-4287-BEAD-3777318B2F7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urchase insurance by paying premi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read risk as only a few will need compen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ance companies may reinsure potential losses through larger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licies are usually standard form, but may have riders and endors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4B4FFEBA-16DB-492F-9C44-9C1AF6D0FD1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ed must have insurable interest in subject of policy to recover for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ed only compensated for actual loss (based on coverage purchas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-insurance clauses usually require 80% of value ins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 insurance equal to value of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AC506664-F4FF-49B7-BA41-AC37865A512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ductible – Amount insured must pay toward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alvage rights – Insurer has right to salvage what it can from the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rogation rights – Once insurer pays, insurer assumes insured’s right to 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7DBD74F7-E0FB-4D8B-9B0E-D6003203475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perty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siness interruption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iability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ife insurance (key personnel in busi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ealth and disability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prehensive insurance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uty of good faith for all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fully disclose all relevan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21855085-B38B-43B2-92BC-297C50D86F0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nds are similar to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delity b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 buys bond to cover wrongful conduct by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rety b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uarantees performance of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3987FF59-669E-4E50-B12E-AEC5BE8FE21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Who Has the Right to the Goo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 gives right to goods over all others except someone with prior cla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s depend largely on how goods were ac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s can depend on where object is f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 who finds and takes possession of  goods has obligation to take care of them for rightful ow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694A22A1-23C6-4083-B958-462DFFC8A8D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Who Has the Right to the Goods?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488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1FCE397C-C50F-4873-AC0E-8EB4A372EE6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ail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ilment - One person takes possession of and cares for goods of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ilor – person who delivers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ilee – person who takes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ty of bailee varies by nature of bail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5C5E03A7-C473-4F6C-AC13-D4E075174B8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il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tuitous bailment - only one party receives a benefit (e.g., borrowing goods, stor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or benefit of bailee, duty imposed on bailee requires high standard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or benefit of bailor, duty imposed on bailee is l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e of goods also affects duty 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030C1A6D-210B-4F19-9226-6788C619601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il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voluntary bail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udge imposes reasonable perso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ilment for value - Of mutual benefit or by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uty of care imposed on bailee is that of reasonabl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industry standards or terms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culpatory clauses interpreted narrow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3:17:24Z</dcterms:created>
  <dc:creator>lori</dc:creator>
  <dc:description/>
  <dc:language>en-US</dc:language>
  <cp:lastModifiedBy>PearsonUser</cp:lastModifiedBy>
  <dcterms:modified xsi:type="dcterms:W3CDTF">2012-04-24T17:35:28Z</dcterms:modified>
  <cp:revision>170</cp:revision>
  <dc:subject/>
  <dc:title>Chapter One</dc:title>
</cp:coreProperties>
</file>