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8A467-A514-4F52-9DBB-1EDD6AE65CCE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5C3AC-02D5-41E0-8C48-CFD7EFD91AA7}" type="slidenum">
              <a:rPr b="0" lang="en-CA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5EA7C-94BB-4142-AE53-5B4F4EE530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E5530-E9A9-4A21-8A13-F1FFC31A47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E2831-A54A-4975-B7A9-DA196037A5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F351B-DA44-43BC-9731-8F6009B72E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33AD9-849E-4DA7-9546-BC33FFE348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43D10-258E-48BB-A6BA-FCD66FC710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907D0-0AD0-4571-91B9-4D8DA00F91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879FD-8568-47DE-8F59-451F2A4D9D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6BC1D-8664-4483-8A0F-F86F236D5D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E97F7-0BA5-4ECC-8DA9-6CF83A6270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24403-D5CB-4FF3-A4F2-6EC648584B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85C10-F4BD-4362-BEB7-8D79C2C064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7" descr="Pearson_WebBar_Top_Blue_RGB"/>
          <p:cNvPicPr/>
          <p:nvPr/>
        </p:nvPicPr>
        <p:blipFill>
          <a:blip r:embed="rId2"/>
          <a:stretch/>
        </p:blipFill>
        <p:spPr>
          <a:xfrm>
            <a:off x="0" y="0"/>
            <a:ext cx="9144000" cy="41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76320" y="6552720"/>
            <a:ext cx="266688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(c) 2013 Pearson Canada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15292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307FA1A2-290E-47E2-872B-F3DDD99E6389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112DF22B-C6F2-478B-8A40-DDF13716908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12600" y="2590560"/>
            <a:ext cx="3354120" cy="33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apter 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er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801720" y="457200"/>
            <a:ext cx="7542360" cy="1752480"/>
          </a:xfrm>
          <a:prstGeom prst="rect">
            <a:avLst/>
          </a:pr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799920" y="533160"/>
            <a:ext cx="75438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gal Fundamental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r Canadian Business </a:t>
            </a:r>
            <a:br>
              <a:rPr sz="4000"/>
            </a:b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hird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1371600" y="6172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1050840" y="6060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1584360" y="5985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1508040" y="6060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57" name="Picture 11" descr="yates_LegalFund_CRV.jpg"/>
          <p:cNvPicPr/>
          <p:nvPr/>
        </p:nvPicPr>
        <p:blipFill>
          <a:blip r:embed="rId1"/>
          <a:stretch/>
        </p:blipFill>
        <p:spPr>
          <a:xfrm>
            <a:off x="5029200" y="2362320"/>
            <a:ext cx="28954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E4776D2F-DFA5-492E-9EF5-18FCBA44D340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ilment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ailment for valu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High standard imposed on common carriers and innkeepers to care for goods of custom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utes limit liability to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ight of lien (keep possession) if bailee not pa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5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5D4A3C76-95DC-48F9-90D8-F6818F2E9F1B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Real Proper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eal Property - Land and things permanently attached to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ersonal property can become part of real property when affixed to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des reasonable use of space above 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des right to use of land be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oes not include mineral/oil and gas righ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4E539D67-41B6-48BF-9FDC-CF59B56DA0C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Fee Simple E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ame rights as ownership; indefin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overnment always has the power to control, restrict, or expropri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ife estate - Gives ownership rights to beneficiary, but only for the length of his/her li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Holder of life estate can’t damage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Heirs have remainder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AE578496-20F7-4EC7-B6C9-AB4C9405029A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Fee Simple Estate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62120" y="2362320"/>
            <a:ext cx="761040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ADE5E7EA-18C0-4E62-8B57-C9D483D1EDC5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Leasehold E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easehold Estate - Exclusive use and possession of land for a specified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y also be period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1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51C0F094-8530-483B-BF64-4CBB3EBC5504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Lesser Interests in L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ement – gives another permanent right to use 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ght of way – gives right to cross prope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trictive covenant – restricts how property can be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be negative to bind all future ow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5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F9797AC2-7637-4368-B341-2EB579E2513B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Lesser Interests in Land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uilding scheme – restrictive covenants that benefit all properties in a development a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icense – contractual right to use land, but gives no interest in 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Profit a prendre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– right to remove material from land (e.g., tre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39BEF8F8-AF88-45AF-8C0C-7208EF4F359D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wning Property Toge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Joint tena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Joint ownership of whole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one dies, survivor gets that person’s por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nancy in com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ach party has an undivided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o right of survivor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ach may sell, mortgage, or lease their por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2267E7DF-1B0D-479F-90DF-2CDCE60AFD0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wning Property Together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ower rights and homestead righ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raditionally protected spouse in case of marriage breakd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tatutes now give spouse claim to family assets even when not registered on the ti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694B9139-73E3-433C-BA90-81A4EEC86D5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wning Property Together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ndominiu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hare ownership of common property; fee simple interest in individual un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ules of use set by condominium (or </a:t>
            </a: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strata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)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l owners pay fees and special levies to maintain common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AFEB6F2E-8882-432D-8285-1FC05A0DB69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inguish between real and personal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the rights and responsibilities associated with possession of personal property, keeping in mind owners, finders, and bail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gnize the rights of real property ow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line the process for transferring title to land in various jurisdi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ain the nature and role of mortg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1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EEE98BBB-3375-4776-B2DA-13E1D82EA409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wning Property Together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opera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embers own whole property toge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ach share entitles occupancy of a specific apar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5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38DF9A65-B984-45AC-A77A-9C079F8E7921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Option to Purc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mitment to hold an offer to sell open for a specified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option not exercised, no further oblig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ften used by developers and specul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EAA18B4C-BEB5-4B6D-9D3F-95AD906BF4CA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quirement of Regi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nd registration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and Registry syste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epository of doc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ust search to determine own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and Titles syste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Guarantees ti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f mistake or fraud, insurance fund will compens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A8DC1F93-DB36-4347-86D1-C333E46B0509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ransferring L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greement of purchase and s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orm submitted to land regi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riminal offence to destroy, cancel, conceal, or obliterate docu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dverse possession will allow for title transfer in some jurisdi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ight to cross land may also be acquired by prescription in some provi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7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6A9CE833-DBD9-4CE0-9262-0D2E869C164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Mortg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ethod of financing purchase of prope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ossession of land remains with purchaser, but title is transferred to creditor as secu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ight to redeem title by payment of de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Known as equity of redem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there is a default, creditor foreclo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1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F5F6B591-F9BB-4DF3-A115-1480DE950CF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Mortgage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oreclosure is a two-stage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rst, a time limit is set for exercising the equity of redem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uring this time, the debtor attempts to re-finance or sell th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not paid, ei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inal order of foreclosure,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urt Order for sale by mortgag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DCA72A54-C966-4FF6-A472-795C8197072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Mortgage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econd or equitable mortg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quity of redemption used to secure more debt (rather than legal title to proper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ore risk; therefore a higher interest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urt gives second mortgagee right to try to sell property during redemption perio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ust pay off all previous mortgag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ebtor may have to pay any shortf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F68FB2BF-A5CF-4F9E-9E2F-22319E25C081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Leasehold E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ight to exclusive possession and use for specified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eriodic Le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ease for specified peri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utomatically renews for same peri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0892EFA8-7ABA-467E-86B7-EC52F816CB9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Leasehold Estate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33300"/>
                </a:solidFill>
                <a:latin typeface="Times New Roman"/>
              </a:rPr>
              <a:t>Any lease longer than three years must be in writing to be enforce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33300"/>
                </a:solidFill>
                <a:latin typeface="Times New Roman"/>
              </a:rPr>
              <a:t>Considered an interest in 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33300"/>
                </a:solidFill>
                <a:latin typeface="Times New Roman"/>
              </a:rPr>
              <a:t>In some jurisdictions, frustration applies to leases by sta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7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58E6660E-FA6F-4EE2-BB32-0AFB3DFAA08A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mmercial Tena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greement determines obligations in commercial le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Vacant poss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Quiet enjoy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bligations to make repai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ermination of l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9A99FAF2-13A1-42EB-A536-6200433B872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rning Objective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 the rights and responsibilities of landlords and ten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uss the implications and regulations of environmental protection for property ow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 the role of insurance in risk avoid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1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0E140D6F-8C5A-4E74-A556-B563B93B61E5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mmercial Tenancie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bligations of ten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y 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Use property only as agr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mply with terms of lease agre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5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3A7134E4-E85F-4F67-8510-241C4A9323B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mmercial Tenancie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f tenant fails to pay rent, landlord has op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erminate tenancy (forfeiture); tenant may ask court to order relie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istraint involves seizing tenant’s goods for rent owed; tenancy contin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tenant abandons, can sue for rent for rest of l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5AAED58C-380C-4E57-A9BB-349957AF27FA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mmercial Tenancie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ndlord has no duty to mitigate in case of abando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uty to repair will be specified in l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ease also specifies rights to renew, sublet,  or as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nant may take fixtures used for their business when they go (as long as property is not damag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B56BB93A-E007-447E-B6C0-762FDCA14EB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Residential Tena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egislation has greatly modified common law and varies by jurisdi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tandard form leases with written copy to ten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Repairs and health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ntrance to premi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signment and suble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epos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tice of rent increases and ter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CFEDD5AD-F6D9-4C14-97D7-BBF208580CAD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Residential Tenancie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ndl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maintain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annot seize tenant’s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mitigate lo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esidential tribunals hear compla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rustration applies to residential tena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C82136A4-181A-4D6C-B0D7-60C163B3B6D5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tion of the Environ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La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parian rights – People living on river or stream have right to continued quality and quantity of water f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be overridden by statu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rts of nuisance, trespas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effective in protecting environ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B3BE1CBE-6684-42CC-953B-E0318DE27F0A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tion of the Environment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deral Legis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sheries Act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ol of pollutants in fish-bearing 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nadian Environmental Protection A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created government department responsible for preventing pollution and protecting environment and human health while contributing to sustainable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68C01098-37D0-4DFD-9B45-C1F7DFD0E5D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tion of the Environment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nadian Environmental Protection A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 enforcement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require pollution prevention pl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ors, managers, and agents of businesses can be held liable for violations (unless due diligence shown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for civil reme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A0A2F15F-1D9E-45A2-81C7-1FA56FCFA4E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tion of the Environment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nadian Environmental Assessment 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cts controlled by federal government must go through environmental assessment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ncial legis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provinces and territories have legislation similar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nadian Environmental Protection 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vers environmental concerns within provincial jurisdi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DEA8117D-3D02-4D27-9BE5-40C7400CDB6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tion of the Environment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lap of regulations at federal, provincial, and municipal levels poses problems for business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7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B7F4AB84-7C23-4140-99AB-4A2B7D9BDC9B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ypes of Proper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erty refers to a person’s rights to something (not to the thing itself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l property - land and anything permanently affixed to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onal proper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ngible, movable items – chattels or go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angible proper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Choses in 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Intellectual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0B4A699E-6841-4973-A4F1-5458BAAAC6B5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Insur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urchase insurance by paying premiu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read risk as only a few will need compens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surance companies may reinsure potential losses through larger compan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olicies are usually standard form, but may have riders and endors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BA606173-F19D-4212-9270-A74037E2647E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Insurance</a:t>
            </a:r>
            <a:br>
              <a:rPr sz="40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sured must have insurable interest in subject of policy to recover for lo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sured only compensated for actual loss (based on coverage purchas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-insurance clauses usually require 80% of value insu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 insurance equal to value of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D709C5B2-9280-4A25-BEA4-3833DC4ED55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Insurance</a:t>
            </a:r>
            <a:br>
              <a:rPr sz="40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eductible – Amount insured must pay toward lo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alvage rights – Insurer has right to salvage what it can from the lo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brogation rights – Once insurer pays, insurer assumes insured’s right to s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50ACDDEE-C1F0-4732-B87C-5937180A3EA1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Insurance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roperty insu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siness interruption insu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iability insu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ife insurance (key personnel in busin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Health and disability insu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mprehensive insurance poli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uty of good faith for all poli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ust fully disclose all relevant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8F291731-9917-44F0-8B10-497E399B69B0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Bo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onds are similar to insur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idelity bo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mployer buys bond to cover wrongful conduct by employ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rety bo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Guarantees performance of a con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1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308A8FF0-8956-4C54-9F42-34E76F1D25D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Who Has the Right to the Good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session gives right to goods over all others except someone with prior cla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ghts depend largely on how goods were acqu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ghts can depend on where object is f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on who finds and takes possession of  goods has obligation to take care of them for rightful ow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5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0ABBEB0A-D2AC-4174-8FA5-21662093A5AA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Who Has the Right to the Goods?</a:t>
            </a:r>
            <a:br>
              <a:rPr sz="40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09480" y="2133720"/>
            <a:ext cx="794880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9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26F2ED53-F01D-46C6-8050-629041A97CAB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Bail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ailment - One person takes possession of and cares for goods of an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ailor – person who delivers go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ailee – person who takes go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uty of bailee varies by nature of bail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3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199F0853-11BA-4B15-A1BE-67E1C4D6BAF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ilment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tuitous bailment - only one party receives a benefit (e.g., borrowing goods, storing goo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for benefit of bailee, duty imposed on bailee requires high standard of c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for benefit of bailor, duty imposed on bailee is l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ure of goods also affects duty ow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7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8 - </a:t>
            </a:r>
            <a:fld id="{7EBAE9B1-BF0F-419C-8693-CBAE4F1BCB3A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ilment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voluntary bail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Judge imposes reasonable person 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ailment for value - Of mutual benefit or by contr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uty of care imposed on bailee is that of reasonable 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Usually industry standards or terms of con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xculpatory clauses interpreted narrow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23:17:24Z</dcterms:created>
  <dc:creator>lori</dc:creator>
  <dc:description/>
  <dc:language>en-US</dc:language>
  <cp:lastModifiedBy>PearsonUser</cp:lastModifiedBy>
  <dcterms:modified xsi:type="dcterms:W3CDTF">2012-04-24T17:35:28Z</dcterms:modified>
  <cp:revision>170</cp:revision>
  <dc:subject/>
  <dc:title>Chapter One</dc:title>
</cp:coreProperties>
</file>