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E6A7-BD23-47C9-894C-4E5616F4C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84A4-0235-4EFA-B0AE-3A81A8D6F7A9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44C39-9975-4CB8-9C2F-DCB2219EE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4B84-5C0C-47A6-A37A-4B159C5EB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6D3AA-3F26-4A73-AED0-9426F3B93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C44F1-7F02-4DDB-8C8D-EDE40EC30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CABCF-0210-4743-BFFC-167C2A5762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5D8B1-15EE-4184-8D90-350CCF0FDD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DDE6F-A14D-4FAB-A4BC-9CE4CD7A5D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0B4A1-6927-4419-9330-9635EBBB18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AF513-0579-4963-929E-BC84C1138C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31CDF-CF85-4E5A-8558-066C0AC91D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6D9ED-14F5-4A33-B4A5-BFBC1D9AA3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FA98B-6AEA-49ED-9A15-F8A4D344D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2B222-DF25-41A5-8FA0-206A59DA97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2C53D-2FF7-4770-9E71-5CB04959CC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96423-5A11-437A-84B5-45CA72385C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68968-2815-4560-A2BA-9606165CC9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99012-B9B3-40D6-B1A7-E906DE4ECB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D8508-6BE4-453F-8901-EB47DE039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CD29B-4E83-4833-B703-899A028DD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20226-1480-4BC0-B255-803FD79876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B5346-DFFE-48C6-9332-B23BF024C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D09E0-3970-47FD-9BC8-49A2A85EC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1E681-A36F-4926-8135-8C4791500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CD65D-62F8-426B-A96C-3574A21DC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497CE8DF-D68F-4A7D-8027-DE579A4341E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4078314-730F-410F-B9B0-B96E9A8AE02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19FBA39C-55C8-408C-9E79-B17BDBC77D2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s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561064D6-F946-42E6-A452-B25FEFCA640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s to use of copyrighted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of small portions for research or private study per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reproduce for review, criticism,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ducational institutions (and some others) have rights for research or educational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production to facilitate someone who is blind or d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49B8D39-8D6A-44DE-B9C2-56E1983249A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ess Copyr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n-profit body that collects fees for use and distributes them to auth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ame function for musicians and composers of recorded 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pyright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ets royalty fees and may arbitrate disp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A1CEC401-1664-430F-BF82-B2E67F8D1B3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ian intellectual property law under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provide appropriate protection for artists, authors, and produ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impose restrictions on uploading and downloading of music, video, etc. from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ected that Canada will change laws very soon due to international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57716BB9-AE1C-4EFC-9A7E-FFE496CEB2D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atent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gives inventor exclusive rights to produce and profit from invention for 2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 regulatory body handles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tent protection requires discl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rawings, plans, and information so another could reproduce i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9605B61D-FBD1-43D6-AACF-DD743B29FEC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o register has priority, not first to cre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tect idea, not the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o be patentable, invention must be useful, new, and contribute to improving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atentable if in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obvious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discovered by reverse engine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96153F19-7F5B-49A0-A083-5563F82B2AC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granted for scientific principle a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igher life forms not patentable in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patent modified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business patents gr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computer software can now be pat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B7E90515-CE6A-4A77-A3E3-50DACD61652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tented drug prices must be justified, but costs incr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vergreening” extends drug patent another 2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TO permits creation of generic drugs under licence for export to third-worl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A48BA88B-C3D1-46A2-B015-1D3B3F20A81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pplying for patents complicated and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ne through registered patent ag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ce patent obtained here, invention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tection may be obtained in other countries with whom we have trea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BE192B8D-F3DB-4F65-AD57-52EA5695467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has right to patent unless inventing was purpos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assign patent to third parties and use as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and provincial courts can hear patent infringement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3129B038-0AF7-4486-BFF5-3AA6D4A3CAC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lated 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Industrial Design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tects distinctive designs, shapes, or patterns associated with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register; protection lasts 1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Integrated Circuit Topography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tects unique design of integrated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register; protection lasts 1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0C807F46-180F-4DDA-95D8-716D6230780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between intellectual property and other kinds of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nd describe what is protected under copyright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e recent proposals to change copyright law impacting digital recor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what a patent protects and how patent protection is ob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FA79E852-F2C9-4D3C-8D04-10020689A0A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ames, symbols, logos, or other distinctive marks associated with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odwill often associated with these 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Trade-marks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allows for registration and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ives exclusive rights of use in Canada for 15 years and is renew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5D61960-165A-4DC9-93DB-0B340563DF7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use marks or will lose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ll provide proof of ownership for registration in other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fringement involves using the mark to confuse the public or devalue the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seek remedy in either federal or provincial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DDF04DA1-241B-40A2-9B1F-7D366F8F415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consist of words, expressions, trade names, symbols, logos, de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certification 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“official marks” used by organizations associated with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distinguishing gu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tinctive shape of product or contai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CD2FC0B-BDC2-4DB4-BD20-740CBE3A6B7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apply to protect proposed trade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gistration usually done by trademark a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trictions set out in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such as royalty, national flag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socially accep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ually surname of living or recently- deceased person not per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B4146D6-C41A-442F-B9D8-9C8F4FCFC4B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distinctive and not confused with mark of another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lost if name or symbol becomes generally used to describe a number of similar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A2748621-3608-4E94-AB32-0E8920FAF83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isputes handled by Registrar of Trademarks with appeals to Federal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demarks can be challenged up to five years after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demarks and associated licences can be as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451E03E-56F6-490D-8778-6F86218F9C0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ssing-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ven unregistered marks are protected through tort of passing-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use similar mark to misl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st for passing-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putation of goodwill for product o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rk/name similar enough to cause con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alue of goodwill/reputation inj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71F03AA-70E2-4CD6-B71C-9028B887D33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PR Rem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junction to stop offending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im injunction requires balance of convenience for appl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on Piller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rder that offending products or records be seized before they can be destroyed/rem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32D0F520-232C-47D9-A36D-6811395C6AA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PR Remed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on Piller orde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rong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prima faci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anger of considerable further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fending party has documents/products in his/her possession and likely to dispose of/destroy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E722718-436B-4639-9651-3B500AC8513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PR Remed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co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termines improper profits made by defendant that must be paid to plain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 of royalties may be im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creasing tendency to award punitive 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infringements are criminal offences under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pyright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atent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riminal Cod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vers trademark infrin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D400B553-9713-400C-845B-49BA3DC5DFC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protections afforded b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ustrial Desig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what is protected b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ade-marks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confidential information and the ways it can be pro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role of privacy acts and describe how they protect a business from disclosure of confidenti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5E2A139C-CA7E-43B7-82C8-6B08A4AD6A7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vacy, Security,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idential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idential information and trade secrets need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 legislation in place, but common law applies (e.g., fiduciary duty or con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n-disclosure provisions can be used in contracts (e.g., contractor, consulta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trictive covenants may be used with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ake it clear to employees that information is conf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C500C9EA-21EF-4573-8AB9-D2DE096AC15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vacy, Security, and Confidential Information - Reme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medies are damages, injunction, and acco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pursue an action for inducing breach of contract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F5761FA6-9276-43A3-83F9-984410F6AD7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common law protection of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veral provinces now have statutes making breach of privacy a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eavesdropping, surveillance, and unauthorized use of name or portr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and provincial legislation deal with protection of pers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A9C2026-7010-43D7-B308-B6CCCB9F773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rivacy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protects personal information in hands of federal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ed office of Privacy Commissio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ersonal Information Protection and Electronic Documents Act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(PIPE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ols collection, use, disclosure, and disposal of personal information in commercia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3C5F49F5-4BBD-48B8-89BB-A801E4A29CB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IPEDA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provinces have adopted similar legi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May have to follow legislation at both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poses obligations for information in connection with business activities and also employe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ations are indictable off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E286381-CA31-445A-9FA1-C9785F0485E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sinesses must develop policies and procedure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ke businesses accountable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lace limits on information collection, use, retention, and dis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sure accuracy and safeguar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vide access to and provide process for challenging information’s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77C652B-AEB9-4ABE-AD26-33A2926FCC4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Keeping information secure includes preserving it, protecting it from corruption, and preventing its interception and discl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igital storage makes information subject to easy loss, theft, and de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have back-ups in diffe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C9B44982-5EFB-4CCF-A321-CE914971832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-mail communication is not secure; may be hacked or misdirected accident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cryption may be required to protect information but may still not su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leting information does not eras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reless networks are suscept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4081E5F-04FB-4B61-BC8F-892AC7D0E7F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dit and debit card fraud are 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protect PIN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s and machines should be regularly monit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dentity theft is becoming a bigger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s may be vicariously liable for actions of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6792DA8A-38C8-4E23-AC77-2CB6288D506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nitor employee use of computers and other company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ant to inform employees of surveillance to avoid violation of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fidential information should be contained and employees told what information is confid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A1586BA5-5613-4A33-9A3A-741646C6E26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angible personal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aluable business as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underdeveloped, undervalued, and poorly protected by busi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legislation deals with all asp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th federal and provincial courts have jurisdiction to hear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0557908-1A85-4DC6-BE49-3E3B6505131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reful hiring practices are best safegu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 access to confidential information to only those who requir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s of password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ing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riminal 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vers specific provisions related to computer and internet off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3F5F427B-6E55-46B6-997F-35EE8342872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pyright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protects artistic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protects the expression of the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sts for 50 years after death of the crea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y 50 years if corporate owner, author unknown or movies, photos, or sound recordings are inv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pyright often assigned to publisher; creator receives royalties from net proc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6ECE2A8-D837-4C47-B1B0-9DCEE3F7382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ator retains moral rights even if copyright assigned or so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ight to have name associated as cre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ork cannot be modified, distorted, or defaced without creator’s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 entitled to copyright if work created by employee during cours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1C68CAB5-98A4-45AC-9FA9-17C1042E090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pplies to every original literary, dramatic, musical and artistic work, including performer’s performance, sound recording, and communication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pecifically covers computer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national treaties protect work in oth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UCC, Bern Convention, Rome Convention, W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BE5D4F46-7124-4711-BCA3-B2A4AF8F2A7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825560"/>
            <a:ext cx="817704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A01C69A8-A8BE-4287-BCFE-F583A386984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pyright is automatic in Canada, but registration provides additional benefits (e.g., protection in other coun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ork must be original and fixed in some permanen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51:19Z</dcterms:created>
  <dc:creator>Client Name</dc:creator>
  <dc:description/>
  <dc:language>en-US</dc:language>
  <cp:lastModifiedBy>User</cp:lastModifiedBy>
  <dcterms:modified xsi:type="dcterms:W3CDTF">2012-04-24T16:50:29Z</dcterms:modified>
  <cp:revision>122</cp:revision>
  <dc:subject/>
  <dc:title>Slide 1</dc:title>
</cp:coreProperties>
</file>