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CBBF-5CC0-4580-BFF0-93BFE88C7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22F6-DFE0-4848-8E09-47346167BF58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B4B0-6100-4604-A3E3-F5FD78AC1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A0EE-D5A3-4528-A5AD-429EED6C6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D711-2FA5-4BBB-BE75-6D8B26CC0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5205B-8B9D-4283-9A2F-3DBCF1517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B46D8-3E44-4268-880A-66A9982F6B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0F910-5D44-4107-9486-E4396073A8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D0F67-8DFF-4EA7-9C9F-39A1109E3E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F6DA0-8615-45F3-9747-6C1DC5AB6F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9EC3A-BAC5-4DB2-A622-445749598B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51D26-1792-476F-992F-DFC7CE9550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28AAD-F4E7-4931-8233-FB724C9E21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0D03-5E48-4E6B-BB4E-3E02FF45D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07BB5-76F2-4F84-B9C6-FF9DE91718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4D2F1-EFB9-4B78-86A7-E4736C3FDC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09D26-A1DE-419C-B1AB-94E6DAD0F9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FD80C-BB83-4F4B-B97E-33EE344A76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D1442-F61E-4F14-9200-349C5E203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4F81-4695-4F5A-A681-B51E43AB7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671C-6546-40A7-B672-43A13BBBE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4F72E-4E7A-420F-9806-24A44B466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A2F0-3CA4-464D-BD85-338C63508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7BBC-F1F4-4174-BB5A-CAE474152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7316-22EA-497B-B572-C7BDFAB67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5C4B-3D27-4F5C-AA2F-C5B42C72C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38F3B190-EB07-4C1E-A455-DBBAADA2A7B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08F1972A-7275-4426-97B4-D29B18C2E00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264B91E-FD83-4266-AAFD-5EB6AAA89CA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390D8B43-3366-47C9-BA95-CB49A3D3726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s to use of copyrighted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of small portions for research or private study per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reproduce for review, criticism,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ducational institutions (and some others) have rights for research or educational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production to facilitate someone who is blind or d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CD725E81-7C5B-4252-8118-4583B2262A2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ss Copyr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n-profit body that collects fees for use and distributes them to auth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ame function for musicians and composers of recorded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pyright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ts royalty fees and may arbitrate disp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397B14B0-C81B-4273-801A-843600B26E9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intellectual property law under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provide appropriate protection for artists, authors, and produ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impose restrictions on uploading and downloading of music, video, etc. from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ected that Canada will change laws very soon due to internation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03B6BB30-CCB6-49FE-867E-7EAE740A905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aten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gives inventor exclusive rights to produce and profit from invention for 2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regulatory body handles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tent protection requires discl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rawings, plans, and information so another could reproduce i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0C687D4-0FED-45FE-AA88-E354E9B68AA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o register has priority, not first to cre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tect idea, not the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be patentable, invention must be useful, new, and contribute to improving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atentable if in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obvious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discovered by reverse engine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A4282CE-8BEC-492F-A63B-B924A6E9C63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granted for scientific principle 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igher life forms not patentable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patent modified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business patents gr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computer software can now be pat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6444E110-A946-4DB2-ADC6-1184ED57B49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tented drug prices must be justified, but costs incr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rgreening” extends drug patent another 2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TO permits creation of generic drugs under licence for export to third-worl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FAEFCBB-775C-44BA-993C-C1AAED6E7C1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pplying for patents complicated and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ne through registered patent ag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ce patent obtained here, invention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tection may be obtained in other countries with whom we have tre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4F81518B-9A33-4E2E-91D6-A72F5A1D868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has right to patent unless inventing was purpos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assign patent to third parties and use as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and provincial courts can hear patent infringement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DAE3B548-3274-4596-8681-7281EAF91F1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lated 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dustrial Design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s distinctive designs, shapes, or patterns associated with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egister; protection lasts 1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tegrated Circuit Topography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s unique design of integrated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egister; protection lasts 1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BA43C537-7FA7-45A7-9ED5-0B7CA3891D8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etween intellectual property and other kinds of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nd describe what is protected under copyrigh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recent proposals to change copyright law impacting digital recor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what a patent protects and how patent protection is ob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CEEE6238-D80B-42F7-9C6D-C531E7756CF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ames, symbols, logos, or other distinctive marks associated with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odwill often associated with these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Trade-marks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llows for registration and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ives exclusive rights of use in Canada for 15 years and is renew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D4D4557F-89BF-45B3-8727-8C23074FDA8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use marks or will lose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ll provide proof of ownership for registration in other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fringement involves using the mark to confuse the public or devalue the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seek remedy in either federal or provincial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1FAF450-9EEE-4EA6-94DE-A336A875D10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consist of words, expressions, trade names, symbols, logos, de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certification 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“official marks” used by organizations associated with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distinguishing gu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tinctive shape of product or contai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4F703C52-00EA-4B1D-86C0-7C4D26D2997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apply to protect proposed trade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gistration usually done by trademark 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ons set out in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such as royalty, national flag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socially acce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surname of living or recently- deceased person not per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25017C6-5FD6-4C57-8607-47BAFFAF139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distinctive and not confused with mark of another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lost if name or symbol becomes generally used to describe a number of similar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D9FB8BDB-85DE-4146-AA40-C400BEF5B21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sputes handled by Registrar of Trademarks with appeals to Federal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demarks can be challenged up to five years after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demarks and associated licences can be 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FD8F5EF0-9A61-4017-97CF-A17B02E7287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ssing-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n unregistered marks are protected through tort of passing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use similar mark to misl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st for passing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putation of goodwill for product o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rk/name similar enough to cause con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alue of goodwill/reputation inj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C91911FB-23C4-46C6-A50D-9091D93B98B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junction to stop offending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im injunction requires balance of convenience for appl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on Piller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rder that offending products or records be seized before they can be destroyed/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388408D-10E1-41C7-A9F2-C9D9555CBBB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on Piller orde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rong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prima faci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anger of considerable further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fending party has documents/products in his/her possession and likely to dispose of/destroy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9CBD22CE-2380-4970-86F9-F6D2B439371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termines improper profits made by defendant that must be paid to plain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 of royalties may be im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reasing tendency to award punitive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infringements are criminal offences under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pyrigh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atent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vers trademark infri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BDF0334-145A-4026-A276-857EB621503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protections afforded b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ustrial Desig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what is protected b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de-mark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confidential information and the ways it can be 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role of privacy acts and describe how they protect a business from disclosure of confidenti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CDE8C63-8463-4275-B2E9-B314613EF7C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vacy, Security,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dential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idential information and trade secrets nee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legislation in place, but common law applies (e.g., fiduciary duty or con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n-disclosure provisions can be used in contracts (e.g., contractor, consulta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ve covenants may be used with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ke it clear to employees that information is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C1B27DD-4BE8-48C3-BA78-FD9F619E59B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vacy, Security, and Confidential Information - Reme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medies are damages, injunction, and 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pursue an action for inducing breach of contract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EEF7CE7-1F06-41E5-84BD-E7256C79A43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common law protection of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veral provinces now have statutes making breach of privacy a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eavesdropping, surveillance, and unauthorized use of name or por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and provincial legislation deal with protection of pers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DABD939-5EAE-4511-9EA1-C566CE34297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ivacy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tects personal information in hands of federal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ed office of Privacy Commissi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ersonal Information Protection and Electronic Documents Act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(PIPE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ols collection, use, disclosure, and disposal of personal information in commercia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940FE37B-BE08-4A32-BE4A-CE01D70C549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IPEDA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provinces have adopted similar legi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May have to follow legislation at both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ses obligations for information in connection with business activities and also employe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ations are indictable off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010FCEA1-5BA5-409A-83FE-F69D0DC1C3B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sinesses must develop policies and procedure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ke businesses accountable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ce limits on information collection, use, retention, and dis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sure accuracy and safeguar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vide access to and provide process for challenging information’s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3A25F4C-83BD-48A5-B2F8-59483F6E1AE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Keeping information secure includes preserving it, protecting it from corruption, and preventing its interception and discl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gital storage makes information subject to easy loss, theft, and de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ack-ups in diffe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C6539BC6-5E04-4603-9F7C-C3EE66F7ED2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-mail communication is not secure; may be hacked or misdirected acciden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cryption may be required to protect information but may still not su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leting information does not eras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reless networks are suscept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F0AED2E6-0F05-4D5A-BB34-208F0C221D3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dit and debit card fraud are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protect PIN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s and machines should be regularly monit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dentity theft is becoming a bigger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s may be vicariously liable for actions of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F1E2F2F-F741-4FE7-A674-B67518487E0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nitor employee use of computers and other company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inform employees of surveillance to avoid violation of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fidential information should be contained and employees told what information is confid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BD300D6-DEA5-42A2-8A67-33847050394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angible personal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aluable business as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underdeveloped, undervalued, and poorly protected by busi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legislation deals with all asp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th federal and provincial courts have jurisdiction to hear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07F1A786-2956-4008-92F3-319046005F2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reful hiring practices are best safegu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 access to confidential information to only those who requir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s of passwor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vers specific provisions related to computer and internet of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350B6A1-7295-43A4-A68B-BF251970D43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pyrigh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tects artistic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protects the expression of the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sts for 50 years after death of the cre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50 years if corporate owner, author unknown or movies, photos, or sound recordings are in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pyright often assigned to publisher; creator receives royalties from net proc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0FCF993C-20AF-4338-9D76-99B947EF85C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or retains moral rights even if copyright assigned or so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ight to have name associated as cre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rk cannot be modified, distorted, or defaced without creator’s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 entitled to copyright if work created by employee during cours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04C7329-BBE7-444D-9B0C-08D7A570A1A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pplies to every original literary, dramatic, musical and artistic work, including performer’s performance, sound recording, and communication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ecifically covers 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national treaties protect work in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UCC, Bern Convention, Rome Convention, W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3F223C7D-6B01-4397-8A33-6EF392AE1AD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825560"/>
            <a:ext cx="817704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12ABCE8-1A4B-4104-B2D9-58F3742AF04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pyright is automatic in Canada, but registration provides additional benefits (e.g., protection in other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rk must be original and fixed in some permanen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1:19Z</dcterms:created>
  <dc:creator>Client Name</dc:creator>
  <dc:description/>
  <dc:language>en-US</dc:language>
  <cp:lastModifiedBy>User</cp:lastModifiedBy>
  <dcterms:modified xsi:type="dcterms:W3CDTF">2012-04-24T16:50:29Z</dcterms:modified>
  <cp:revision>122</cp:revision>
  <dc:subject/>
  <dc:title>Slide 1</dc:title>
</cp:coreProperties>
</file>