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40F7-D58A-419C-98CE-C00FA85F1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4595-7DD3-4BDD-9512-6B68A4221669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2BF1-361C-4842-8D2E-CB5A0F48E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A952C-2EF6-409B-885F-BDF7074F0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7301A-C1B6-4E24-BAEF-C2852BBE0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C831-AF56-4D59-B725-EDD1FD67A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E8496-0E03-45DE-93DE-747353E2C5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4B613-19EE-4B38-9F6C-B19C9FCC9D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0CEE4-8F6D-428F-BC28-CE9EDC01C3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30A6F-5C8D-4BE3-811C-2A2DEA7B20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2B47C-9A47-4CBA-B103-829A2498C7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478A4-7512-4923-A256-B4373A8B36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FD9AD-DF54-444C-8BB0-2909F47EC8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AA7B2-97B7-4D64-88EC-B58C1A3EB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ED7C2-1B92-4C55-8FFA-BA6FA486A6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DF891-403F-49BF-BDB4-CADF33CB69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058F4-9208-4323-98DB-FE400DD4DA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A5A21-87D7-480E-921F-4662531A36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4CB34-AA50-4B63-92EE-5CC7AEC83E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80D8B-2DD8-41B4-9731-22F946818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0DE1-DEE3-4CA1-AA2B-8BD053F65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BF1DB-C133-4711-A476-1CCBF4ED2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DBF66-6D48-4F71-82DD-B5D11D639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28BDA-D25C-469E-9201-52BA5A77F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B30F3-0E08-454D-826C-7E986CCB2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7295B-43B3-4222-A9D8-749436DB9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3D2C6378-E905-4F2D-B280-4393A062EE8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DDCCB59B-2E6B-41DD-8E9A-BD828AC0506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BF48CAD-E6B9-4646-8BD3-AF4652FDCB8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s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E5B55DA-7058-444B-BA1D-418C51FF12F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s to use of copyrighted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of small portions for research or private study per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reproduce for review, criticism,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ducational institutions (and some others) have rights for research or educational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production to facilitate someone who is blind or d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AC3ADA96-6146-4E27-A617-252A464CCD0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ss Copyr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n-profit body that collects fees for use and distributes them to auth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ame function for musicians and composers of recorded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pyright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ets royalty fees and may arbitrate disp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A5EB29C7-1468-4BC1-A8D1-302004FBC70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intellectual property law under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provide appropriate protection for artists, authors, and produ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impose restrictions on uploading and downloading of music, video, etc. from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ected that Canada will change laws very soon due to international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603846C3-066A-4490-9AD5-06D04DB34BB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atent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gives inventor exclusive rights to produce and profit from invention for 2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 regulatory body handles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tent protection requires discl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rawings, plans, and information so another could reproduce i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125172E-275B-4394-BC22-1AFD2707F4D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o register has priority, not first to cre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tect idea, not the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o be patentable, invention must be useful, new, and contribute to improving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atentable if in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obvious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discovered by reverse engine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B42DEF6B-AAE6-4DE9-85F1-9FCE14F63C6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granted for scientific principle 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igher life forms not patentable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patent modified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business patents gr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computer software can now be pat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B15E657F-C45C-48B9-BEB8-82D999240E9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tented drug prices must be justified, but costs incr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vergreening” extends drug patent another 2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TO permits creation of generic drugs under licence for export to third-worl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308962B-5BA8-4DC3-A27A-694600A4A37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pplying for patents complicated and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ne through registered patent ag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ce patent obtained here, invention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tection may be obtained in other countries with whom we have trea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3F1D8F32-CFEB-4E20-A862-8E8B7390936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has right to patent unless inventing was purpos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assign patent to third parties and use as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and provincial courts can hear patent infringement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A84C7D0-2364-4754-A4C1-756AEDDC9A8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lated 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Industrial Design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tects distinctive designs, shapes, or patterns associated with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register; protection lasts 1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Integrated Circuit Topography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tects unique design of integrated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register; protection lasts 1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41E1A1C-BDEA-43CF-9C4F-A930C4F1C03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between intellectual property and other kinds of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nd describe what is protected under copyrigh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e recent proposals to change copyright law impacting digital recor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what a patent protects and how patent protection is ob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D5DA257-F35C-4CD4-BF11-09D3A7CBC69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ames, symbols, logos, or other distinctive marks associated with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odwill often associated with these 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Trade-marks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allows for registration and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ives exclusive rights of use in Canada for 15 years and is renew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FC7B9F6E-FC47-4169-BA97-EE38CAA260C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use marks or will lose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ll provide proof of ownership for registration in other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fringement involves using the mark to confuse the public or devalue the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seek remedy in either federal or provincial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46F2E508-7253-4DCD-9791-706A3651B4B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consist of words, expressions, trade names, symbols, logos, de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certification 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“official marks” used by organizations associated with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distinguishing gu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tinctive shape of product or contai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CF9D7D7-5181-421F-AB7D-6C1BDDEA2AD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apply to protect proposed trade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gistration usually done by trademark a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trictions set out in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such as royalty, national flag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socially accep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ually surname of living or recently- deceased person not per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E3D7BBF-5D95-4B9B-AD71-60322C75F8D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distinctive and not confused with mark of another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lost if name or symbol becomes generally used to describe a number of similar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EB598C7E-E909-4524-B1CE-3D3E50B84CD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isputes handled by Registrar of Trademarks with appeals to Federal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demarks can be challenged up to five years after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demarks and associated licences can be as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EDF50389-5000-4A21-A061-BC5E556647A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ssing-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ven unregistered marks are protected through tort of passing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use similar mark to misl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st for passing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putation of goodwill for product o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rk/name similar enough to cause con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alue of goodwill/reputation inj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AB1D11B0-6F80-445E-B3E0-06B267B9F60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PR Rem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junction to stop offending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im injunction requires balance of convenience for appl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on Piller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rder that offending products or records be seized before they can be destroyed/rem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A963D27E-E00B-4C39-B7E0-D513F83B57F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PR Remed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on Piller orde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rong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prima faci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anger of considerable further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fending party has documents/products in his/her possession and likely to dispose of/destroy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50F8B53A-593E-432D-A84E-14275E13186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PR Remed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co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termines improper profits made by defendant that must be paid to plain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 of royalties may be im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creasing tendency to award punitive 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infringements are criminal offences under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pyright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atent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riminal Cod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vers trademark infrin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148B1E42-EB1A-4561-9B7D-38EEEB560F2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protections afforded b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ustrial Desig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what is protected b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ade-marks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confidential information and the ways it can be pro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role of privacy acts and describe how they protect a business from disclosure of confidenti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F5D6D2D4-637F-4E44-B9FC-1EA66F1BEAE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vacy, Security,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idential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idential information and trade secrets need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 legislation in place, but common law applies (e.g., fiduciary duty or con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n-disclosure provisions can be used in contracts (e.g., contractor, consulta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trictive covenants may be used with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ake it clear to employees that information is conf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6E2EE3A-2135-423F-AE45-7602B88E431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vacy, Security, and Confidential Information - Reme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medies are damages, injunction, and acco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pursue an action for inducing breach of contract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51C497D6-2573-44F7-986F-80B0C05D202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common law protection of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veral provinces now have statutes making breach of privacy a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eavesdropping, surveillance, and unauthorized use of name or portr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and provincial legislation deal with protection of pers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AFEE0D1-F5EE-435A-8B0E-66016A68EBC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rivacy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protects personal information in hands of federal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ed office of Privacy Commissio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ersonal Information Protection and Electronic Documents Act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(PIPE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ols collection, use, disclosure, and disposal of personal information in commercia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AACA9871-34BC-48D7-8CC7-92D479F7688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IPEDA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provinces have adopted similar legi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May have to follow legislation at both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oses obligations for information in connection with business activities and also employe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ations are indictable off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4B2E4A73-1083-46E4-8237-37AA028AECF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sinesses must develop policies and procedure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ke businesses accountable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lace limits on information collection, use, retention, and dis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sure accuracy and safeguar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vide access to and provide process for challenging information’s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653A8098-70FB-4439-BE32-825A9C8E99B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Keeping information secure includes preserving it, protecting it from corruption, and preventing its interception and discl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igital storage makes information subject to easy loss, theft, and de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ve back-ups in diffe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5D7A6844-B5B0-4816-8655-E5465C535D3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-mail communication is not secure; may be hacked or misdirected accident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cryption may be required to protect information but may still not su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leting information does not eras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reless networks are suscept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56781B39-AF3E-4477-A2DD-F678A1DAEAB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dit and debit card fraud are 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protect PIN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s and machines should be regularly monit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dentity theft is becoming a bigger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s may be vicariously liable for actions of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D88383F8-72CD-42B3-B401-311F9D54824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nitor employee use of computers and other company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ant to inform employees of surveillance to avoid violation of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fidential information should be contained and employees told what information is confid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2FAC376-A18A-4F12-A8EB-50A899AA04F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angible personal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aluable business as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underdeveloped, undervalued, and poorly protected by busi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legislation deals with all asp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th federal and provincial courts have jurisdiction to hear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93B84069-7A58-4468-BD1F-FE366A2F392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reful hiring practices are best safegu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 access to confidential information to only those who requir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s of password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ing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riminal 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vers specific provisions related to computer and internet off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BC1A2FF9-4225-4EA7-9301-9C1E45368A8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pyright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protects artistic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protects the expression of the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sts for 50 years after death of the crea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y 50 years if corporate owner, author unknown or movies, photos, or sound recordings are inv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pyright often assigned to publisher; creator receives royalties from net proc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C0588319-6BB8-413E-84F4-21C87C81178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or retains moral rights even if copyright assigned or so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ight to have name associated as cre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ork cannot be modified, distorted, or defaced without creator’s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 entitled to copyright if work created by employee during cours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9637400-1B26-482D-8A49-65A869015BB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pplies to every original literary, dramatic, musical and artistic work, including performer’s performance, sound recording, and communication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ecifically covers computer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national treaties protect work in oth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UCC, Bern Convention, Rome Convention, W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9E790AD0-32A4-4FAC-8E5E-D64025687C4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825560"/>
            <a:ext cx="817704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4FDBBF7C-E6C4-451D-A3A4-DDD0CF499DE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pyright is automatic in Canada, but registration provides additional benefits (e.g., protection in other coun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rk must be original and fixed in some permanen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51:19Z</dcterms:created>
  <dc:creator>Client Name</dc:creator>
  <dc:description/>
  <dc:language>en-US</dc:language>
  <cp:lastModifiedBy>User</cp:lastModifiedBy>
  <dcterms:modified xsi:type="dcterms:W3CDTF">2012-04-24T16:50:29Z</dcterms:modified>
  <cp:revision>122</cp:revision>
  <dc:subject/>
  <dc:title>Slide 1</dc:title>
</cp:coreProperties>
</file>