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F70E-9FC3-42D3-8CA6-2BA29C127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BD7F-8A36-4AA1-A7E6-3B2FEF570CFE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F004-7065-4705-8A6C-422D41493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2E41-4464-47B4-A816-97226125C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939E-6E61-44A9-B7BB-69DBE30C0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FE7D-F3BF-4792-A9F5-D7DD2058B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FBB3A-6504-4B68-9835-704A48A3EC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CA4C-9416-4CBC-9B9A-28D4A3D75E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88673-7D0B-4970-B46D-481D3A163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D289C-8596-4030-B406-20AFDA4DCB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61B61-7F4E-4087-9C8D-803996E0DA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89BA3-D416-4D6D-8DA3-2B552C64E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64A0F-D4EA-41C7-BBB0-C208826D83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7C1B-3D5D-4BC1-A180-9418A2FF0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B444-522A-499B-B8C5-25183CF51C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180A3-EF7D-4BF1-A7B2-51E7A15AC4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D7DD1-B71B-453A-A966-4644438CF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570F-A4DE-470F-B68E-2A9FCAD8D1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92AC2-CA60-41A0-A4C5-5C5639AFDF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EAE9-637B-43A8-B096-7A3890071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DC908-6FB0-44FA-B2F4-BB750292A4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8738-82D7-48C3-B8B8-A5BBFA08D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42CF-A811-4837-AC99-C49FE223B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113C-331F-44A4-B00B-F2DE16FB0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75120-02BC-49CF-940E-5C7927ADC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341B5-5D12-4B80-B8FC-E50D8AECC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D919664-598A-4808-9617-9D7E6D8998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AC2DF0F-85AF-46A2-A8B5-E4D1398DE52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66A6E67-3BC0-49C8-9EAD-21D0357A997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s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0258DC7-BE1C-4368-8629-D1F274C178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ceptions to use of copyright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small portions for research or private study per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reproduce for review, criticism,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ducational institutions (and some others) have rights for research or educ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production to facilitate someone who is blind or d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FEE1B4F-7F63-4C91-BA32-C88DF2922F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cess Copyrigh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n-profit body that collects fees for use and distributes them to auth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ame function for musicians and composers of recorded 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pyright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ets royalty fees and may arbitr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5578D46-F78B-41D4-90CE-2064F83A2DA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intellectual property law under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provide appropriate protection for artists, authors, and produ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impose restrictions on uploading and downloading of music, video, etc. from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ected that Canada will change laws very soon due to internation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5F3498D-2158-4725-8A21-7FFF5565E9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gives inventor exclusive rights to produce and profit from invention for 20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regulatory body handles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 protection requires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rawings, plans, and information so another could reproduce i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5855259-E572-4EAC-B829-369EE9163EF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o register has priority, not first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 idea, not the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be patentable, invention must be useful, new, and contribute to improving soc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atentable if i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n obviou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discovered by reverse enginee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5150008-5ACC-4945-85ED-6F64EA2F1AE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granted for scientific principle 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igher life forms not patentable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patent modifie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business patents gr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computer software can now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3EC8DC68-B84C-4AC8-A8D7-AA3B052E245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ented drug prices must be justified, but costs incr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rgreening” extends drug patent another 2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permits creation of generic drugs under licence for export to third-worl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6198842-004A-454F-8050-1F6ED7F2EF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pplying for patents complicated and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ne through registered patent ag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ce patent obtained here, invention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tection may be obtained in other countries with whom we have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69E2A15-5973-4974-8B61-C8322F9CCF0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 has right to patent unless inventing was purpo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ssign patent to third parties and use as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courts can hear patent infringem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E994DD0D-0C70-4752-ABF1-EE2A8B07C7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lated 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distinctive designs, shapes, or patterns associated with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Integrated Circuit Topography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s unique design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register; protection lasts 10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80934F2-041A-4174-937E-9ABD26B251A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etween intellectual property and other kinds of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d describe what is protected under copyrigh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e recent proposals to change copyright law impacting digital recor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what a patent protects and how patent protection is obt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9018665-7882-45F3-807F-CDB8BC43AED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mes, symbols, logos, or other distinctive marks associated with a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odwill often associated with these 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llows for registration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ives exclusive rights of use in Canada for 15 years and is renew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45A135-612F-4926-8E1C-F2CAA88E3A3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use marks or will lose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ll provide proof of ownership for registration in other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fringement involves using the mark to confuse the public or devalue the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seek remedy in either federal or provincial cou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6A38F692-B35F-490C-B189-E126F82592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consist of words, expressions, trade names, symbols, logos,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certification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“official marks” used by organizations associated with gover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distinguishing gu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stinctive shape of product or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B513841-C9B2-41D1-AA74-FB7D72C563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 apply to protect proposed trade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gistration usually done by trademark a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strictions set out in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ch as royalty, national flag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be socially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sually surname of living or recently- deceased person not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C40DBA2-0FE1-4CB6-A519-88922813417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distinctive and not confused with mark of another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lost if name or symbol becomes generally used to describe a number of simila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565C5725-AD68-4DE5-A22B-B17D86E9A4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sputes handled by Registrar of Trademarks with appeals to Federal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can be challenged up to five years after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rademarks and associated licences can be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2E87D49-3273-4A10-9DE3-5BE4CBE9959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rademark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ssing-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unregistered marks are protected through tort of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not use similar mark to mis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est for passing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putation of goodwill for product o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rk/name similar enough to cause con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alue of goodwill/reputation inj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CBA9558-4B4B-46BA-9FB1-C1BC58AE906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am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junction to stop offending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im injunction requires balance of convenience for a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that offending products or records be seized before they can be destroyed/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118932E-7016-44E9-9E06-538DA7989D2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ton Piller ord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rong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prima faci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anger of considerable further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fending party has documents/products in his/her possession and likely to dispose of/destroy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96D8FF1-0E17-4706-B088-BDC940A3CF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PR Remedies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termines improper profits made by defendant that must be paid to plain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of royalties may be im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creasing tendency to award punitive da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infringements are criminal offences under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atent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vers trademark infrin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7A28E95-B43F-4D71-B21C-62E9C7E62F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protections afford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ustrial Design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at is protected by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ade-mark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confidential information and the ways it can be pro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ole of privacy acts and describe how they protect a business from disclosure of confidenti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2C903DD-A8E3-48AD-A7B3-E8226B03CE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idential In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idential information and trade secrets nee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 legislation in place, but common law applies (e.g., fiduciary duty or con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n-disclosure provisions can be used in contracts (e.g., contractor, consulta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ve covenants may be used with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make it clear to employees that information is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0DE7801C-C334-4156-A811-13D3162297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vacy, Security, and Confidential Information - Reme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medies are damages, injunction, and accou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pursue an action for inducing breach of contract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0D48A9E-8256-4F3E-B348-46B5946BB1A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common law protection of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veral provinces now have statutes making breach of privacy a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des eavesdropping, surveillance, and unauthorized use of name or portr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and provincial legislation deal with protection of pers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F2D67D4-1CD6-4EC7-9907-FCFA36CFE2A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rivacy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personal information in hands of federal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stablished office of Privacy Commissi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Personal Information Protection and Electronic Documents Act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PIPE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trols collection, use, disclosure, and disposal of personal information in commercia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233510B5-B569-4084-B6D3-F30A6545A47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IPEDA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provinces have adopted similar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333300"/>
                </a:solidFill>
                <a:latin typeface="Times New Roman"/>
              </a:rPr>
              <a:t>May have to follow legislation at both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ses obligations for information in connection with business activities and also employe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ions are indictable off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BE37B183-2235-45B6-ABED-29AB1012F3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es must develop policies and procedure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ke businesses accountabl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lace limits on information collection, use, retention, and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sure accuracy and safeguar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de access to and provide process for challenging information’s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7ABA9E8D-E724-4247-AB2E-0B6640DBB09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eeping information secure includes preserving it, protecting it from corruption, and preventing its interception and dis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gital storage makes information subject to easy loss, theft, and de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have back-ups in diffe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C3A7FE50-5681-4585-AD94-FD9D24A53C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-mail communication is not secure; may be hacked or misdirected accid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cryption may be required to protect information but may still not suff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leting information does not eras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reless networks are suscep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C864261-FBB3-4262-A4CA-02B43253815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dit and debit card fraud are com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st protect PIN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es and machines should be regularly moni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dentity theft is becoming a bigger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s may be vicariously liable for actions of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9A66583E-C378-4698-8265-8E463C645D4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nitor employee use of computers and other company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ant to inform employees of surveillance to avoid violation of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fidential information should be contained and employees told what information is confid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1409629B-7689-4AA9-BC6A-776CC1CF2D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angible personal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Valuable business as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underdeveloped, undervalued, and poorly protected by busin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legislation deals with all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th federal and provincial courts have jurisdiction to hear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630E64B-1C19-4B55-A2AF-4A46F79C0B7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reful hiring practices are best safegu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rict access to confidential information to only those who require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s of passwor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ing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riminal Co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vers specific provisions related to computer and internet of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A6F56E20-DA3D-4586-89D9-884F33946D2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pyright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tects artistic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y protects the expression of the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sts for 50 years after death of the creat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y 50 years if corporate owner, author unknown or movies, photos, or sound recordings are invol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often assigned to publisher; creator receives royalties from net proc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4E06260C-9F6D-4406-A45E-FC431C34C28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reator retains moral rights even if copyright assigned or so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ight to have name associated as cre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ork cannot be modified, distorted, or defaced without creator’s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mployer entitled to copyright if work created by employee during course of 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24C6483-7636-4E96-83DE-DB5B5A70CA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pplies to every original literary, dramatic, musical and artistic work, including performer’s performance, sound recording, and communication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pecifically covers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national treaties protect work in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CC, Bern Convention, Rome Convention, W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8CF1A0F0-2AE0-41E8-B6EE-69E620DCA6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25560"/>
            <a:ext cx="8177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9 - </a:t>
            </a:r>
            <a:fld id="{D568BDEE-F4A1-4671-BFB4-399CFB50B43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pyright is automatic in Canada, but registration provides additional benefits (e.g., protection in other coun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ork must be original and fixed in some perman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1:19Z</dcterms:created>
  <dc:creator>Client Name</dc:creator>
  <dc:description/>
  <dc:language>en-US</dc:language>
  <cp:lastModifiedBy>User</cp:lastModifiedBy>
  <dcterms:modified xsi:type="dcterms:W3CDTF">2012-04-24T16:50:29Z</dcterms:modified>
  <cp:revision>122</cp:revision>
  <dc:subject/>
  <dc:title>Slide 1</dc:title>
</cp:coreProperties>
</file>