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DC14-E7E5-446A-AD58-3C4FE4BA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C06A-68F0-4D5B-83D7-686D1FCC1900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BAD8-C8DE-42C3-AD5F-890919772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3FBE-4F48-42BD-8AEB-13DDD3D18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5055-2D4E-404F-9E49-C15819688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CFA7-1ACA-4F2E-AF00-8851621D1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36397-B007-43F5-A27F-0BCEA239D3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ED99C-D765-4D71-BA06-FDECA14016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7E0B1-8DAB-49E1-B5A1-1D196DED6A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95D75-D773-423A-A55E-2FE774FF24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9EEBD-061A-432A-8673-D77BE1B748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E8537-5BB5-4959-A9E0-E33C69D215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A3DAE-402C-444D-8136-5547F20E5F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04C3-51D4-488E-98D2-8887D0CD4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85D2E-4AA5-400A-A67B-28DF654020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32066-C442-4A9B-B9FF-C9C0289A7C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74F1D-0B62-4D9C-A577-009B05FFAB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6DF30-980B-4C72-B784-3AC1D0A7C2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0EF9F-7C79-4F38-A16E-23BBE5CEAA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78C3B-BBF7-4394-ACA6-069FC2704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E542-A387-4B76-9EDB-EA07CDAB2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A1F1-32DD-4D14-A30F-B1A764FDF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2E71-3147-421D-833B-53AE8D7D3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0C0A-EB56-441C-B412-68B6DA268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349E-1F6C-45EC-91CA-A83440185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9131-FAF2-4372-953A-73AFA4B15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AC6560F-B9CA-4D68-B02D-C98184D0B5C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56E1ED8-0050-4E13-9BB3-558ABAC5BA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4DD47C6-E120-4DF4-9985-F4318B19F5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rce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7D29464-A857-4BD5-AD17-FB9A7304825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main name is unique address, leading to many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anies in different locations want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ybersquatter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bitration processes exist to deal with  domain name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AE14CF7-E67B-4A69-9640-E4C4FA6C98F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dies responsible for registration of domain names (e.g., Canadian Internet Registration Authority) set policy for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 Canadian domain names, bodies like British Columbia International Commercial Arbitration Centre and Resolution Canada Inc. offer arbitr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ld Intellectual Property Organization (WIPO) is largest arbitration service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0F5244C-31F1-439A-8666-7B2D048D385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amation is most common internet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despread distribution and uncertain jurisdiction make internet cases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son and employer may be 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P may be liable if it fails to remove or block offending messages when required by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070F40C-9376-4535-9E03-9980167D46C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 status of internet transactions determined by contract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ritten copies of online transactions can be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cularly a problem wher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written, signed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49B00F2-D71E-4212-946B-8C8B464A3A9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- 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vinces enacted statutes based on the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Uniform Electronic Commerce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(UECA) guidelines to recognize electronic documents and sign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tisfy legal requirements for written, signed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fferences among provi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apply to all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D8B8DF5-543C-40C4-999E-0437F602E5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onsensu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 may state that law of a specified jurisdiction will apply to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licking “I accept” creates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accepted and contract formed when and where offeror learns of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sent when “Send” is h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received when it arrives on recipient’s computer (even if never 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3EEAC76-A2EA-464B-8DA7-7DB80E20BB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fficult to know if other party has capacity to enter into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need more information than simply what appears on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government has guidelines for development, implementation, and use of authentication products and services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F6AFA07-EBDE-4A8C-81AE-53553BD3FEB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llegal activities are widespread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les of Goods Acts and consumer protection legislation theoretically apply, but fraudulent scams a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avoid rules in specific jurisdictions by moving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s of scams may have little recourse when perpetrator is in an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7545238-B7B7-4069-B17B-42AE94B58CF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Pa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payment difficult to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rvices like PayPal may help customer get what was paid for or provide remedy in a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foolproof methods may be overcome by scam ar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442759B-87C8-4E76-AA88-553310781E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varies by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convince court that it has jurisdiction, plaintiff must show defendant was targeting the location where plaintiff re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may determine matter is not closely enough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should specify what law applies and what court has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11B1FED-1079-426D-B3E3-986F93906AA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nature of electronic commerce and its impact on business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jurisdictional issues that complicate onlin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specific kinds of tortious conduct that are pervasive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cerns electronic and global business transactions have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F235B59-44B1-42F0-99D7-1D3F16E5B52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Dispute Re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blems can be avoided by including arbitr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is a valuable tool for ecommerce disp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umer protection legislation may make terms for mandatory arbitration 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organizations facilitate arbitration of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9A7CDA2-5B5F-4AE2-AC36-48E561A92A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ng the Inter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tle effective regulation of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still no anti-spam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interested in regulation of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sue of privacy arises if government demands access to certain business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C71898B-5D0E-4DA1-B794-7DAF5F6370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international court to litigate private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dispute resolution mechanisms only address disputes between sovereign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International Court of Justice (ICJ) and World Trade Organization (W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92C2A68-5293-473F-A9B2-B9EEF8E5BA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s of international business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 and export of goods (most com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ion of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sion and acquisition of services (e.g., call cen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54A2FA5-641F-4576-8508-A6C7C3F241D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ations for international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ly-prepared contracts are v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 must comply with government regulations in both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eps must be taken to ensure efficient, cost-effective, and favourable resolution of dispute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F94FFEA-BC0E-498F-AFF2-5D9FA661B5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now who you are contracting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quire services of professional specializing in law of jurisdict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ze certain terms in a contract may be invalid in a specific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463FF09-A3FF-40BB-83D3-C64E78F78EE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should spec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bligations and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lated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mechanism (other than the cou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 that will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that will hav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financial repor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9FDD565-0B0C-4BD0-8616-8D0B099626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eign ownership is likely to involve in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eign ownership may be restricted, creating need for contractual relationships with local 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creases risk and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lementary standard form contracts may be required, depending on nature of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bills of lading, letters of credit,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3745381-492D-4749-86F8-21FB60D7FFC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clause can avoid l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disputes be resolved by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pecifies the proces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be overridden by loc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ternate dispute resolution useful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ck of court with international jurisdiction over priv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certainty and risks of court in foreign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F5C4393-EBC7-42E0-8147-3000A5701CB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negotiation, mediation, and arbitration increasing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gotiation and mediation are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rbitration is particularly appropriate - Can specify in contract who will arbitrate and what process will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24BA356-91C3-45F7-9E0B-36ACAE4C71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difficulties in engaging in international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contractual problems are best resolved in the glob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how international commerce is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jurisdictional issues and enforcement of judicia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773A110-A225-4004-BC20-77444020F0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vantages of arbitration – reduction of risk, respecting mutual obligations and rights, and minima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advantages of arbitration – can be difficult to enforce (but less so n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F1031B2-45C0-4E4A-90AC-6317D187C9A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, arbitration awards are now enforceable in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surance to cover transactions can eliminate man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se of PayPal or credit card 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AAC99FA-24D7-4FF9-9AEB-375936ED717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dispute involves interests in more than one country, appropriate jurisdiction must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ight of court to hear case may be challenged by application for order of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forum non conveni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d choice of law or jurisdiction can be overru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1618EAA-6C3A-44E7-AB6C-DA6FEA55A5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4F8B892-DC33-4716-8CF6-FCDB570BF3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jurisdictions are passing legislation to apply “territorial competence” test to determine court jurisdi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s Supreme Court of Canada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implifies process of determining when local court has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override contrac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9FBF587-C3AC-4E29-9A03-F653A0C2849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.C. courts have territorial competence or jurisdiction where there is close connection between province and case facts or where one of three conditions is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agreed court will have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submitted to that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is ordinarily resident in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4E3FC4B-5C06-4ECE-B804-E60D186D03E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difficult to enforce judgment in another jurisdiction (where losing party has as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by court in one jurisdiction is effective in another jurisdiction only if court there adopt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 problem with foreign jurisdictions, especiall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7554DAB-82E3-49D0-A787-1A8B98C704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conventions provide for reciprocating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 reciprocating enforcement agreement, person wanting to enforce order must sue on the judgment in the other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cess can be long, complicated,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easier to enforce arbitration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54E6BBA-4667-44FC-BE7B-65A20FB7EF2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defences may be raised to prevent enforcement of foreign judgment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blem wit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ces i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in other jurisdictions are often more likely to enforce arbitration aw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D828CDE-C04C-421D-B527-DC689F9D9B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a is party to many international treaties and conventions affecting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treaties encourage free trade  by reducing or eliminating tariffs and du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 business transactions affected by international treaties, professional advice is recomm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11F01B8-3956-49EA-AA0A-0377144FAD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facilitates business, education, entertainment, and soci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business transactions usually involve third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eBay, PayPal, IS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rmal civil and criminal laws and regulations apply to online transactions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5B688A6-D841-4517-AF12-688F6FA925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 (General Agreement on Tariffs and T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to promote fair trade, encourage balanced competition and prohibit or control abusive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duced 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balance trad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prevent d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2773AD8-B162-439E-A243-30634BD08E9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favoured nation status” required members grant all other members lowest tariffs charged on similar goods from any 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quired imported goods from member nations be treated same as domestic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0B80C53-8B51-47D4-A169-101F9D1BDA7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(World Trade Organ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GATT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a dispute re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services and intellectual property (as well as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w has 153 memb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549BB3A-B312-4D0C-B204-89691D03CD4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ent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FTA (North American Free Trade Agre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motes easier trade between Canada, the United States, and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WTO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duties and tariffs reduced or eli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environmental protection provisions,  labour standards, and dispute resolu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vement to include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EB894CE-D133-498B-B4DD-57A78796F0C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a imposes few restrictions on 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ols relate mainly to security, money laundering, and tax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xport and Import Permits Ac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s federal government to restrict certain exports to specific nations (and require per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6F2FF57-4735-4AD0-ACF5-914E910BAFE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tatutes regulate specific goods and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government provides support to exporter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d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ort Development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6BF2DAA-1040-433A-83C7-667D7AE9C98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s to Canada regulated primarily through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ustom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Border Services Agency (CBSA) enforces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Special Import Measure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Excis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809D02F-38F8-4EA1-BB87-B2EE5DA8B4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s from certai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 of dangerous, hazardous, and environmentally sensitiv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es that import need to determine duties and permits required for specific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489B4A9-03F4-4F5A-AD91-EA7465DA3B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territorial Re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foreign governments attempt to apply their regulations beyond their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 Patriot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 legislation designed to punish those from other countries doing business with Cu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retaliatory legislation generally ineff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F1A9ECA-4A95-449F-8920-1BFB3BBA700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jor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termining appropriat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ws in place are not readily ada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s have been reluctant to introduce regulation and control, but this is now ch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51F4762-F972-4C29-A056-06E945B6F5B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does not recognize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rd to determine which laws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re action should be br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gulations could limit freedom of expression, movement, or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ine transactions raise tax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08A89CA-F9AB-4773-97AE-023FB28D3E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a particular location can exercise jurisdiction if defendant is a resident there or if action underlying the complaint took place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ng-arm statutes may allow jurisdiction even when no resident i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sued where not even aware of the la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3848873-8FFF-4449-86A5-9AB2A1AE78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tter approach: Allow judicial action only where there is a close connection between the jurisdiction and the act complain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elp to state in contract which jurisdiction governs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offer or service should state limitations of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09C5806-C2BC-441B-84B5-FD486D9A75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tario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nsumer Protec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vides rights for anyone located in the province at tim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judgments may be hard to enforce, but it’s dangerous to ignore them as judgments can be enforced in other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2:43Z</dcterms:created>
  <dc:creator>Client Name</dc:creator>
  <dc:description/>
  <dc:language>en-US</dc:language>
  <cp:lastModifiedBy>User</cp:lastModifiedBy>
  <dcterms:modified xsi:type="dcterms:W3CDTF">2012-04-24T16:52:20Z</dcterms:modified>
  <cp:revision>202</cp:revision>
  <dc:subject/>
  <dc:title>Slide 1</dc:title>
</cp:coreProperties>
</file>