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E420-74BE-4BFE-BBCE-A40B64599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00EB-A4DC-4FFE-A4C2-3C7E667FDA57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7F49-7321-43F6-8C63-D378FAF3B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A8FCA-2F30-4F70-A3A7-0A927AECC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9D26C-AFF6-4E78-9CBC-DBFF26FF0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0067-78C4-4045-9F32-047019D3D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9F503-884F-48A0-8FA4-6B0C3F043A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DAC74-9333-4BAC-AAB5-3F5EB4811C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C31B7-2FBF-4503-A7F4-3786E5F749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B0DA5-2AD6-4A4C-93BD-85FDF8B171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FDCFC-2F1D-43AC-B2C1-7951429EB5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11CC9-CD26-4D30-B56E-9E233E1A8B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F701A-29EB-4584-A7BB-7A4B709680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3468-A0CD-4B35-AB98-6595A20C3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CA553-083E-4A1D-8C87-77768CEDEC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E2DEF-CD94-46AC-874F-5EC9403602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5105B-A1C9-4F9A-9697-FC082723E9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41C13-D52E-4351-8C7A-2C866D4206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E875A-DC79-4C8A-9C9C-2713EC6318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5A3B-1458-4FA1-A4F3-C75FE383F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0D8A5-7491-440A-9AC2-68231D180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BD85F-230D-4476-91E0-A6B8E5326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35B8-8BCD-4ACD-9268-04B0BC50A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B9075-F94F-474F-964F-76E9A24AD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BC96F-4926-4278-B1F3-C44A7E0AC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F531-B55B-4B63-845F-D4AA41739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8C31431-D004-4D22-8969-B6A74C4C237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0E83FBF-7606-4798-81EB-DA7AA2A278F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4C0C503-DCA6-4EA1-BC58-3B0FC19449A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rce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124706A-A26B-44E3-A230-8577A11FA1B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Transactions Over 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main name is unique address, leading to many 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anies in different locations want sam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ybersquatter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rbitration processes exist to deal with  domain name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04FC0BF-D132-45FC-84AF-67B60E8FD53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Transactions Over Internet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dies responsible for registration of domain names (e.g., Canadian Internet Registration Authority) set policy for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 Canadian domain names, bodies like British Columbia International Commercial Arbitration Centre and Resolution Canada Inc. offer arbitr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orld Intellectual Property Organization (WIPO) is largest arbitration service in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D4EE09F2-CC26-4712-A5ED-1722B10B996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famation is most common internet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despread distribution and uncertain jurisdiction make internet cases u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erson and employer may be l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SP may be liable if it fails to remove or block offending messages when required by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A8573AEA-FB7B-43A0-8BFC-DE0F33C85E8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 status of internet transactions determined by contract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ritten copies of online transactions can be al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cularly a problem where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atute of Fraud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requires written, signed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A9A275E-1E23-4236-9A1B-E26D94DCF69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- Consen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vinces enacted statutes based on the 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Uniform Electronic Commerce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(UECA) guidelines to recognize electronic documents and sign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tisfy legal requirements for written, signed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fferences among provi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apply to all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E509EFB7-10BB-48C8-BC48-66B0C1995B3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Consensu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siness may state that law of a specified jurisdiction will apply to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licking “I accept” creates consen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fer accepted and contract formed when and where offeror learns of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ssage sent when “Send” is h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ssage received when it arrives on recipient’s computer (even if never re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B898FEB-3391-4AE9-9EAC-D48EDA4C04B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fficult to know if other party has capacity to enter into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need more information than simply what appears on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government has guidelines for development, implementation, and use of authentication products and services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01538FBB-9A13-4D1C-9CAE-AC1CB205474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Leg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llegal activities are widespread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les of Goods Acts and consumer protection legislation theoretically apply, but fraudulent scams are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avoid rules in specific jurisdictions by moving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ictims of scams may have little recourse when perpetrator is in anothe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21B4F48-5BEA-41A1-92E2-E6DA4703050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Pay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ine payment difficult to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rvices like PayPal may help customer get what was paid for or provide remedy in a disp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n foolproof methods may be overcome by scam art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DDB9B943-B76E-46F7-9680-E638B642F6E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Jurisdi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ity varies by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o convince court that it has jurisdiction, plaintiff must show defendant was targeting the location where plaintiff re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may determine matter is not closely enough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should specify what law applies and what court has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6B792A15-B0DB-4609-8DBA-CEA946A98EC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nature of electronic commerce and its impact on business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jurisdictional issues that complicate online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specific kinds of tortious conduct that are pervasive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concerns electronic and global business transactions have i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023F31E6-55BD-4E25-9171-B8C50D1490C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e Dispute Resol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blems can be avoided by including arbitration 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is a valuable tool for ecommerce disp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sumer protection legislation may make terms for mandatory arbitration inva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organizations facilitate arbitration of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60C91775-B1A4-424F-9850-1D1D22B809C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ng the Interne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ttle effective regulation of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still no anti-spam legi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interested in regulation of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ssue of privacy arises if government demands access to certain business rec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7D0177E-A2FA-4520-A43B-05A14160CF6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international court to litigate private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ational dispute resolution mechanisms only address disputes between sovereign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International Court of Justice (ICJ) and World Trade Organization (W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79874857-B923-4350-82DA-7FA7344D69C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s of international business –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rt and export of goods (most comm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ion of 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vision and acquisition of services (e.g., call cent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291B850-2EF1-42DB-B767-2C9C8367BA5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ations for international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perly-prepared contracts are v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es must comply with government regulations in both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eps must be taken to ensure efficient, cost-effective, and favourable resolution of dispute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D8D3F8FA-1B90-4039-933B-99CB343A784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Know who you are contracting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quire services of professional specializing in law of jurisdiction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cognize certain terms in a contract may be invalid in a specific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0F2B8FD-2889-4608-89D2-D20C606E173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should spec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obligations and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related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 mechanism (other than the cour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w that will a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 that will have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financial report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14C3F5C-8A5C-46CE-9DFB-BD6A9489A6F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eign ownership is likely to involve in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eign ownership may be restricted, creating need for contractual relationships with local res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creases risk and co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pplementary standard form contracts may be required, depending on nature of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bills of lading, letters of credit,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FD6FF8E-47D0-45FF-8B89-9EBD7151097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clause can avoid l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disputes be resolved by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pecifies the process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be overridden by local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ternate dispute resolution useful du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ck of court with international jurisdiction over private disp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certainty and risks of court in foreign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E1D1D65-89F6-4FE1-9042-B52AC8C9C4F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of negotiation, mediation, and arbitration increasing intern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gotiation and mediation are valu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rbitration is particularly appropriate - Can specify in contract who will arbitrate and what process will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CA9A7EAF-975F-44D3-B2A3-AF1989D51CC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difficulties in engaging in international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contractual problems are best resolved in the global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how international commerce is reg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jurisdictional issues and enforcement of judicial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FAFA2E0-EF61-47E8-9049-B5D38A1C41F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dvantages of arbitration – reduction of risk, respecting mutual obligations and rights, and minima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advantages of arbitration – can be difficult to enforce (but less so n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60CACCF-511C-49CE-A9CE-815F5703047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, arbitration awards are now enforceable in cou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surance to cover transactions can eliminate man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use of PayPal or credit card for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3B39E1A-8B84-404F-A6B9-A034FC0A5BC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dispute involves interests in more than one country, appropriate jurisdiction must be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ight of court to hear case may be challenged by application for order of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forum non conveni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ed choice of law or jurisdiction can be overru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9252959-B382-404C-B9A5-F56550E0C10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9E98366-827E-439E-904E-F767D78B87D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jurisdictions are passing legislation to apply “territorial competence” test to determine court jurisdic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llows Supreme Court of Canada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implifies process of determining when local court has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override contract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DF8F8EDF-EDCA-4539-9B32-852C7C28B56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.C. courts have territorial competence or jurisdiction where there is close connection between province and case facts or where one of three conditions is 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has agreed court will have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has submitted to that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is ordinarily resident in 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E63C134-5D20-4243-928C-A13B4D81A0B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difficult to enforce judgment in another jurisdiction (where losing party has ass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rder by court in one jurisdiction is effective in another jurisdiction only if court there adopt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a problem with foreign jurisdictions, especially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1599FEA-A03D-4DD6-AE19-17B7AEB7DB9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conventions provide for reciprocating e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no reciprocating enforcement agreement, person wanting to enforce order must sue on the judgment in the other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cess can be long, complicated,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easier to enforce arbitration a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6A792751-D370-40FA-A465-91729C8FA19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defences may be raised to prevent enforcement of foreign judgments –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blem with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fferences i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in other jurisdictions are often more likely to enforce arbitration aw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5CC126D-413E-4B0B-AB79-A74EEABAA523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a is party to many international treaties and conventions affecting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ational treaties encourage free trade  by reducing or eliminating tariffs and du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 business transactions affected by international treaties, professional advice is recomm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82CF472-8924-4517-96F5-BC3FEC64FC5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and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facilitates business, education, entertainment, and social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business transactions usually involve third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eBay, PayPal, IS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rmal civil and criminal laws and regulations apply to online transactions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1E0F7B1-C152-4100-98FC-F2D92DD38E2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ATT (General Agreement on Tariffs and T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reement to promote fair trade, encourage balanced competition and prohibit or control abusive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duced trad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ied to balance trad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ied to prevent dum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A709E54A-F527-4BD5-99B8-C7314AA3447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A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favoured nation status” required members grant all other members lowest tariffs charged on similar goods from any 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quired imported goods from member nations be treated same as domestic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42A298A-EF09-4961-A1D4-66E7E38C86B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TO (World Trade Organiz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ands on GATT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a dispute resolu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services and intellectual property (as well as go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w has 153 memb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AFB8D810-9564-4D96-B7D1-6567C508557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ental Tre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AFTA (North American Free Trade Agre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motes easier trade between Canada, the United States, and 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ands on WTO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st duties and tariffs reduced or eli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environmental protection provisions,  labour standards, and dispute resolu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vement to include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07219208-EB5E-462F-A8FD-537106FFF1E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o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a imposes few restrictions on 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rols relate mainly to security, money laundering, and tax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Export and Import Permits Act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allows federal government to restrict certain exports to specific nations (and require perm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EB1156F-B650-424B-8A4C-D3AFB115C02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statutes regulate specific goods and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ian government provides support to exporters –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ad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port Development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403E616-6D65-4A38-B287-0D4AFF50270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rts to Canada regulated primarily through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ustom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ian Border Services Agency (CBSA) enforces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Special Import Measures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Excise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1954376-A0C1-464B-A52E-2BFE13E5A07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ons on imports from certai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ons on import of dangerous, hazardous, and environmentally sensitive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sinesses that import need to determine duties and permits required for specific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3F7FF6D6-6FCF-4187-87A3-CC0E898C8F1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traterritorial Reac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foreign governments attempt to apply their regulations beyond their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U.S.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 Patriot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U.S. legislation designed to punish those from other countries doing business with Cu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retaliatory legislation generally ineffe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DEED4A0-716C-450C-91D0-BCF61E0E449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and the Interne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jor difficu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termining appropriate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ws in place are not readily adap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s have been reluctant to introduce regulation and control, but this is now chang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15454D0-B66D-4A63-B3B8-A13EB5D75AB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does not recognize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rd to determine which laws a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etermine where action should be bro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gulations could limit freedom of expression, movement, or a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ine transactions raise tax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BD836BB-F4DA-4539-A674-EEAEE7C73C7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enerally, a particular location can exercise jurisdiction if defendant is a resident there or if action underlying the complaint took place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ng-arm statutes may allow jurisdiction even when no resident is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be sued where not even aware of the la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CAA353B-A9D0-4131-A5F1-0313F9CBE60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etter approach: Allow judicial action only where there is a close connection between the jurisdiction and the act complaine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help to state in contract which jurisdiction governs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ine offer or service should state limitations of 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89E4859-A839-4B0A-810D-E969C59F871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tario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nsumer Protection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vides rights for anyone located in the province at tim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ign judgments may be hard to enforce, but it’s dangerous to ignore them as judgments can be enforced in other juris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2:43Z</dcterms:created>
  <dc:creator>Client Name</dc:creator>
  <dc:description/>
  <dc:language>en-US</dc:language>
  <cp:lastModifiedBy>User</cp:lastModifiedBy>
  <dcterms:modified xsi:type="dcterms:W3CDTF">2012-04-24T16:52:20Z</dcterms:modified>
  <cp:revision>202</cp:revision>
  <dc:subject/>
  <dc:title>Slide 1</dc:title>
</cp:coreProperties>
</file>