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0861-CC6A-4867-BA90-81159AAB0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21FB-A4B7-4B5D-9BFE-A3DF73C17D72}" type="slidenum">
              <a:rPr b="0" lang="en-US" sz="1200" spc="-1" strike="noStrike">
                <a:solidFill>
                  <a:srgbClr val="33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06271-8F3D-49F7-A575-CDF49AFAE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FFD3-F5BE-48F7-AEFF-4CCE07D56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B31E-5C2B-4107-923A-8130DD921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BB8D-164A-4F89-8072-B74278E8D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C533B-28E3-4195-9306-15E32ADBDB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8A745-27B1-44E0-8F1A-8FA128333A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1434A-91D7-40C6-9F29-05DFFD7C26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7AF23-547E-4D50-8358-47E1CFF004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D97AF-3EDC-413D-8C54-BEFCCBD02D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FBCA2-47EC-49DE-B734-8797F7CEBF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FCB8F-3A6C-40B5-B812-4EC944C64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91BDB-6C49-43F8-9EA2-D6D5570F1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436C7-64EB-4FF0-AE2B-1126BE9AE1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3A706-5176-407A-86B2-AA1BD73E07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B413D-637B-49D7-B8E7-CC634C6BF2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60A61-726D-422F-85F8-B276B58F45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A19C2-54DE-4889-BD6F-46F552FD26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0856F-DF80-49DE-9F16-950094BAB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8A9F8-0B24-4C2A-B0BB-4E4EBC555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F63C-3C9E-4CC4-AA31-BBD214B86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916F-67B0-4A7F-A630-1B9B50E49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520C-9BD0-4EEF-9424-F3194D545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BB7F-A588-49A1-8D3E-EA5B515FA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66428-B082-4515-A378-A7E276ADF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4B7B4CE-EDAC-4E8C-B8F8-FA18B222508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Pearson_WebBar_Top_Blue_RGB"/>
          <p:cNvPicPr/>
          <p:nvPr/>
        </p:nvPicPr>
        <p:blipFill>
          <a:blip r:embed="rId2"/>
          <a:stretch/>
        </p:blipFill>
        <p:spPr>
          <a:xfrm>
            <a:off x="0" y="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76320" y="6552720"/>
            <a:ext cx="266688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(c) 2013 Pearson Canada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15292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F33F261-4FF2-4538-B4E8-39F83B02C7E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F1D92FF-B271-4462-B1A0-5B191EC064F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2600" y="2590560"/>
            <a:ext cx="3354120" cy="33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on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rce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01720" y="457200"/>
            <a:ext cx="7542360" cy="17524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99920" y="5331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gal Fundamenta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Canadian Business </a:t>
            </a:r>
            <a:br>
              <a:rPr sz="40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37160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50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84360" y="598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080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98" name="Picture 11" descr="yates_LegalFund_CRV.jpg"/>
          <p:cNvPicPr/>
          <p:nvPr/>
        </p:nvPicPr>
        <p:blipFill>
          <a:blip r:embed="rId1"/>
          <a:stretch/>
        </p:blipFill>
        <p:spPr>
          <a:xfrm>
            <a:off x="5029200" y="236232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FA7F524-A54C-4B3C-B9EC-F4DB0979600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main name is unique address, leading to many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mpanies in different locations want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ybersquatter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rbitration processes exist to deal with  domain name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C401F24-7818-453D-890D-AC184F58EAC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siness Transactions Over Internet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dies responsible for registration of domain names (e.g., Canadian Internet Registration Authority) set policy for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 Canadian domain names, bodies like British Columbia International Commercial Arbitration Centre and Resolution Canada Inc. offer arbitr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rld Intellectual Property Organization (WIPO) is largest arbitration service in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C9F9051-3ADA-4768-8E27-3B70B505B2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amation is most common internet t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despread distribution and uncertain jurisdiction make internet cases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erson and employer may be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SP may be liable if it fails to remove or block offending messages when required by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51C47BE-9414-42AA-A1F3-9F16D5CC24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 status of internet transactions determined by contract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ritten copies of online transactions can be al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cularly a problem where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Statute of Fraud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requires written, signed con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EC36086-382C-4CBF-8B7A-DA3A18F2F20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- Consen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vinces enacted statutes based on the federal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Uniform Electronic Commerce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(UECA) guidelines to recognize electronic documents and sign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tisfy legal requirements for written, signed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fferences among provi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oes not apply to all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3279682-80BD-4D36-A7AF-B1E9BC88F5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onsensu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usiness may state that law of a specified jurisdiction will apply to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licking “I accept” creates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fer accepted and contract formed when and where offeror learns of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sent when “Send” is h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essage received when it arrives on recipient’s computer (even if never 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F910A27-C5BE-409E-8ED4-BA248215216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Capa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ifficult to know if other party has capacity to enter into con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need more information than simply what appears on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ederal government has guidelines for development, implementation, and use of authentication products and services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2F00F47-DD77-47B2-BE59-A25238D8A09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Leg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llegal activities are widespread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ales of Goods Acts and consumer protection legislation theoretically apply, but fraudulent scams are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avoid rules in specific jurisdictions by moving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ictims of scams may have little recourse when perpetrator is in an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81DF6F9-45EA-4AA7-8802-CC919B99457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Pay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payment difficult to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ervices like PayPal may help customer get what was paid for or provide remedy in a disp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ven foolproof methods may be overcome by scam art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D274B6A-2D87-4228-B690-56DF74D7D2F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ine Contracts –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gality varies by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o convince court that it has jurisdiction, plaintiff must show defendant was targeting the location where plaintiff re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may determine matter is not closely enough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rties should specify what law applies and what court has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7C52010-2A1C-4418-8AB4-D7D6B6B2747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nature of electronic commerce and its impact on business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the jurisdictional issues that complicate online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gnize specific kinds of tortious conduct that are pervasive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cerns electronic and global business transactions have in com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4418846-A0B8-48BB-93AB-2C6E2743F37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e Dispute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blems can be avoided by including arbitration cl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is a valuable tool for ecommerce dispu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sumer protection legislation may make terms for mandatory arbitration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organizations facilitate arbitration of disp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700DF80-F862-42DE-909A-09A49006F9A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ing the Interne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ittle effective regulation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still no anti-spam legi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 interested in regulation of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ssue of privacy arises if government demands access to certain business reco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11A31B2-8A1E-4B9C-81E5-215130A3133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 international court to litigate private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dispute resolution mechanisms only address disputes between sovereign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International Court of Justice (ICJ) and World Trade Organization (W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8E7AA7C2-D6D0-40D6-AEFC-9444DEBF621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s of international business – 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 and export of goods (most comm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tec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vision and acquisition of services (e.g., call cent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632FD39-7409-4741-BC80-F91BC857D9B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Business Transactions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siderations for international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perly-prepared contracts are v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ies must comply with government regulations in both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eps must be taken to ensure efficient, cost-effective, and favourable resolution of dispute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6970167-872E-486C-89FC-E06F6EA7021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Know who you are contracting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quire services of professional specializing in law of jurisdict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ecognize certain terms in a contract may be invalid in a specific jurisd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EA7C09C-401C-4E0D-B890-EEF95D4408B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ntract should spec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l obligations and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related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pute mechanism (other than the cou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w that will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 that will hav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ny financial reporting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DDC17C3-CB45-4EB7-AAA4-5BE60A6ED30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eign ownership is likely to involve in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reign ownership may be restricted, creating need for contractual relationships with local resi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ncreases risk and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lementary standard form contracts may be required, depending on nature of 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bills of lading, letters of credit,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9270F953-C257-45BF-8D8C-BB1261445B2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rbitration clause can avoid l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quires disputes be resolved by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pecifies the proces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be overridden by loc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ternate dispute resolution useful du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ack of court with international jurisdiction over private disp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certainty and risks of court in foreign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0E3F3E98-1F55-4298-9369-EC6F827A243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negotiation, mediation, and arbitration increasing intern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gotiation and mediation are valu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rbitration is particularly appropriate - Can specify in contract who will arbitrate and what process will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3EFFFF6-F743-4551-BB42-E5C3228033C9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rning Objectiv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difficulties in engaging in international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contractual problems are best resolved in the glob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ne how international commerce is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jurisdictional issues and enforcement of judicial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A39960B6-4456-4112-990B-3DB2AFF08C9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vantages of arbitration – reduction of risk, respecting mutual obligations and rights, and minimal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advantages of arbitration – can be difficult to enforce (but less so n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5D0CA51-531B-4B35-953E-99DD59638035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pute Resolu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lternate dispute resolution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ually, arbitration awards are now enforceable in cou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surance to cover transactions can eliminate man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.g., use of PayPal or credit card 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E5554D5-119D-4BAC-A468-7D09E866641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en dispute involves interests in more than one country, appropriate jurisdiction must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ight of court to hear case may be challenged by application for order of 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forum non conveni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ted choice of law or jurisdiction can be overr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0C4243D-B5A7-4F8E-AECA-BA3A705E90BE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5C5E313-9536-4C84-A4BE-4ECC0C5674E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jurisdictions are passing legislation to apply “territorial competence” test to determine court jurisdic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ollows Supreme Court of Canada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implifies process of determining when local court has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an override contract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EED0F83-9225-4CBB-AF73-F8F1226B2A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urt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.C. courts have territorial competence or jurisdiction where there is close connection between province and case facts or where one of three conditions is 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agreed court will have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has submitted to that juris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fendant is ordinarily resident in B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81F7A5F-46DE-47AE-8682-56852F87F39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y be difficult to enforce judgment in another jurisdiction (where losing party has ass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rder by court in one jurisdiction is effective in another jurisdiction only if court there adopt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a problem with foreign jurisdictions, especiall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D0F0743-91C1-4F34-A04F-DE9965637BE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me conventions provide for reciprocating 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f no reciprocating enforcement agreement, person wanting to enforce order must sue on the judgment in the other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cess can be long, complicated,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ten easier to enforce arbitration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480BB96-EB5B-47FD-BBE4-3406509E8C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igation and Jurisdi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f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defences may be raised to prevent enforcement of foreign judgment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oblem wit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fferences i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urts in other jurisdictions are often more likely to enforce arbitration aw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6696994-0B69-4F7F-999D-1474D7E57387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a is party to many international treaties and conventions affecting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ational treaties encourage free trade  by reducing or eliminating tariffs and du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 business transactions affected by international treaties, professional advice is recomm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B90058D4-ABD7-48C1-9299-0DA6EA049FDF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facilitates business, education, entertainment, and social inte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business transactions usually involve third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eBay, PayPal, IS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rmal civil and criminal laws and regulations apply to online transactions an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FFB6652-9870-4B08-BD0E-CA6B7247BFD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 (General Agreement on Tariffs and T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reement to promote fair trade, encourage balanced competition and prohibit or control abusive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duce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balance trade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ied to prevent d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2083980-F656-40F4-8E8A-AFA05EF9872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st favoured nation status” required members grant all other members lowest tariffs charged on similar goods from any 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quired imported goods from member nations be treated same as domestic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151C8B24-A73E-470E-A278-0E81F1175A0D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TO (World Trade Organ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GATT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a dispute resol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services and intellectual property (as well as goo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ow has 153 memb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B9EDB08-C746-44BC-B72D-277197BA28E4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ental Tre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AFTA (North American Free Trade Agre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romotes easier trade between Canada, the United States, and 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xpands on WTO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ost duties and tariffs reduced or eli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cludes environmental protection provisions,  labour standards, and dispute resolu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vement to include other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C47523A9-0196-45AB-B7AB-C5C414AF4DE1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a imposes few restrictions on 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ntrols relate mainly to security, money laundering, and tax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Export and Import Permits A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llows federal government to restrict certain exports to specific nations (and require per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528AFBBD-AD71-4C8A-AF97-2DF7E3EF5EB2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x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statutes regulate specific goods and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government provides support to exporters –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ade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port Developmen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2A31894C-34AA-4023-86DE-48523E9C290A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mports to Canada regulated primarily through 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Custom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adian Border Services Agency (CBSA) enforces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Special Import Measure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Excise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F9C3E9C7-8DE8-4773-8217-66D992026B3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adian Regulation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s from certai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trictions on import of dangerous, hazardous, and environmentally sensitive go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sinesses that import need to determine duties and permits required for specific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F2920EA-0BD6-49C7-8734-CD038DB376CC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Extraterritorial Reac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me foreign governments attempt to apply their regulations beyond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</a:t>
            </a: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 Patriot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.g., U.S. legislation designed to punish those from other countries doing business with Cu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anadian retaliatory legislation generally ineffec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4B2C3160-3557-45C8-B89C-C1827C392008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and the Internet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jor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termining appropriate jurisd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ws in place are not readily ada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overnments have been reluctant to introduce regulation and control, but this is now chan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390DCF0E-8342-47BD-ADC6-F2A50CE634C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nternet does not recognize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Hard to determine which laws a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ust determine where action should be brou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ions could limit freedom of expression, movement, or a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nline transactions raise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78EC6667-3768-4DEF-B88A-CB047A96FA8B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enerally, a particular location can exercise jurisdiction if defendant is a resident there or if action underlying the complaint took p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ong-arm statutes may allow jurisdiction even when no resident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an be sued where not even aware of the la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DABEF339-0112-4D70-BE4C-0B83E89F5506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etter approach: Allow judicial action only where there is a close connection between the jurisdiction and the act complaine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y help to state in contract which jurisdiction governs the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line offer or service should state limitations of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76320" y="6553080"/>
            <a:ext cx="26668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opyright © 2013 Pearson Canada Inc.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153280" y="6553080"/>
            <a:ext cx="685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10 - </a:t>
            </a:r>
            <a:fld id="{674073D5-3BEC-447F-B258-27213D73FD70}" type="slidenum"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76320">
            <a:solidFill>
              <a:srgbClr val="33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br>
              <a:rPr sz="44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ntario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Consumer Protection Ac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provides rights for anyone located in the province at tim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oreign judgments may be hard to enforce, but it’s dangerous to ignore them as judgments can be enforced in other juris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1T04:52:43Z</dcterms:created>
  <dc:creator>Client Name</dc:creator>
  <dc:description/>
  <dc:language>en-US</dc:language>
  <cp:lastModifiedBy>User</cp:lastModifiedBy>
  <dcterms:modified xsi:type="dcterms:W3CDTF">2012-04-24T16:52:20Z</dcterms:modified>
  <cp:revision>202</cp:revision>
  <dc:subject/>
  <dc:title>Slide 1</dc:title>
</cp:coreProperties>
</file>