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C3FF-761F-41C5-8A09-A73E0D523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B019-C244-4F99-9940-539D33BAC4DD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3591D-84B3-4B2E-9032-BF363F5D7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1ECA1-03C1-4DB2-8948-878F81837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7DF18-CA28-4277-BAF3-206268192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0B335-FFB8-41D1-BF35-A400E82B3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21E43-D3F4-4D11-912C-9600412513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0D2AB-3BD6-4FC8-BF20-B00667F469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9F062-9FAB-4F82-B24D-570A5FF8AA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A7FF4-0CBE-46C6-8363-F9449F66F6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A4C64-D265-4C52-AC04-DE0A3443B0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B7A07-8C14-4B87-858C-965B3AD1AE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B3BDA-A062-439A-A5B1-F3CE26911D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502FA-7524-4FFC-8A9A-6A89B62EF9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EA1AF-9089-4B94-9571-278712CB18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1A6FC-C5D2-4FF9-AA4D-78B0609F43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53B8E-2167-4F47-81FF-4CA8BFE931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D51A5-FD24-4BD4-AB1F-66ADFB546E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6C7ED-B12D-4094-BC7B-558D67655B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33229-2475-4243-AD46-6BB3DF070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AF5BF-3362-4548-9831-43FCDD31D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53BE9-4525-4E67-B9E9-212A5D135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C2B9E-FA5A-4697-B613-E0D1299FD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4FA24-59B0-4BCE-A541-B95BCB81E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254E7-439A-4DFB-9C42-2FFA938563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0CD82-92A5-4383-839C-8B9A5728B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8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95A8BFF8-7863-4C08-A5E2-F0DF7C02CFC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8A85213C-88D2-45B9-87A6-EEE53CEBF97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C7782AD8-520B-4390-BC7E-0AFCB2D9910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ectron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erce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nation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98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8AA07A58-1BDB-47A7-B349-895575D838E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siness Transactions Over Inter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main name is unique address, leading to many confli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panies in different locations want same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ybersquatter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rbitration processes exist to deal with  domain name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E2A548CD-6FB8-430E-AC40-DD6577854CF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siness Transactions Over Internet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rbitration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odies responsible for registration of domain names (e.g., Canadian Internet Registration Authority) set policy for arbi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or Canadian domain names, bodies like British Columbia International Commercial Arbitration Centre and Resolution Canada Inc. offer arbitratio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orld Intellectual Property Organization (WIPO) is largest arbitration service in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100EB4A2-4310-49B5-AC19-15F7E3BA9E7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famation is most common internet t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despread distribution and uncertain jurisdiction make internet cases u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erson and employer may be l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SP may be liable if it fails to remove or block offending messages when required by co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55F358C0-C924-4555-8752-1743D654654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gal status of internet transactions determined by contract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ritten copies of online transactions can be al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icularly a problem where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Statute of Fraud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requires written, signed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170A940C-B1EA-4692-997A-2E837D4C35D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- Consen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vinces enacted statutes based on the federal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Uniform Electronic Commerce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(UECA) guidelines to recognize electronic documents and sign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atisfy legal requirements for written, signed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fferences among provi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es not apply to all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7D6C7413-26BA-48FB-A061-BAE97CCAAC1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– Consensu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usiness may state that law of a specified jurisdiction will apply to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licking “I accept” creates consens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fer accepted and contract formed when and where offeror learns of 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essage sent when “Send” is h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essage received when it arrives on recipient’s computer (even if never re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1C5A7A43-7433-4B20-A473-277EAEFA500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– Capa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ifficult to know if other party has capacity to enter into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rties need more information than simply what appears on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government has guidelines for development, implementation, and use of authentication products and services in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359FD87B-9B6D-4450-A3AD-BE4FEC8DA53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– Leg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llegal activities are widespread on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ales of Goods Acts and consumer protection legislation theoretically apply, but fraudulent scams are 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avoid rules in specific jurisdictions by moving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Victims of scams may have little recourse when perpetrator is in another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BA299867-0D1B-4FA6-A59E-E2031F4B162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– Paym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ine payment difficult to 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ervices like PayPal may help customer get what was paid for or provide remedy in a disp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ven foolproof methods may be overcome by scam art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4347FF11-E721-4884-842E-6A167398D34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– Jurisdic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gality varies by juris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o convince court that it has jurisdiction, plaintiff must show defendant was targeting the location where plaintiff re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rts may determine matter is not closely enough 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rties should specify what law applies and what court has juris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56A8ED88-B3B7-4E4D-A9CC-469599813BE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nature of electronic commerce and its impact on business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the jurisdictional issues that complicate online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gnize specific kinds of tortious conduct that are pervasive on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concerns electronic and global business transactions have in 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F3E00CEE-F69C-49ED-93AD-F1C4254D71E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e Dispute Resol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blems can be avoided by including arbitration 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rbitration is a valuable tool for ecommerce dispu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sumer protection legislation may make terms for mandatory arbitration inval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organizations facilitate arbitration of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9A6405D5-CB45-48F7-ADBA-18416CFB7AE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ng the Interne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ttle effective regulation of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still no anti-spam legi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overnment interested in regulation of ta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ssue of privacy arises if government demands access to certain business reco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C07E69F0-0352-4B9A-BA8C-26E48BCDCBA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national Business Transac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 international court to litigate private ma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ational dispute resolution mechanisms only address disputes between sovereign 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International Court of Justice (ICJ) and World Trade Organization (W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A3FBC8CF-2D8E-4D59-B749-D5368F7BD97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national Business Transactions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s of international business – 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mport and export of goods (most comm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tection of intellectual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vision and acquisition of services (e.g., call cent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FB873349-354A-4479-8DF2-DAD4EB0BAD5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national Business Transactions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siderations for international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perly-prepared contracts are vi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ies must comply with government regulations in both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eps must be taken to ensure efficient, cost-effective, and favourable resolution of disputes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5E8A80D6-A236-47A1-9039-5F7AB5EE73E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Know who you are contracting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quire services of professional specializing in law of jurisdiction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cognize certain terms in a contract may be invalid in a specific juris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96D389D1-B697-4E01-AF53-624816B5FF7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should spec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l obligations and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related 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spute mechanism (other than the cour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w that will a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rt that will have juris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financial reporting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09924FE0-6A15-4504-B105-A9A69B927C2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eign ownership is likely to involve in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oreign ownership may be restricted, creating need for contractual relationships with local resi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creases risk and com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upplementary standard form contracts may be required, depending on nature of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, bills of lading, letters of credit, in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5FA71788-35B9-4824-84C1-0CF893F9E6D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ute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rbitration clause can avoid lit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quires disputes be resolved by arbi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pecifies the process an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n be overridden by local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ternate dispute resolution useful du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ack of court with international jurisdiction over private disp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ncertainty and risks of court in foreign juris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47A01E06-2FB2-4BE0-A085-97FA9B84E63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ute Resolu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ternate dispute resolution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e of negotiation, mediation, and arbitration increasing internati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gotiation and mediation are valu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rbitration is particularly appropriate - Can specify in contract who will arbitrate and what process will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4F131B7A-C2A4-4789-B64B-F5C2B60F330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difficulties in engaging in international con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how contractual problems are best resolved in the global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how international commerce is regu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jurisdictional issues and enforcement of judicial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0DBE0A88-69CB-476B-A987-42E3017B0FE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ute Resolu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ternate dispute resolution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dvantages of arbitration – reduction of risk, respecting mutual obligations and rights, and minimal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sadvantages of arbitration – can be difficult to enforce (but less so n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EE776701-5606-444C-B172-AD8B318BF14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ute Resolu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ternate dispute resolution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, arbitration awards are now enforceable in cou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surance to cover transactions can eliminate man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, use of PayPal or credit card for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71062770-D051-4018-AE6D-06E004F4CAC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n dispute involves interests in more than one country, appropriate jurisdiction must be determ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ight of court to hear case may be challenged by application for order of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forum non conveni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ed choice of law or jurisdiction can be overru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AE49ADD1-3C7A-445E-AD53-900A547FD50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15328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53857DF3-C025-4450-B268-0780ADA8A17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urt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jurisdictions are passing legislation to apply “territorial competence” test to determine court jurisdic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ollows Supreme Court of Canada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implifies process of determining when local court has juris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n override contract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83F1D8BB-89D2-4E5E-AEF0-5B2CEEB11B6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urt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.C. courts have territorial competence or jurisdiction where there is close connection between province and case facts or where one of three conditions is 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fendant has agreed court will have juris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fendant has submitted to that juris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fendant is ordinarily resident in B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A218994F-0DEE-48B0-836D-AF019DDEA94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difficult to enforce judgment in another jurisdiction (where losing party has asse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rder by court in one jurisdiction is effective in another jurisdiction only if court there adopts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ten a problem with foreign jurisdictions, especially developing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C1A522BE-620F-49FC-B6B4-95718A98B94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conventions provide for reciprocating enfor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no reciprocating enforcement agreement, person wanting to enforce order must sue on the judgment in the other juris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cess can be long, complicated, and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ten easier to enforce arbitration a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19AECEA0-CA5F-418A-AE60-427819B8DEC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f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defences may be raised to prevent enforcement of foreign judgments –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blem with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fferences in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rts in other jurisdictions are often more likely to enforce arbitration awa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F30EF3E8-3DFB-49E4-A942-D3AC7575785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 Treat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ada is party to many international treaties and conventions affecting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ational treaties encourage free trade  by reducing or eliminating tariffs and du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r business transactions affected by international treaties, professional advice is recomm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64C356C9-CBB3-4ADB-A50A-6E138A4D3DC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iness and the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et facilitates business, education, entertainment, and social inte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et business transactions usually involve third pa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eBay, PayPal, IS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rmal civil and criminal laws and regulations apply to online transactions and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78B7D6B5-1B91-4534-ABCF-5E34AD555E1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 Treati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ATT (General Agreement on Tariffs and Tr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greement to promote fair trade, encourage balanced competition and prohibit or control abusive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duced trade b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ried to balance trade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ried to prevent dum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161EEFFA-9B17-4711-9E00-2D9FF75CB95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 Treati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A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st favoured nation status” required members grant all other members lowest tariffs charged on similar goods from any 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quired imported goods from member nations be treated same as domestic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49F6178F-A5D0-40D5-AAD3-B23759366C8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 Treati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TO (World Trade Organiz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pands on GATT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cludes a dispute resolu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cludes services and intellectual property (as well as goo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w has 153 member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A7AC4107-78F6-4B68-8036-9263679E9D3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ental Treat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AFTA (North American Free Trade Agre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motes easier trade between Canada, the United States, and Me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pands on WTO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ost duties and tariffs reduced or elim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cludes environmental protection provisions,  labour standards, and dispute resolution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vement to include other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FD067298-2E60-45FA-96C6-40D4134E0FF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adian Regul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por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ada imposes few restrictions on 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trols relate mainly to security, money laundering, and tax avo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Export and Import Permits Act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allows federal government to restrict certain exports to specific nations (and require perm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F74D058F-6218-4CEA-9D52-69DD1EDA50D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adian Regulation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ther statutes regulate specific goods and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adian government provides support to exporters –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rade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port Development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545FAE05-CE2C-4690-8DB0-282216540F3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adian Regulation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mports to Canada regulated primarily through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Customs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adian Border Services Agency (CBSA) enforces reg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Special Import Measures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Excise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95A3675E-6ED7-4445-98CF-1CD0A13A0D6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adian Regulation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trictions on imports from certain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trictions on import of dangerous, hazardous, and environmentally sensitive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sinesses that import need to determine duties and permits required for specific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F5F2267A-B12A-4639-9513-F26700432D1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xtraterritorial Reac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me foreign governments attempt to apply their regulations beyond their b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U.S.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 Patriot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U.S. legislation designed to punish those from other countries doing business with Cu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adian retaliatory legislation generally ineffec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F4E4D15C-CBE0-4C58-BBFF-459ACD0D278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iness and the Interne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jor difficu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termining appropriate juris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ws in place are not readily adap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overnments have been reluctant to introduce regulation and control, but this is now chang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55157D72-6347-4902-84A0-65748D5CC31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ris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et does not recognize b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ard to determine which laws a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determine where action should be brou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gulations could limit freedom of expression, movement, or assoc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line transactions raise taxation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95988B7D-2834-42CE-8B13-375C655C53A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risdic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enerally, a particular location can exercise jurisdiction if defendant is a resident there or if action underlying the complaint took place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ong-arm statutes may allow jurisdiction even when no resident is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be sued where not even aware of the law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34A494F6-680D-4F83-B733-4C2BAFED3B0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risdic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etter approach: Allow judicial action only where there is a close connection between the jurisdiction and the act complained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help to state in contract which jurisdiction governs th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ine offer or service should state limitations of 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46363ACA-0D0E-4552-9749-B09ACB7D800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risdic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tario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onsumer Protection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provides rights for anyone located in the province at tim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reign judgments may be hard to enforce, but it’s dangerous to ignore them as judgments can be enforced in other juris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4:52:43Z</dcterms:created>
  <dc:creator>Client Name</dc:creator>
  <dc:description/>
  <dc:language>en-US</dc:language>
  <cp:lastModifiedBy>User</cp:lastModifiedBy>
  <dcterms:modified xsi:type="dcterms:W3CDTF">2012-04-24T16:52:20Z</dcterms:modified>
  <cp:revision>202</cp:revision>
  <dc:subject/>
  <dc:title>Slide 1</dc:title>
</cp:coreProperties>
</file>